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23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63F-28DA-4BDA-BCB1-291C5F60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03C-A323-456A-BDF5-0E070053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15A-4765-4214-A668-61B67121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24C-6742-49C2-B717-8129EF1F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2F8E-5480-46D2-9CD7-CC307928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389B-2521-401D-BDB3-B56DDD27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3DF0-E89E-4216-ACFA-6B3D26F1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04A9-7320-4251-848F-9CF4A00B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1A9D-0BB6-4A2C-916E-9DA9FDF3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CBC6-CFB6-4BB9-B5C1-CF07F68B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A05B-80A5-4595-80E3-DD79EB1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7A6-4894-4731-B281-2874FF38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1235-0355-40FE-B0AE-F92F4292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46AB-3471-4994-B61E-DF7FBFDD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F70C-C831-4976-8942-36CB9D3D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DCE3-6CFB-4880-91E6-A13C5F62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ADE1-1D94-4302-89D4-3E5EE655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E82D-F5D5-461F-ABCE-C940BFB2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393BD-CED6-4F88-B399-08653585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FBC3-E458-4239-A4FF-65543A9A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66B6-AC05-4DBE-A9EE-41C4D811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871C-EE15-4E67-95E9-C5D4C57A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410-C8A4-423B-8C80-0A097D2F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DE21-5AC9-4C39-B88E-DFB54DC2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B630-BC0F-40FA-AA7C-F5F3AB70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7E23-33FC-4CB8-87B8-7DD5F40F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0FE26-E76F-4FCA-8AC3-88CD7DD1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06C65-8CC2-41D9-95A4-AC033731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9620-EC23-4F4E-8CED-E7C6F9DD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8455-8F72-4E82-81A2-3DC13CE1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7F824-49CD-4574-A202-70EF6906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727A5-F13A-4DD6-BCAA-5A44054D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C66F5-58C9-41B7-9BA1-6DB6C9EB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28E-5399-4C64-8DDA-C06B3293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6A204-31DF-47DE-9772-0030C2C5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A4C3-C955-4C56-A32F-3018AD76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8FE4-66C9-4636-97A5-0D8CD50B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75CB-7618-4C0C-9BBE-C7B08983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0CB0-14C9-4C19-AB24-1C6CC7E7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6557-70B1-4957-93F3-A270AD1E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DB247-553A-4DAB-A7CD-A896724A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9F56-AA75-4E06-A25C-4E3ECC0E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DE4E7-4321-428F-A36B-8BCF3537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11D33-74F7-4A09-93C8-628D5155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DD2-01D9-4ABA-A1B3-9858E455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1C50E-F752-423F-A376-1683A883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2529D-DC78-4B86-ACE1-1880FD02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868AD-DD61-4587-B2B9-FFC8D78A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6934A-8222-4E80-B2CE-2952380D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6E100-984E-431A-A072-F67CC0E2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6DCE7-D536-4D03-9F6E-3A48438B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0ACE8-FB1B-49F1-9709-6008A0BA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C06CE-0C8B-4FA1-8CA6-E648566D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54082-D0C2-44B0-8516-8F1C94C1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11247-2379-4972-BA6C-C6F87FCF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310-270F-49B2-985D-60A4652A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1106-A5CC-4E4E-87FA-6DC0C715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F950E-16C0-4A44-9FC0-2580CCF9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CF6F7-33C5-4264-8B17-C443EED0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796C2-B227-421E-AEF9-7B5B3429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55955-0AB9-4F8B-BEDD-DCE1A8E2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FD56F-C19F-4E9E-87ED-E284E88C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695B4-0AED-45D4-B55B-2946F553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86BC7-9E3B-4141-8102-6B24AEF2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3A2CD-F336-4449-82E3-820E1E40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1D414-8AF8-4B7B-9D83-5AA797A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152-4289-4B14-A1DB-D30074E8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CA039-F835-4E14-8B33-8D27FEF1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CBC79-F5B1-4D59-88BD-442F26E4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18F8D-D14E-46E4-B59A-5A2B6AEF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9227D-595B-4C0F-8010-F006BDD5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895EF-ECA5-465A-ACE3-AF78BC93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B045D-8727-438F-9A56-5C061220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CC196-80F5-491F-9DA9-8C195553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0301E-6AE8-4E86-8EAB-E2116F0F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73483-403B-4732-8D82-464E5FBC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B5B29-050E-490B-A956-3F1214C7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CE8-9806-4584-9267-23A0BF3F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D29A0-F86C-4834-9027-C998CC11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E30BB-E49C-4997-AC89-1C66855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7BCB6-CCD7-47EA-B55D-161E93DD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88015-C056-4E0F-869A-897FDC6E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3459E-AB2B-452E-98FB-524F8984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B4567-9153-4D72-813D-8FEB007D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F720D-A557-43B7-84A1-4B1F5048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16343-EDF4-45BD-959B-A7E4DD90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873D4-DFFF-42C4-B69B-7343D30C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F9B68-95D3-4337-9A17-7F3A13AD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97D-2DF2-4C93-BC9E-17E0F8F1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9C721-43E3-492F-9584-0EA59252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A04B2-826E-445D-881C-523201CE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7CFFF-2BD8-4828-BD45-CB0FF6DB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7F2B0-3D8A-4853-BEAB-5A24A25D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5150-9A28-45A2-8DD7-8E437034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E7DB3-A802-4D25-A34B-FFF1E72B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54BFE-B298-45B9-98AB-B8A44411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E25C-9363-47A6-BC35-5ADDA76BA6D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4EF0-A3DA-403F-8B4A-12A35EBD84E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C796-D8C9-4AAE-944A-6952ADE773A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C688-E7C4-4DD1-8758-3A06524E54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CA1E-586A-4159-9708-C52509F9A16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D31A-552A-48D5-B864-C6E33A0A554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15D7-87E2-4E2E-A607-A14A5C5E156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CEA3-2DA5-4D5C-BDEB-EC1BEFAAC4F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mailto:bepvansloten@ziggo.nl" TargetMode="External"/><Relationship Id="rId3" Type="http://schemas.openxmlformats.org/officeDocument/2006/relationships/hyperlink" Target="http://www.bestcareforchildren.com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2058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464646"/>
                </a:solidFill>
                <a:latin typeface="Lucida Sans Unicode"/>
              </a:rPr>
              <a:t>Bep van Slot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464646"/>
                </a:solidFill>
                <a:latin typeface="Lucida Sans Unicode"/>
              </a:rPr>
              <a:t>Independent Consultant, The Netherland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464646"/>
                </a:solidFill>
                <a:latin typeface="Lucida Sans Unicode"/>
              </a:rPr>
              <a:t>6 December 2012; Pragu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52280" y="1262160"/>
            <a:ext cx="8564760" cy="2676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pagina 13 contact"/>
          <p:cNvPicPr/>
          <p:nvPr/>
        </p:nvPicPr>
        <p:blipFill>
          <a:blip r:embed="rId2"/>
          <a:stretch/>
        </p:blipFill>
        <p:spPr>
          <a:xfrm>
            <a:off x="5219640" y="4365720"/>
            <a:ext cx="3024360" cy="2011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pagina 2 voorpagina"/>
          <p:cNvPicPr/>
          <p:nvPr/>
        </p:nvPicPr>
        <p:blipFill>
          <a:blip r:embed="rId3"/>
          <a:stretch/>
        </p:blipFill>
        <p:spPr>
          <a:xfrm>
            <a:off x="826920" y="47628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394" name="Afbeelding 6" descr="girl.jpg"/>
          <p:cNvPicPr/>
          <p:nvPr/>
        </p:nvPicPr>
        <p:blipFill>
          <a:blip r:embed="rId4"/>
          <a:stretch/>
        </p:blipFill>
        <p:spPr>
          <a:xfrm>
            <a:off x="6516720" y="620640"/>
            <a:ext cx="1450800" cy="1941480"/>
          </a:xfrm>
          <a:prstGeom prst="rect">
            <a:avLst/>
          </a:prstGeom>
          <a:ln w="0">
            <a:noFill/>
          </a:ln>
        </p:spPr>
      </p:pic>
      <p:pic>
        <p:nvPicPr>
          <p:cNvPr id="395" name="Afbeelding 7" descr="boy.jpg"/>
          <p:cNvPicPr/>
          <p:nvPr/>
        </p:nvPicPr>
        <p:blipFill>
          <a:blip r:embed="rId5"/>
          <a:stretch/>
        </p:blipFill>
        <p:spPr>
          <a:xfrm>
            <a:off x="826920" y="3933720"/>
            <a:ext cx="201168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keep from failing or sinking; to assist; to encourage; to defend; to support the courage or spirits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ct of overseeing; inspection; oversight; superintendence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Rechthoek 3"/>
          <p:cNvSpPr/>
          <p:nvPr/>
        </p:nvSpPr>
        <p:spPr>
          <a:xfrm>
            <a:off x="1476360" y="436572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like watching where you are going while riding a bicycle; you can adjust as you go along and ensure that you are on the right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ract or Court Or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Care Pla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port Plans to famili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06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ining of Foster carers: Family history book: families describe their history and family situation and test of compet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tching based on family pro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amily support folder describing what they can expect from their foster care organisation; where to turn to for assistance; rights and responsibil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amily support plan based on competences family and needs for support with particular chi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act with social worker at least once in six weeks: phone, email, home vis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ideo interaction Support (VI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ervi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me visits and questionnaires to follow developments of child in the fami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up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Care Plan: aims of placement and objectives for suppor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-Box: information of the foster family, their home, animals, food, school et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fe books for each chi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meetings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upervi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meetings with child to discuss plac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hildren at the moment and first period in foster care are feeling al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ition and how this is done is extremely impor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uilding an emotional bonding with the new family is crucial for the development of the child in the long run and the success of the plac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paration of the placement cruc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tting up in the mor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o “calls” who?  How? (ie knocking on bedroom door; physically shaking)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en are beds made, who makes them? 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el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el 1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40132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620640"/>
            <a:ext cx="404028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sees whom off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do you say goodby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do you get the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4720" y="836640"/>
            <a:ext cx="40417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eat lunch togeth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Light snack or main mea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chooses the menu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makes school lunch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goes firs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use the bathroom individually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lock the doo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use bathrob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get dressed in the bathroom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insist on privacy when you use the toile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makes i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at’s on off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es your family all sit togeth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re do you ea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re you all washed and dress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71360" y="-6480"/>
            <a:ext cx="8979120" cy="3110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http://www.rtvoost.nl/images/T3/Origineel/43931.jpg"/>
          <p:cNvPicPr/>
          <p:nvPr/>
        </p:nvPicPr>
        <p:blipFill>
          <a:blip r:embed="rId2"/>
          <a:stretch/>
        </p:blipFill>
        <p:spPr>
          <a:xfrm>
            <a:off x="1979640" y="2276640"/>
            <a:ext cx="504972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304920" y="549360"/>
            <a:ext cx="8400960" cy="8715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much telly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chooses channe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Other activiti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have times set aside for chatting/discussion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mework routin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have supp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laying out – what age, whe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0" y="1444320"/>
            <a:ext cx="4176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do you say goodnigh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n and where do you undres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es your family use nightwear, pyjama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Bedtime drinks?  Stories/reading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leave lights o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Bedroom doors op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Titel 6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428" name="Afbeelding 8" descr="girl.jpg"/>
          <p:cNvPicPr/>
          <p:nvPr/>
        </p:nvPicPr>
        <p:blipFill>
          <a:blip r:embed="rId2"/>
          <a:stretch/>
        </p:blipFill>
        <p:spPr>
          <a:xfrm>
            <a:off x="2843280" y="1424160"/>
            <a:ext cx="35290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bepvansloten@ziggo.n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bestcareforchildren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ypes of foster care in The Netherla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hat do we want for our child when placed in foster car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port and supervision: the International Guidel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ools: Family Support Plans based on family mapping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Questions: whenever you have a question, ask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amily being the fundamental group of society and the natural environment for the growth, well-being and protection of children, efforts should primarily be directed to enabling the child to remain in or return to the care of his/her parents, or when appropriate, other close family members. The State should ensur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at families have access to forms of support in the caregiving ro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rom: Guidelines for the Alternative Care for Children (UN 2009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20. Special preparation, support and counselling services for foster carers should be developed and made available to carers at regular intervals, before, during and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ter the plac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21. Carers should have, within fostering agencies and other systems involved with children without parental care, the opportunity to make their voice heard and to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fluence poli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01600" y="60480"/>
            <a:ext cx="8491680" cy="14508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Around 20.000 placements a ye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Specialised foster care organisations (NGO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rained foster care work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rained kinship care work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Recruitment, assessment, support, supervision and evaluation of foster parents and children in foster ca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ontact with biological families and reunification services and suppor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xtended family first but not always the preferred option: depends on needs of chi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risis intervention: 6 weeks (2 x extension possible)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mporary Care: treatment and return home or to other permanent solution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ermanent Care: child stays with foster family until 18 +: permanent family member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spite care: weekend/ holiday foster c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692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 consent of parents/ caregiv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rphans (mainly kinship car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ducational or behavioural reasons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out consent of parents/ caregiv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buse and negl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Family viol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lcoholism, dru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</a:rPr>
              <a:t>Support and Supervi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</a:rPr>
              <a:t>Support and Supervi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ith cons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Foster Care Contract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are Plan Chi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Support Plan Fami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Foster Care Gra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ithout cons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Court Order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are Plan Chi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Support Plan Fami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Foster Care Gra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9:13:07Z</dcterms:created>
  <dc:creator>Bep van Sloten</dc:creator>
  <dc:description/>
  <dc:language>en-US</dc:language>
  <cp:lastModifiedBy>Bep van Sloten</cp:lastModifiedBy>
  <dcterms:modified xsi:type="dcterms:W3CDTF">2012-12-03T13:51:45Z</dcterms:modified>
  <cp:revision>27</cp:revision>
  <dc:subject/>
  <dc:title>Dia 1</dc:title>
</cp:coreProperties>
</file>