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8.png" ContentType="image/png"/>
  <Override PartName="/ppt/media/image23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0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E14E-AFAE-4D3E-A613-AFB479821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31EE-4CDA-4A4B-8921-B337904F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D648-21A1-4F1A-999C-1D26CD6C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4DF2-335A-4576-B440-2E2C45A21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B884-A553-499C-9E40-DC267D699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D1B6-73A8-463E-82B3-F8601732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8984-48EA-40D6-9BAE-3CADB4F2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3A3D-C922-41AC-B8E5-0693F77E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77F8-B49E-45CA-B2A4-987633EC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DFE3-9AD7-4DF7-90C2-4E7D38CC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FA79-9120-4AA7-953D-D70B62A2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4FEB-B66A-49A2-B2C5-EA3461C5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4D19-6BFE-4A13-97D6-917CB4A1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F4B5-ACD2-4ADC-9842-91FAD2E8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8802-30CB-4CE5-9F57-3F03211E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36C6-D87C-4F89-A8E5-581808FF3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7CB4-E79B-4912-A28D-B43B9BAC9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6D1E6-1CF3-4FE6-9F65-7A8044B55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ECD27-1FA0-405A-9137-4AD1F9DE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3453F-C3BA-4C07-9B34-ADA59E30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84EF8-F982-4B70-B2F7-290D536D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34F5A-BF90-4DFD-AFBF-942EA88B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700F-E8FC-4F2A-95CF-A3C4E5F5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50D73-3778-43DC-9942-D5DDCB18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D5138-9A2B-4B63-9456-E0BAE601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8BFA1-734B-49F8-AF8F-60232B17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E3EC8-BAB0-486A-84CF-3B57FAC4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DAC97-F776-4487-BC60-7360C2EE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FEBDB-47CB-48F6-8A72-3519EFF3D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5B75D-129F-4840-8445-48398C08D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34BF9-93CB-4F00-9721-38B58F4E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685DA-1A37-4186-9984-D54FFC07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10200-78D7-40C3-A7A9-BF45B804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2220-52CD-42F8-BE9F-206C9B04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DBFA7-8259-4BF1-A13E-BA5EC420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01CAB-5BA2-49A5-933A-CE7C8CC5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8857E-E028-4498-A75D-DE4D3367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FF858-137E-4DEB-94EF-C1E3D022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80EC5-6CB1-4DE1-A4C4-0BAD9A2A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AE3E3-79E3-4CE9-8543-DD87CA07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F6D3F-0210-451D-B0D6-CD639B95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7B384-7951-4E13-8149-B0C88F073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69BE4-B739-4A18-A789-D8C571C4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869BA-273C-48B2-B72E-66BA4A70C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3BFA-F26B-44EA-95EC-D8A0BAC2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CD258-ACE8-4946-9064-00D2F372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A4002-034B-4BFB-92EF-AC471B98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DD48A-BF8C-4CA1-8490-60CED42C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80C8E-7BC4-43A7-866E-F8350FCB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57E07-4C94-42DC-BF12-552DFFEE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0C857-7B75-457B-8A61-0D4AA31E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0B21E-DBE2-40F1-B8F9-3479B84B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3C2F0-28D5-4920-9C2F-D7CE92F8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410C6-D354-4DD3-B669-7136CE5D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7E3CF-8018-4465-B424-07AF01EFB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130C-7A5E-4AA9-9BFC-DC0E853E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910F1-B7F6-4ECA-A697-0D6DD8918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A4435-6F89-43D4-8795-CFE3BFE47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A1D47-4F32-407C-9E87-92BCCB9F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FD09C-8BC2-42CF-8516-DD0F38FE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FBCB3-8F6F-41E9-A919-7C362D95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E2802-6BD0-44CD-B76A-5DEE04FF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2E8F2-2770-4F91-B1D1-38BC2D67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CC5A1-0247-4C9E-9AD2-05E94B81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EF5D7-1982-4437-9676-C0622E12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C6AAA-466E-432C-AFF2-11C53BA1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6169-364B-4F63-97C4-1A46A1A9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6B1B4-2FEB-4760-950F-8BCD996E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0B929-A071-4EDE-874A-CDF769704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52AC4-ABC3-4667-BBB7-C069D7B4F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61E1A-CEBC-4F23-A72D-27E134EFF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7BAC2-11FF-4A96-9F7D-AE2DD342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DA7DD-9257-4E5C-B62A-31BF5EFF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C6E1A-74B4-4D60-94AB-573688CA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65F91-D7A0-4427-B561-05B50426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3D1C6-3E15-45F5-A405-2229CA1A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4C45D-BB68-4FB7-931D-629426E6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113A-04A4-4CB6-AC0F-F27C94D0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25D1C-2C80-41F2-BD10-080D207E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75EB5-87AD-40F1-95D8-AC86D2E7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B6A17-A091-448C-A875-F57A0360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3391F-C6A3-46AC-A9F6-BBC0BB462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9A253-5639-4426-9F5B-005CB9B7E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DCFE4-ADCB-47E9-9701-008302A5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73AF3-37B1-4931-BF4D-52080023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2C67D-9C9B-4C17-BF65-5D432585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F5E87-380C-4A77-9ADF-4ACDF74A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E99F1-B5B7-47B5-962E-2C28A924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6FC8-85C4-4E8A-9F96-7B0E4D9D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8E112-B550-4836-B2A9-D1F266C1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8BE8B-8522-49DD-B619-80DA8B84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E2BCD-F0BB-4654-94B6-0D9FF8EC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44DA7-B592-4F94-B820-1A245BD5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30481-BCC0-4DE4-90E8-A8675490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72D85-690E-4405-A4E3-62AB3473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FBD32-2A1F-4697-9175-D9FB58362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88C5-3FAB-4F0E-9551-C35682C6FB1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Vrije v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2DDD-DB28-4FAE-B590-F837D18A2C13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40ED-FABA-48CC-8B4F-721405ACB0C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397D-C405-4AFA-AA1E-E0C62C15A4E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4BAA-9AB1-4B70-B504-D26EA821DEC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9DA2-246D-4DDE-8566-1975C1275D9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B96F-FAC0-4301-A592-1D1E19775FD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echthoekige driehoek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DDC0-7388-47B0-8A62-C0C03C11AC39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hyperlink" Target="mailto:bepvansloten@ziggo.nl" TargetMode="External"/><Relationship Id="rId3" Type="http://schemas.openxmlformats.org/officeDocument/2006/relationships/hyperlink" Target="http://www.bestcareforchildren.com/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2560" y="1384200"/>
            <a:ext cx="8205840" cy="2212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464646"/>
                </a:solidFill>
                <a:latin typeface="Lucida Sans Unicode"/>
              </a:rPr>
              <a:t>Bep van Slote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464646"/>
                </a:solidFill>
                <a:latin typeface="Lucida Sans Unicode"/>
              </a:rPr>
              <a:t>Independent Consultant, The Netherland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464646"/>
                </a:solidFill>
                <a:latin typeface="Lucida Sans Unicode"/>
              </a:rPr>
              <a:t>6 December 2012; Pragu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152280" y="1262160"/>
            <a:ext cx="8564760" cy="26766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pagina 13 contact"/>
          <p:cNvPicPr/>
          <p:nvPr/>
        </p:nvPicPr>
        <p:blipFill>
          <a:blip r:embed="rId2"/>
          <a:stretch/>
        </p:blipFill>
        <p:spPr>
          <a:xfrm>
            <a:off x="5219640" y="4365720"/>
            <a:ext cx="3024360" cy="20113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pagina 2 voorpagina"/>
          <p:cNvPicPr/>
          <p:nvPr/>
        </p:nvPicPr>
        <p:blipFill>
          <a:blip r:embed="rId3"/>
          <a:stretch/>
        </p:blipFill>
        <p:spPr>
          <a:xfrm>
            <a:off x="826920" y="47628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394" name="Afbeelding 6" descr="girl.jpg"/>
          <p:cNvPicPr/>
          <p:nvPr/>
        </p:nvPicPr>
        <p:blipFill>
          <a:blip r:embed="rId4"/>
          <a:stretch/>
        </p:blipFill>
        <p:spPr>
          <a:xfrm>
            <a:off x="6516720" y="620640"/>
            <a:ext cx="1450800" cy="1941480"/>
          </a:xfrm>
          <a:prstGeom prst="rect">
            <a:avLst/>
          </a:prstGeom>
          <a:ln w="0">
            <a:noFill/>
          </a:ln>
        </p:spPr>
      </p:pic>
      <p:pic>
        <p:nvPicPr>
          <p:cNvPr id="395" name="Afbeelding 7" descr="boy.jpg"/>
          <p:cNvPicPr/>
          <p:nvPr/>
        </p:nvPicPr>
        <p:blipFill>
          <a:blip r:embed="rId5"/>
          <a:stretch/>
        </p:blipFill>
        <p:spPr>
          <a:xfrm>
            <a:off x="826920" y="3933720"/>
            <a:ext cx="2011680" cy="26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keep from failing or sinking; to assist; to encourage; to defend; to support the courage or spirits.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act of overseeing; inspection; oversight; superintendence.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8" name="Rechthoek 3"/>
          <p:cNvSpPr/>
          <p:nvPr/>
        </p:nvSpPr>
        <p:spPr>
          <a:xfrm>
            <a:off x="1476360" y="4365720"/>
            <a:ext cx="66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like watching where you are going while riding a bicycle; you can adjust as you go along and ensure that you are on the right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Contract or Court Ord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dividual Care Pla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upport Plans to familie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068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raining of Foster carers: Family history book: families describe their history and family situation and test of competen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atching based on family profi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Family support folder describing what they can expect from their foster care organisation; where to turn to for assistance; rights and responsibilit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Family support plan based on competences family and needs for support with particular chil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el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uppo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Contact with social worker at least once in six weeks: phone, email, home visi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ideo interaction Support (VIB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upervis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me visits and questionnaires to follow developments of child in the famil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2679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Suppo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dividual Care Plan: aims of placement and objectives for suppor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-Box: information of the foster family, their home, animals, food, school et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ife books for each chil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dividual meetings</a:t>
            </a:r>
            <a:br>
              <a:rPr sz="2700"/>
            </a:b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Supervis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dividual meetings with child to discuss placeme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Children at the moment and first period in foster care are feeling alo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ransition and how this is done is extremely importa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uilding an emotional bonding with the new family is crucial for the development of the child in the long run and the success of the place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eparation of the placement cruci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Getting up in the mor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ho “calls” who?  How? (ie knocking on bedroom door; physically shaking)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hen are beds made, who makes them? 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Titel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el 1" descr=""/>
          <p:cNvPicPr/>
          <p:nvPr/>
        </p:nvPicPr>
        <p:blipFill>
          <a:blip r:embed="rId1"/>
          <a:stretch/>
        </p:blipFill>
        <p:spPr>
          <a:xfrm>
            <a:off x="291960" y="268200"/>
            <a:ext cx="8401320" cy="100656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620640"/>
            <a:ext cx="404028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ho sees whom off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How do you say goodbye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How do you get there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644720" y="836640"/>
            <a:ext cx="4041720" cy="45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Do you eat lunch together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here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Light snack or main meal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ho chooses the menu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ho makes school lunche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27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ho goes first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Do you use the bathroom individually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Do you lock the door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Do you use bathrobe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Do you get dressed in the bathroom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Do you insist on privacy when you use the toilet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ho makes it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hat’s on offer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Does your family all sit together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here do you eat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Are you all washed and dressed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171360" y="-6480"/>
            <a:ext cx="8979120" cy="31100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http://www.rtvoost.nl/images/T3/Origineel/43931.jpg"/>
          <p:cNvPicPr/>
          <p:nvPr/>
        </p:nvPicPr>
        <p:blipFill>
          <a:blip r:embed="rId2"/>
          <a:stretch/>
        </p:blipFill>
        <p:spPr>
          <a:xfrm>
            <a:off x="1979640" y="2276640"/>
            <a:ext cx="5049720" cy="42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el 1" descr=""/>
          <p:cNvPicPr/>
          <p:nvPr/>
        </p:nvPicPr>
        <p:blipFill>
          <a:blip r:embed="rId1"/>
          <a:stretch/>
        </p:blipFill>
        <p:spPr>
          <a:xfrm>
            <a:off x="304920" y="549360"/>
            <a:ext cx="8400960" cy="87156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How much telly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ho chooses channel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Other activitie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Do you have times set aside for chatting/discussion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Homework routine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Do you have supper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Playing out – what age, where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72000" y="1444320"/>
            <a:ext cx="4176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How do you say goodnight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hen and where do you undres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Does your family use nightwear, pyjama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Bedtime drinks?  Stories/reading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Do you leave lights on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Bedroom doors open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Titel 6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pic>
        <p:nvPicPr>
          <p:cNvPr id="428" name="Afbeelding 8" descr="girl.jpg"/>
          <p:cNvPicPr/>
          <p:nvPr/>
        </p:nvPicPr>
        <p:blipFill>
          <a:blip r:embed="rId2"/>
          <a:stretch/>
        </p:blipFill>
        <p:spPr>
          <a:xfrm>
            <a:off x="2843280" y="1424160"/>
            <a:ext cx="3529080" cy="47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Titel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bepvansloten@ziggo.n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www.bestcareforchildren.c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ypes of foster care in The Netherlan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hat do we want for our child when placed in foster car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upport and supervision: the International Guidelin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ools: Family Support Plans based on family mapping</a:t>
            </a:r>
            <a:br>
              <a:rPr sz="2700"/>
            </a:b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Questions: whenever you have a question, ask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el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family being the fundamental group of society and the natural environment for the growth, well-being and protection of children, efforts should primarily be directed to enabling the child to remain in or return to the care of his/her parents, or when appropriate, other close family members. The State should ensur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hat families have access to forms of support in the caregiving rol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From: Guidelines for the Alternative Care for Children (UN 2009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20. Special preparation, support and counselling services for foster carers should be developed and made available to carers at regular intervals, before, during and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fter the placeme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21. Carers should have, within fostering agencies and other systems involved with children without parental care, the opportunity to make their voice heard and to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fluence polic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201600" y="60480"/>
            <a:ext cx="8491680" cy="145080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Around 20.000 placements a yea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Specialised foster care organisations (NGO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Trained foster care worke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Trained kinship care worke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Recruitment, assessment, support, supervision and evaluation of foster parents and children in foster car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Contact with biological families and reunification services and suppor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Extended family first but not always the preferred option: depends on needs of chil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Crisis intervention: 6 weeks (2 x extension possible)</a:t>
            </a:r>
            <a:br>
              <a:rPr sz="2700"/>
            </a:b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mporary Care: treatment and return home or to other permanent solution</a:t>
            </a:r>
            <a:br>
              <a:rPr sz="2700"/>
            </a:b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ermanent Care: child stays with foster family until 18 +: permanent family member</a:t>
            </a:r>
            <a:br>
              <a:rPr sz="2700"/>
            </a:b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spite care: weekend/ holiday foster ca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656920" cy="11588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ith consent of parents/ caregiv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Orphans (mainly kinship care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Educational or behavioural reasons</a:t>
            </a:r>
            <a:br>
              <a:rPr sz="2300"/>
            </a:b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ithout consent of parents/ caregiv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buse and neglec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Family violen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lcoholism, drug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etc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Rectang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272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 Unicode"/>
              </a:rPr>
              <a:t>Support and Supervis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 Unicode"/>
              </a:rPr>
              <a:t>Support and Supervis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ith consen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Foster Care Contract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Care Plan Chil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Support Plan Family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Foster Care Gra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ithout consen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Court Order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Care Plan Chil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Support Plan Family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Foster Care Gra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09:13:07Z</dcterms:created>
  <dc:creator>Bep van Sloten</dc:creator>
  <dc:description/>
  <dc:language>en-US</dc:language>
  <cp:lastModifiedBy>Bep van Sloten</cp:lastModifiedBy>
  <dcterms:modified xsi:type="dcterms:W3CDTF">2012-12-03T13:51:45Z</dcterms:modified>
  <cp:revision>27</cp:revision>
  <dc:subject/>
  <dc:title>Dia 1</dc:title>
</cp:coreProperties>
</file>