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D19E-1023-470C-AF48-E530CA9EC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45D3-00FC-4134-942C-114D12EE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C68F-458C-4B4C-BF10-7A23FDEA2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F21F-8E15-4D07-9A13-E9726B8AB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C92C-5BBF-48D8-B811-6EB69AFD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32BB-4198-4211-B2FB-B1116AE8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7942-F398-454E-AD61-A3BBBC8F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503E-D800-4F83-A1EF-DFB136D8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1854-F40E-4F99-BDA7-44E94B79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487A-AB85-445F-9C4E-B45A6E98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6221-4FDE-427C-85F2-99AE180A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CE8D-CAB1-4985-9DBC-5FB97831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9DAC-281E-4AFA-B38D-0A22413D4CD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</a:rPr>
              <a:t>Ministerstvo práce a sociálních věc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alibri"/>
              </a:rPr>
              <a:t>Praha, Emauzské opatství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alibri"/>
              </a:rPr>
              <a:t>4. listopadu 201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Calibri"/>
              </a:rPr>
              <a:t>Konference k 25. výročí přijetí Úmluvy o právech dítě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</a:rPr>
              <a:t>Několik dat z histor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</a:rPr>
              <a:t>Mapování segregace v systému základního školstv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</a:rPr>
              <a:t>Vývoj sběru statistických dat o nerovnostech v přístupu ke vzdělá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</a:rPr>
              <a:t>Dokumenty a iniciativ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</a:rPr>
              <a:t>Hledání postupů k dosažení rovného přístupu ke vzděl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Calibri"/>
              </a:rPr>
              <a:t>Obsah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1999: romské dítě v Ostravě má 27 krát větší statistickou šanci být umístěno ve zvláštní škole, než dítě neromské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2006: Velký senát ESLP rozhodl ve věci D.H. a ostatní v. Česká republika, že romské děti byly v systému speciálního školství vystaveny faktické rasové segregaci a diskriminac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2008: MŠMT zvolilo jako východisko k odstranění problému rozvoj programu inkluzivního vzdělává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2009:  Byl předložen Návrh koncepce včasné péče o děti ze sociálně znevýhodňujícího prostředí a měla být zahájena příprava Národního akčního plánu inkluzivního vzdělávání (NAPIV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Po nástupu vlády po volbách v roce 2009 byly práce na koncepci postupně zastaven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2011 - 2014: v konfrontaci s kritikou mezinárodních organizací a růstem extremismu MŠMT křísí Národní akční plán - s rozpačitými výsledk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Calibri"/>
              </a:rPr>
              <a:t>Několik dat z histor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2008 - 2009: Analýza společností Gabal Analysis and Consulting (GAC) a Člověk v tísni, o.p.s.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Příčinou segregace ve školství je komplex společenských problémů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vzdělávací systém v ČR se vyznačuje výrazným sklonem vyřazovat děti se speciálními vzdělávacími potřebami z hlavního vzdělávacího proudu do specializovaných forem vzdělávání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Skoro třetina romských dětí je zařazena do formy vzdělávání mimo hlavní vzdělávací proud – jen 72% romských dětí navštěvuje základní školu, v porovnání s 92% dětí z majorit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Vyšší zastoupení dětí ze sociálně znevýhodněného prostředí v rámci jedné školy klade vyšší nároky na individuální přístup a snižující se výkonnost romských dětí na II. stupni negativně ovlivňuje jejich vzdělanostní šance na dalších stupních ško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Segregační procesy na školách mají do značné míry spontánní průbě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Calibri"/>
              </a:rPr>
              <a:t>Mapování segregace v systému základního školstv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Jedna z prvních oblastí, kde státní instituce zahájily sběr anonymizovaných etnických dat, je sféra vzdělávání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Šetření České školní inspekce: 2010, 2012: zjištěno i nesprávné zařazování dětí do školních programů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Šetření Veřejného ochránce práv (VOP): 2011/2012. Zjištěno 35% zastoupení romských dětí vzdělávaných podle redukovaných školních osn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Veřejný ochránce práv: třetinové zastoupení romských dětí ve skupině dětí s diagnózou mentálního postižení je diskriminac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Calibri"/>
              </a:rPr>
              <a:t>Sběr statistických d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</a:rPr>
              <a:t>Doporučení Výboru pro práva dítě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</a:rPr>
              <a:t>Rozhodnutí Výboru ministrů Rady Evropy v rámci dohledu nad výkonem rozsudku ve věci D.H. a ostatní v. Česká republ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</a:rPr>
              <a:t>Stanovisko Veřejného ochránce práv k plnění plánu opatření k výkonu rozhodnutí ESLP ve věci D.H. a ostatní v. Česká republika „Rovné příležitosti“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Calibri"/>
              </a:rPr>
              <a:t>Současné dokumenty a iniciativ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Soustředit se při diagnostice na stupeň a rozsah potřebné podpory a návrh podpůrných opatření dětí na jejich domovských školách, ne na jejich „rozdělování“ na postižené, zdravotně znevýhodněné a sociálně znevýhodněné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Zpracovat jasnou koncepci diagnotistiky a ujasnit si potřeby dětí ze sociálně znevýhodněného prostředí, a nezacházet s nimi jako s mentálně postiženým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Preferovat model začlenění dětí s handicapem a se zvláštními vzdělávacími potřebami do běžných základních šk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Motivovat školy k maximální snaze o začlenění všech dětí do hlavního vzdělávacího proud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Calibri"/>
              </a:rPr>
              <a:t>Hledání postupů k dosažení rovného přístupu ke vzděl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Pavla Boučkov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bouckovapavla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@seznam.c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+420 777 218 56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Calibri"/>
              </a:rPr>
              <a:t>Kontak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12:16:53Z</dcterms:created>
  <dc:creator>Pafla</dc:creator>
  <dc:description/>
  <dc:language>en-US</dc:language>
  <cp:lastModifiedBy>Pavla Boučková</cp:lastModifiedBy>
  <dcterms:modified xsi:type="dcterms:W3CDTF">2014-11-03T08:04:52Z</dcterms:modified>
  <cp:revision>78</cp:revision>
  <dc:subject/>
  <dc:title>Snímek 1</dc:title>
</cp:coreProperties>
</file>