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C91-5589-4D41-98CF-3F16D0A9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DF7-E2FD-4783-9D2A-D383161B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588-24F1-4FC6-8304-280EF2B3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095-E7BC-4D6F-9661-DC8787C1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51C-1984-4D0F-B240-0E08E93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8CE-24DF-4812-AB6D-A026B82C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EDF-A53E-4958-83B7-DCB47F5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BF2-422A-4FB4-AC41-6E11A252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001-6152-4FA5-A82D-2F755C68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8DC-75FA-44DF-80D5-4FA9016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82E-FDC9-496C-948F-78DAFE5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8FE-7618-4259-9F39-B0CF383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D8A7-531B-48AC-8A4F-78067F98C8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Ministerstvo práce a sociálních vě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alibri"/>
              </a:rPr>
              <a:t>Praha, Emauzské opatství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alibri"/>
              </a:rPr>
              <a:t>4. listopadu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Konference k 25. výročí přijetí Úmluvy o právech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Několik dat z histo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Mapování segregace v systému základního škol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Vývoj sběru statistických dat o nerovnostech v přístupu ke 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Dokumenty a iniciati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Hledání postupů k dosažení rovného přístupu ke vzdě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Obsa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1999: romské dítě v Ostravě má 27 krát větší statistickou šanci být umístěno ve zvláštní škole, než dítě neromsk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6: Velký senát ESLP rozhodl ve věci D.H. a ostatní v. Česká republika, že romské děti byly v systému speciálního školství vystaveny faktické rasové segregaci a diskrimina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8: MŠMT zvolilo jako východisko k odstranění problému rozvoj programu inkluzivního vzdělává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09:  Byl předložen Návrh koncepce včasné péče o děti ze sociálně znevýhodňujícího prostředí a měla být zahájena příprava Národního akčního plánu inkluzivního vzdělávání (NAPIV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o nástupu vlády po volbách v roce 2009 byly práce na koncepci postupně zastave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2011 - 2014: v konfrontaci s kritikou mezinárodních organizací a růstem extremismu MŠMT křísí Národní akční plán - s rozpačitými výsledk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Několik dat z 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2008 - 2009: Analýza společností Gabal Analysis and Consulting (GAC) a Člověk v tísni, o.p.s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říčinou segregace ve školství je komplex společenských problémů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vzdělávací systém v ČR se vyznačuje výrazným sklonem vyřazovat děti se speciálními vzdělávacími potřebami z hlavního vzdělávacího proudu do specializovaných forem vzdělává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koro třetina romských dětí je zařazena do formy vzdělávání mimo hlavní vzdělávací proud – jen 72% romských dětí navštěvuje základní školu, v porovnání s 92% dětí z majo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Vyšší zastoupení dětí ze sociálně znevýhodněného prostředí v rámci jedné školy klade vyšší nároky na individuální přístup a snižující se výkonnost romských dětí na II. stupni negativně ovlivňuje jejich vzdělanostní šance na dalších stupních šk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egregační procesy na školách mají do značné míry spontánní průbě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Mapování segregace v systému základního škol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Jedna z prvních oblastí, kde státní instituce zahájily sběr anonymizovaných etnických dat, je sféra vzdělává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Šetření České školní inspekce: 2010, 2012: zjištěno i nesprávné zařazování dětí do školních program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Šetření Veřejného ochránce práv (VOP): 2011/2012. Zjištěno 35% zastoupení romských dětí vzdělávaných podle redukovaných školních osn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eřejný ochránce práv: třetinové zastoupení romských dětí ve skupině dětí s diagnózou mentálního postižení je diskrimin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Sběr statistických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Doporučení Výboru pro práva dítě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Rozhodnutí Výboru ministrů Rady Evropy v rámci dohledu nad výkonem rozsudku ve věci D.H. a ostatní v. Česká repub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Stanovisko Veřejného ochránce práv k plnění plánu opatření k výkonu rozhodnutí ESLP ve věci D.H. a ostatní v. Česká republika „Rovné příležitosti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Současné dokumenty a iniciati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oustředit se při diagnostice na stupeň a rozsah potřebné podpory a návrh podpůrných opatření dětí na jejich domovských školách, ne na jejich „rozdělování“ na postižené, zdravotně znevýhodněné a sociálně znevýhodněné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pracovat jasnou koncepci diagnotistiky a ujasnit si potřeby dětí ze sociálně znevýhodněného prostředí, a nezacházet s nimi jako s mentálně postižený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referovat model začlenění dětí s handicapem a se zvláštními vzdělávacími potřebami do běžných základních šk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tivovat školy k maximální snaze o začlenění všech dětí do hlavního vzdělávacího prou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Hledání postupů k dosažení rovného přístupu ke vzděl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avla Bouč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bouckovapavl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@sezna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+420 777 218 5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alibri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2:16:53Z</dcterms:created>
  <dc:creator>Pafla</dc:creator>
  <dc:description/>
  <dc:language>en-US</dc:language>
  <cp:lastModifiedBy>Pavla Boučková</cp:lastModifiedBy>
  <dcterms:modified xsi:type="dcterms:W3CDTF">2014-11-03T08:04:52Z</dcterms:modified>
  <cp:revision>78</cp:revision>
  <dc:subject/>
  <dc:title>Snímek 1</dc:title>
</cp:coreProperties>
</file>