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B78-14E0-465A-A596-D7A70843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FF3-F0A5-4CC4-9F94-D9C2C78E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0C3-29CE-4693-866D-CBD6A121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731-518D-4E3B-ACE2-4A7AC16C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4A2-9296-43A5-B3C6-336C9A57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5DD-BA98-4F00-86B7-8997B6CC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4B6-25A3-404E-8BFD-F1A41E60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4D5-5DA5-49EC-9BA5-0DE539A0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C29-633B-44DE-98E2-EFC2AB62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9AF-4DF2-4C7F-B926-D803AA48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A95-C89B-4D62-A5A2-E565EEC0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CC1-178C-47AC-B2EE-60F1C45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216C-A534-4110-9581-EEECFAAF6F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justice.cz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oks.google.cz/books?id=VYB3mqdTv3sC&amp;printsec=frontcover&amp;source=gbs_ge_summary_r&amp;cad=0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books.google.cz/books?id=NvH8AwAAQBAJ&amp;printsec=frontcover&amp;source=gbs_ge_summary_r&amp;cad=0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db021"/>
                </a:solidFill>
                <a:latin typeface="Calibri"/>
              </a:rPr>
              <a:t>Právo na respektování rodinného života v judikatuře Evropského soudu pro lidská práva ve světle rozsudků proti České repub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edb021"/>
                </a:solidFill>
                <a:latin typeface="Calibri"/>
              </a:rPr>
              <a:t>Mgr. Eva Petrová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19280" y="2257560"/>
            <a:ext cx="5761080" cy="361944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1908000" y="607392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Calibri"/>
                <a:ea typeface="Arial"/>
              </a:rPr>
              <a:t>Ministerstvo práce a sociálních věc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Calibri"/>
                <a:ea typeface="Arial"/>
              </a:rPr>
              <a:t>v Praze dne 4. listopadu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Odebrání dítěte z péče rodič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citelný zás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dostatečně závažné důvo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ovinnost státu přijmout veškerá opatření za účelem sloučení rodi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Odebrání dítěte z péče rodič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" y="907920"/>
            <a:ext cx="925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Rozsud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T. proti České republice, č. 19315/11, rozsudek ze dne 17. července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nezletilého dítěte do péče Klokán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Havelka a ostatní proti České republice, č. 23499/06, rozsudek ze dne 21. června 200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do ústavní pé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Wallová a Walla proti České republice, č. 23848/04, rozsudek ze dne 26. října 200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do ústavní pé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Oznámená stížnost dosud nerozhodnut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Fuxová proti České republice, č. 74556/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do ústavní péče z důvodu absence rodného listu dítě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Mezinárodní únos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Macready proti České republice, č. 4824/06 a 15512/08, rozsudek ze dne 22.dubna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mezinárodní únos dítěte do České republi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plikace Haagské úmluvy o občanskoprávních aspektech mezinárodních únosů dět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jlepší zájem dítě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délka řízení o navrác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Internetové zdroje informac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chr.coe.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informační systém HUDO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Calibri"/>
              </a:rPr>
              <a:t>Na stránkách Ministerstva spravedlnosti </a:t>
            </a:r>
            <a:r>
              <a:rPr b="0" sz="2400" spc="-1" strike="noStrike">
                <a:solidFill>
                  <a:srgbClr val="ffff00"/>
                </a:solidFill>
                <a:latin typeface="Calibri"/>
              </a:rPr>
              <a:t>www.justice.cz </a:t>
            </a:r>
            <a:r>
              <a:rPr b="0" sz="2400" spc="-1" strike="noStrike">
                <a:solidFill>
                  <a:srgbClr val="ffffff"/>
                </a:solidFill>
                <a:latin typeface="Calibri"/>
              </a:rPr>
              <a:t>jsou pod záložkami </a:t>
            </a:r>
            <a:r>
              <a:rPr b="0" i="1" sz="2400" spc="-1" strike="noStrike">
                <a:solidFill>
                  <a:srgbClr val="ffffff"/>
                </a:solidFill>
                <a:latin typeface="Calibri"/>
              </a:rPr>
              <a:t>Mezinárodní agenda/ Zastupování státu před ESLP a VLP OSN/ Vybraná rozhodnutí ESLP</a:t>
            </a:r>
            <a:r>
              <a:rPr b="0" sz="2400" spc="-1" strike="noStrike">
                <a:solidFill>
                  <a:srgbClr val="ffffff"/>
                </a:solidFill>
                <a:latin typeface="Calibri"/>
              </a:rPr>
              <a:t> dostupné překlady rozsudků proti České republ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pecializovaná period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Zpravodaj Kanceláře vládního zmocněnce                                   pro zastupování České republiky před                                   Evropským soudem pro lidská práva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dostupné na</a:t>
            </a:r>
            <a:r>
              <a:rPr b="0" lang="cs-CZ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ustice.cz</a:t>
            </a:r>
            <a:r>
              <a:rPr b="0" lang="cs-CZ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v sekci Ministerstvo                              spravedlnosti/ Mezinárodní agenda/ Zastupování                                               státu před ESLP a VLP OS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řehled rozsudků Evropského soudu pro lidská práva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Wolters Kluwer Č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Sbírka soudních rozhodnutí a stanovisek: Výběr                             z rozhodnutí Evropského soudu pro lidská práva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Novatri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4" descr=""/>
          <p:cNvPicPr/>
          <p:nvPr/>
        </p:nvPicPr>
        <p:blipFill>
          <a:blip r:embed="rId2"/>
          <a:stretch/>
        </p:blipFill>
        <p:spPr>
          <a:xfrm>
            <a:off x="6372360" y="1268280"/>
            <a:ext cx="141912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Domácí odborn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412640"/>
            <a:ext cx="8578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Evropská úmluva o lidských právech</a:t>
            </a:r>
            <a:r>
              <a:rPr b="0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J. Kmec, D. Kosař, J. Kratochvíl, M. Bobek, nakl. C. H. Beck,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Evropská úmluva o ochraně lidských práv a základních svob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J. Čapek, nakl. LINDE PRAHA, a.s.,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Evropská úmluva o lidských právech a Česká republika                      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E. Hubálková,</a:t>
            </a:r>
            <a:r>
              <a:rPr b="0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nakl. Linde, 2003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rázek 6" descr=""/>
          <p:cNvPicPr/>
          <p:nvPr/>
        </p:nvPicPr>
        <p:blipFill>
          <a:blip r:embed="rId1"/>
          <a:stretch/>
        </p:blipFill>
        <p:spPr>
          <a:xfrm>
            <a:off x="7885080" y="1252440"/>
            <a:ext cx="1098720" cy="167184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7" descr=""/>
          <p:cNvPicPr/>
          <p:nvPr/>
        </p:nvPicPr>
        <p:blipFill>
          <a:blip r:embed="rId2"/>
          <a:stretch/>
        </p:blipFill>
        <p:spPr>
          <a:xfrm>
            <a:off x="7885080" y="3213000"/>
            <a:ext cx="109872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Obrázek 8" descr=""/>
          <p:cNvPicPr/>
          <p:nvPr/>
        </p:nvPicPr>
        <p:blipFill>
          <a:blip r:embed="rId3"/>
          <a:stretch/>
        </p:blipFill>
        <p:spPr>
          <a:xfrm>
            <a:off x="7885080" y="4797360"/>
            <a:ext cx="1117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Zahraniční odborn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1412640"/>
            <a:ext cx="70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Law of the European Convention on Human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D. J. Harris, M. O’Boyle, E. Bates, C. M. Buckley, 3. vyd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nakl. Oxford University Press, Oxford, 2014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spcAft>
                <a:spcPts val="601"/>
              </a:spcAft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A Practitioner’s Guide to the European Convention on Human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K. Reid, 4. vyd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Sweet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&amp; Maxwell, London, 2011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La Convention européenne des Droits de l’Homme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,                      L.-E. Pettiti, E. Decaux, P.-H. Imbert [(uspoř.), 2. vyd.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nakl. Economica, Paříž, 19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Obrázek 5" descr=""/>
          <p:cNvPicPr/>
          <p:nvPr/>
        </p:nvPicPr>
        <p:blipFill>
          <a:blip r:embed="rId1"/>
          <a:stretch/>
        </p:blipFill>
        <p:spPr>
          <a:xfrm>
            <a:off x="7577280" y="5064120"/>
            <a:ext cx="1218960" cy="177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Front Cov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7280" y="3078000"/>
            <a:ext cx="1228680" cy="1845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Front Cov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77280" y="1200240"/>
            <a:ext cx="1218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8000" y="1341360"/>
            <a:ext cx="8928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Ministerstvo spravedlnosti České republi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Kancelář vládního zmocně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Vyšehradská 16, 128 10 Praha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Calibri"/>
              </a:rPr>
              <a:t>             </a:t>
            </a:r>
            <a:r>
              <a:rPr b="0" i="1" lang="cs-CZ" sz="2800" spc="-1" strike="noStrike">
                <a:solidFill>
                  <a:srgbClr val="ffff00"/>
                </a:solidFill>
                <a:latin typeface="Calibri"/>
              </a:rPr>
              <a:t>Mgr. Eva Petr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tel.: +420 221 997 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e-mail: epetrova@msp.justice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Calibri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Kontak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Obrázek 2" descr=""/>
          <p:cNvPicPr/>
          <p:nvPr/>
        </p:nvPicPr>
        <p:blipFill>
          <a:blip r:embed="rId1"/>
          <a:stretch/>
        </p:blipFill>
        <p:spPr>
          <a:xfrm>
            <a:off x="5508720" y="2017800"/>
            <a:ext cx="36352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Obecně k právu na respektování rodinného 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Základní princi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ojem ro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Svěření dítěte do péče jednoho z rodičů a právo na styk s dítět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Odebrání dítěte z péče rodič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ezinárodní únos dítě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Obecně k právu na respektování rodinného živ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Právo na respektování soukromého a rodinného života (článek 8 Úmluv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Každý má právo na respektování svého soukromého a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rodinného života</a:t>
            </a: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, obydlí a koresponde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Státní orgán nemůže do výkonu tohoto práva zasahovat kromě případů, kdy je to v souladu se zákonem a nezbytné v demokratické společnosti v zájmu národní bezpečnosti, veřejné bezpečnosti, hospodářského blahobytu země, ochrany pořádku a předcházení zločinnosti, ochrany zdraví nebo morálky nebo ochrany práv a svobod jiný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Základní princip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Negativní závazky státu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zásah státu do rodinného živo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ásada legalit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v souladu s právním předpisem, dostupnost, předvídatel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ásada legitimity (čl. 8 odst. 2 Úmluv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národní bezpečnost, veřejná bezpečnost, hospodářský blahobyt země, předcházení nepokojům a zločinnosti, ochrana zdraví nebo morálky, ochrana práv a svobod jiný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ásada proporcion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nezbytnost zásahu v demokratické společ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ozitivní závazky státu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aktivní jednání státu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spravedlivá rovnováha mezi protichůdnými záj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prostor pro uváž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procedurální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Pojem rod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ředpoklad existence rodi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faktická existence blízkých osobních vaze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konkrétní okolnosti příp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ztahy mezi rodiči a dět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ní nutná existence manžel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ztahy mezi rodiči a dalšími příbuzný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</a:t>
            </a:r>
            <a:br>
              <a:rPr sz="4400"/>
            </a:b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 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citlivé právní sp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jlepší zájem dítěte – průběžné hodnoc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gativní postoj druhého rodi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syndrom zavrženého rodi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efektivní prosazení práva rodiče na styk s dítě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přiměřená délka 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úprava pouze předběžným opatřen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zákaz styku jako poslední řeš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</a:t>
            </a:r>
            <a:br>
              <a:rPr sz="4400"/>
            </a:b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 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Vybrané rozsud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Prodělalová proti České republice, č. 40094/08, rozsudek ze dne 20. prosince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Bergmann proti České republice, č. 8857/08, rozsudek ze dne 27. října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zitivní povinnosti státu – zachování rodinné vazby mezi rodičem a dítě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vinnost státních orgánů přijmout všechna opatření za účelem respektování rodičovských práv stěžova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lynutí času a pasivita státních orgán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Drenk proti České republice, č. 1071/12, rozsudek ze dne 4. září 2014 (rozsudek není konečný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vhodné chování stěžovatele otce k dítě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odmítání styku s otcem ze strany dítěte, zdravotní problémy dítě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 </a:t>
            </a:r>
            <a:br>
              <a:rPr sz="4400"/>
            </a:b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Další rozsud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Calibri"/>
              </a:rPr>
              <a:t>neporušení článku 8 Úmlu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Patera proti České republice, č. 25326/03, rozsudek ze dne 26. dub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Pedovič proti České republice, č. 27145/03, rozsudek ze dne 18. července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Maršálek proti České republice, č. 8153/04, rozsudek ze dne 4. dubna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Cambal proti České republice, č. 22771/04, rozsudek ze dne 21. února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Dostál proti České republice, č. 26739/04, rozsudek ze dne 21. února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Voleský proti České republice, č. 63627/00, rozsudek ze dne 29. června 20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 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Další rozsud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Calibri"/>
              </a:rPr>
              <a:t>porušení článku 8 Úmlu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Andělová proti České republice, č. 995/06, rozsudek ze dne 28. února 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Zavřel proti České republice, č. 14044/05, rozsudek ze dne 18. led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Kříž proti České republice, č. 26634/03, rozsudek ze dne 9. led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Mezl proti České republice, č. 27726/03, rozsudek ze dne 9. led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Fiala proti České republice, č. 26141/03, rozsudek ze dne 18. července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Reslová proti České republice, č. 7550/04, rozsudek ze dne 18. července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Oznámená stížnost dosud nerozhodnut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Štulíř a ostatní proti České republice, č. 24654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08:52:31Z</dcterms:created>
  <dc:creator/>
  <dc:description/>
  <dc:language>en-US</dc:language>
  <cp:lastModifiedBy>Petrová Eva Mgr.</cp:lastModifiedBy>
  <dcterms:modified xsi:type="dcterms:W3CDTF">2014-11-03T09:09:58Z</dcterms:modified>
  <cp:revision>227</cp:revision>
  <dc:subject/>
  <dc:title>Evropská úmluva o lidských právech a Evropský soud pro lidská práva</dc:title>
</cp:coreProperties>
</file>