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329-523D-4410-B859-3BE783D4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1F2-9C03-44EE-9F88-48EA683B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47C-C731-45C2-9E6D-66C706CB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BF8-4426-40C0-91D5-72E33F75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45B-F0CA-4014-8DF6-1524F338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0D2-6391-4AE0-A095-D899B42F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F33-CE82-4DB1-9CD0-398B777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6F2-E8FA-418D-A3F4-DA914A2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168-7F5A-4C7C-AF78-68F2E1EB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A40-8AE0-4D13-BD69-94F141B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9A1-6717-4E44-ADB6-CE20A77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2B2-DC55-4B91-B29A-943CA3BA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F96A-D8D2-4B62-B60A-56DB0546CD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justice.cz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oks.google.cz/books?id=VYB3mqdTv3sC&amp;printsec=frontcover&amp;source=gbs_ge_summary_r&amp;cad=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books.google.cz/books?id=NvH8AwAAQBAJ&amp;printsec=frontcover&amp;source=gbs_ge_summary_r&amp;cad=0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db021"/>
                </a:solidFill>
                <a:latin typeface="Calibri"/>
              </a:rPr>
              <a:t>Právo na respektování rodinného života v judikatuře Evropského soudu pro lidská práva ve světle rozsudků proti České repub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edb021"/>
                </a:solidFill>
                <a:latin typeface="Calibri"/>
              </a:rPr>
              <a:t>Mgr. Eva Petrov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19280" y="2257560"/>
            <a:ext cx="5761080" cy="361944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1908000" y="607392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Ministerstvo práce a sociálních věc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v Praze dne 4. listopadu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elný zá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dostatečně závažné důvo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vinnost státu přijmout veškerá opatření za účelem sloučení rod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" y="907920"/>
            <a:ext cx="925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Rozsu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T. proti České republice, č. 19315/11, rozsudek ze dne 17. červenc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nezletilého dítěte do péče Kloká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Havelka a ostatní proti České republice, č. 23499/06, rozsudek ze dne 21. června 200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Wallová a Walla proti České republice, č. 23848/04, rozsudek ze dne 26. října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Fuxová proti České republice, č. 74556/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 z důvodu absence rodného listu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Mezinárodní únos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Macready proti České republice, č. 4824/06 a 15512/08, rozsudek ze dne 22.dubna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mezinárodní únos dítěte do České republi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plikace Haagské úmluvy o občanskoprávních aspektech mezinárodních únosů dě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jlepší zájem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élka řízení o navrá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Internetové zdroje informa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chr.coe.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informační systém HUD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Na stránkách Ministerstva spravedlnosti 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www.justice.cz 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jsou pod záložkami </a:t>
            </a:r>
            <a:r>
              <a:rPr b="0" i="1" sz="2400" spc="-1" strike="noStrike">
                <a:solidFill>
                  <a:srgbClr val="ffffff"/>
                </a:solidFill>
                <a:latin typeface="Calibri"/>
              </a:rPr>
              <a:t>Mezinárodní agenda/ Zastupování státu před ESLP a VLP OSN/ Vybraná rozhodnutí ESLP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dostupné překlady rozsudků proti České repub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pecializovaná peri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pravodaj Kanceláře vládního zmocněnce                                   pro zastupování České republiky před                                   Evropským soudem pro lidská práva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dostupné na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ustice.cz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 sekci Ministerstvo                              spravedlnosti/ Mezinárodní agenda/ Zastupování                                               státu před ESLP a VLP OS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hled rozsudků Evropského soudu pro lidská práva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Wolters Kluwer Č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bírka soudních rozhodnutí a stanovisek: Výběr                             z rozhodnutí Evropského soudu pro lidská práva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Novatri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4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1419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Domác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412640"/>
            <a:ext cx="8578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Kmec, D. Kosař, J. Kratochvíl, M. Bobek, nakl. C. H. Beck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ochraně lidských práv a základních svob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Čapek, nakl. LINDE PRAHA, a.s.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 a Česká republika                     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E. Hubálková,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Linde, 200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6" descr=""/>
          <p:cNvPicPr/>
          <p:nvPr/>
        </p:nvPicPr>
        <p:blipFill>
          <a:blip r:embed="rId1"/>
          <a:stretch/>
        </p:blipFill>
        <p:spPr>
          <a:xfrm>
            <a:off x="7885080" y="1252440"/>
            <a:ext cx="1098720" cy="16718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7" descr=""/>
          <p:cNvPicPr/>
          <p:nvPr/>
        </p:nvPicPr>
        <p:blipFill>
          <a:blip r:embed="rId2"/>
          <a:stretch/>
        </p:blipFill>
        <p:spPr>
          <a:xfrm>
            <a:off x="7885080" y="3213000"/>
            <a:ext cx="10987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Obrázek 8" descr=""/>
          <p:cNvPicPr/>
          <p:nvPr/>
        </p:nvPicPr>
        <p:blipFill>
          <a:blip r:embed="rId3"/>
          <a:stretch/>
        </p:blipFill>
        <p:spPr>
          <a:xfrm>
            <a:off x="7885080" y="4797360"/>
            <a:ext cx="111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ahraničn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412640"/>
            <a:ext cx="70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w of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D. J. Harris, M. O’Boyle, E. Bates, C. M. Buckley, 3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Oxford University Press, Oxford, 20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A Practitioner’s Guide to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K. Reid, 4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Sweet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&amp; Maxwell, London, 2011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 Convention européenne des Droits de l’Homme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,                      L.-E. Pettiti, E. Decaux, P.-H. Imbert [(uspoř.), 2. vyd.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Economica, Paříž,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ek 5" descr=""/>
          <p:cNvPicPr/>
          <p:nvPr/>
        </p:nvPicPr>
        <p:blipFill>
          <a:blip r:embed="rId1"/>
          <a:stretch/>
        </p:blipFill>
        <p:spPr>
          <a:xfrm>
            <a:off x="7577280" y="5064120"/>
            <a:ext cx="1218960" cy="177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Front Cov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7280" y="3078000"/>
            <a:ext cx="1228680" cy="184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ront Cov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77280" y="1200240"/>
            <a:ext cx="121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Ministerstvo spravedlnosti České republ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Kancelář vládního zmocně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Vyšehradská 16, 128 10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Mgr. Eva Petr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tel.: +420 221 997 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e-mail: epetrova@msp.justice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Kontak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rázek 2" descr=""/>
          <p:cNvPicPr/>
          <p:nvPr/>
        </p:nvPicPr>
        <p:blipFill>
          <a:blip r:embed="rId1"/>
          <a:stretch/>
        </p:blipFill>
        <p:spPr>
          <a:xfrm>
            <a:off x="5508720" y="2017800"/>
            <a:ext cx="36352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becně k právu na respektování rodinného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ladní princi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jem r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věření dítěte do péče jednoho z rodičů a právo na styk s dítě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debrání dítěte z péče rodič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ezinárodní únos dítě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becně k právu na respektování rodinného živ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Právo na respektování soukromého a rodinného života (článek 8 Úmluv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Každý má právo na respektování svého soukromého a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rodinného života</a:t>
            </a: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, obydlí a koresponde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Státní orgán nemůže do výkonu tohoto práva zasahovat kromě případů, kdy je to v souladu se zákonem a nezbytné v demokratické společnosti v zájmu národní bezpečnosti, veřejné bezpečnosti, hospodářského blahobytu země, ochrany pořádku a předcházení zločinnosti, ochrany zdraví nebo morálky nebo ochrany práv a svobod jiný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ákladní princi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ega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zásah státu do rodinného živo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a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 souladu s právním předpisem, dostupnost, předvída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itimity (čl. 8 odst. 2 Úmluv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árodní bezpečnost, veřejná bezpečnost, hospodářský blahobyt země, předcházení nepokojům a zločinnosti, ochrana zdraví nebo morálky, ochrana práv a svobod jiný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proporc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ezbytnost zásahu v demokratické společ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zi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aktivní jednání stá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spravedlivá rovnováha mezi protichůdnými záj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stor pro uváž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cedurální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Pojem rod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ředpoklad existence r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faktická existence blízkých osobních vaz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konkrétní okolnosti příp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ět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ní nutná existence manžel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alšími příbuz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livé právní sp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jlepší zájem dítěte – průběžné hodnoc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gativní postoj druh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yndrom zavržen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efektivní prosazení práva rodiče na styk s dítě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přiměřená délka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úprava pouze předběžným opatře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az styku jako poslední ře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Vybrané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Prodělalová proti České republice, č. 40094/08, rozsudek ze dne 20. prosince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Bergmann proti České republice, č. 8857/08, rozsudek ze dne 27. říjn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zitivní povinnosti státu – zachování rodinné vazby mezi rodičem a dítě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vinnost státních orgánů přijmout všechna opatření za účelem respektování rodičovských práv stěžova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lynutí času a pasivita státních orgán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Drenk proti České republice, č. 1071/12, rozsudek ze dne 4. září 2014 (rozsudek není konečný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vhodné chování stěžovatele otce k dít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odmítání styku s otcem ze strany dítěte, zdravotní problémy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ne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atera proti České republice, č. 25326/03, rozsudek ze dne 26. dub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edovič proti České republice, č. 27145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aršálek proti České republice, č. 8153/04, rozsudek ze dne 4. dubn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Cambal proti České republice, č. 22771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Dostál proti České republice, č. 26739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oleský proti České republice, č. 63627/00, rozsudek ze dne 29. června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Andělová proti České republice, č. 995/06, rozsudek ze dne 28. února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Zavřel proti České republice, č. 14044/05, rozsudek ze dne 18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Kříž proti České republice, č. 26634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ezl proti České republice, č. 27726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Fiala proti České republice, č. 26141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Reslová proti České republice, č. 7550/04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Štulíř a ostatní proti České republice, č. 24654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8:52:31Z</dcterms:created>
  <dc:creator/>
  <dc:description/>
  <dc:language>en-US</dc:language>
  <cp:lastModifiedBy>Petrová Eva Mgr.</cp:lastModifiedBy>
  <dcterms:modified xsi:type="dcterms:W3CDTF">2014-11-03T09:09:58Z</dcterms:modified>
  <cp:revision>227</cp:revision>
  <dc:subject/>
  <dc:title>Evropská úmluva o lidských právech a Evropský soud pro lidská práva</dc:title>
</cp:coreProperties>
</file>