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12B5-F7FD-4D69-B67A-92CAF5E3BF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8B4F-DEC8-40F8-A57E-52BA09EBA7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ymbol zastępczy stopki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BM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ymbol zastępczy numeru slajd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15F7D1-0BAA-4E0E-AF12-C51C5657DD1D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29B0-2DB4-42B2-B4E6-6DDA7A52EB9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C3F0-09CC-4495-BB49-4C2F45774E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ymbol zastępczy stopki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BM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ymbol zastępczy numeru slajd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3C7100F-9E04-447E-A853-C8EE8FB8541B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57E7114-7F87-42E8-8259-9BAE125E764F}" type="slidenum">
              <a:rPr b="0" lang="pl-PL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D2D5-9251-4C2E-B743-57BBEC60DC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B42B-5A65-485F-8E00-14DB03D9E6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404F-3BBB-43BD-83F5-826BB48BB0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1A3A-819F-4E3A-9BE0-46FC238E95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178A-782E-42ED-AC54-1C8C07A99A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FB7B-E01F-43EA-926C-6721931FF6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CB3F-26B6-4414-BC6A-3378F2FC0CF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DE88-CFE8-4673-AB76-89347B6D6C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D4AD-47BA-4622-8DF9-CDBF3C8580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4D1B-5348-444D-BEEE-1E4B9CA2B4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8524-FF8E-4010-A59C-C3CB6C977B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2FBB-B22F-4139-A29F-9BDA207210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43E-94C9-4FCF-AA53-B48362EAE5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ymbol zastępczy stopki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IBM Confident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ymbol zastępczy numeru slajd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7C1FE7A-92B5-4961-AD26-20217A5DD9A6}" type="slidenum"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D6C4-634E-4BD3-A3AE-2CB7968590B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4EC6-59F2-4B9E-A842-E7F3C507CC5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FD00-F114-4151-98C3-BA64F684257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807-1135-43E6-A9D9-31322564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A79-1DF2-4E9D-B633-B72E7B9D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E22-6377-4A40-8244-8914BFEE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E0F-A744-4BCB-B821-257160CC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3D1F-C72C-4477-8B3F-7D3F2D48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04C7-89B8-41EA-8424-78C0204F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EBAB-89A4-407B-9027-33C76C38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2E40-C886-467B-81E2-351686C1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46FB-F04A-4E97-A8C7-FB99430A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628B-FA64-431B-8A55-BEB0D205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E252-02AE-4434-A6A1-143ADD4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9BE-37DB-42D5-A266-366C53C5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667A-75E4-4D10-B024-4627C2FA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8DEE-E2C4-4A61-995C-4FEFDC1E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E14F-7BCC-400C-BEC3-9B826628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F32F-6F11-4996-9039-55C81A346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96CA-4C99-43F1-BE9E-C687B228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119E4-F50F-4D68-BE1F-BAEAAF67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C778A-633D-498A-8471-3315D98A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443E0-E2DC-46C1-A4ED-1023D934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36EA-DBDD-4CE5-B884-9213F2F9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8D73F-CC16-444B-95BA-0B4A79EE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C7D-216D-457D-B11E-4A882600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99BC-547A-4E9A-A85B-B9EB5DA1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BBBE4-3706-4845-8C1B-34B132C1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C3C6-E005-49CF-AA6C-D528F00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1F59-947F-4C83-8B3D-27D7A267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094C7-E5F5-43D5-AAD6-875DC4F3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F04A-8460-4A27-861A-B3BBBAD0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CCEF-0F35-4C06-A900-9B9EDFC0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A087-BCE1-4897-ACC9-53E767A4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BB4A-1F10-4866-903F-723ADCB7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BEC4-A0E8-41C6-BAA8-C9B6BF7B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CAC-431C-47F3-BA33-7CD1F437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74DFA-2161-4AD3-8FAE-F9601BA0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8301-7962-4F3B-B701-FFFB416A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9C11-3696-4B59-8003-D9128C8D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7591B-EE1A-4D3C-91E9-C1E37A50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2DC20-5F12-4B77-A1A4-8E49771A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CE663-14A9-43DA-8188-7F6D5BC3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DFDD1-F53D-4FAB-84BF-E0BC1D2A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1EE9-B123-4E18-BFA3-45D05054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2E52-CEC4-439C-86CC-9051DF9B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BAF25-7325-46CE-BC95-29048A6E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CA4-D29B-4022-AF8C-033B17D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A1FFD-92C5-4D9E-9AC0-0EF932FF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7A239-B754-40F9-BBFB-ABEE7E53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2958-FE5F-4A35-9EF0-CBF27F57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95F43-FFD9-4B65-8410-5A9B6E7E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DDB57-9E62-42F2-BF9B-0D50C36D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8C0B3-BDC4-443E-BF3A-251D9CF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CB7AF-0686-4F3B-9B8B-FC1B2B1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8ECEB-2A89-4954-8448-3B61C625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4A0DA-4DEB-49BA-84CF-561F5306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765D-FAC7-4B5B-9019-3B0ABC23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882-7617-4BF3-B7BE-AEAA87D5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F84EE-D18D-4EC2-87C5-097DDCE6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FD7-9DBA-4462-A853-CE2FE9BC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A36-8308-4241-A497-793EA49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30F-8C7A-419F-BDC2-B77EADD3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7873-4788-451C-B29C-43977580D95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37BC-1DA9-4EDE-9EC6-3DFE4ADE6E6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BD78-F75B-4AD4-BCE1-D0202565CFD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A4C1-D9E0-4296-8681-2AE4CEBD6F0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6730-9F59-4632-86E0-C39DE0008C7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obryrodzic.fdn.pl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hyperlink" Target="http://www.fdn.pl/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renata.szredzinska@fdn.p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  <a:ea typeface="Calibri"/>
              </a:rPr>
              <a:t>Good Parent - Good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685800" y="4397400"/>
            <a:ext cx="2389320" cy="101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3405240" y="4276800"/>
            <a:ext cx="2333520" cy="1133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3"/>
          <a:stretch/>
        </p:blipFill>
        <p:spPr>
          <a:xfrm>
            <a:off x="5867280" y="4156200"/>
            <a:ext cx="2590920" cy="1493640"/>
          </a:xfrm>
          <a:prstGeom prst="rect">
            <a:avLst/>
          </a:prstGeom>
          <a:ln w="0">
            <a:noFill/>
          </a:ln>
        </p:spPr>
      </p:pic>
      <p:sp>
        <p:nvSpPr>
          <p:cNvPr id="330" name="pole tekstowe 1"/>
          <p:cNvSpPr/>
          <p:nvPr/>
        </p:nvSpPr>
        <p:spPr>
          <a:xfrm>
            <a:off x="900000" y="6165720"/>
            <a:ext cx="73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gue, 6-7 December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479840" y="2443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853920" y="157320"/>
            <a:ext cx="3070440" cy="5349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  <a:ea typeface="Calibri"/>
              </a:rPr>
              <a:t>A woman with a small child/in pregnancy reports to an examination/vacci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469800" y="1197000"/>
            <a:ext cx="3441960" cy="115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Midwife/nurse/docto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- informs parents about the programme and provides them with the „Good Parent” k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collects a written consent from a parent to participate in the program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fills in a questionnaire on the basis of an interview/obser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 Linotype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58640" y="2736720"/>
            <a:ext cx="3505320" cy="49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The original copy of the questionnaire is kept in internal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92120" y="4449600"/>
            <a:ext cx="1898640" cy="4572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The questionnaire is kept in internal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36680" y="5715000"/>
            <a:ext cx="3436920" cy="97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Conversation with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- doctor/midwife/n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- coordinator from a Social Welfare Centre: 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Psychologist from the Nobody’s Children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The Praga Child and Family Centre, tel. 0 22 616 16 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6516720" y="1069920"/>
            <a:ext cx="22096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Starting the Blue Card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Informing the Family Team of the Social Welfare Centre on the Blue Card proced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6629400" y="4264200"/>
            <a:ext cx="2104920" cy="122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b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Delivering a copy to the programme’s coordinator in a Social Welfare Cent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………………………………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  <a:ea typeface="Calibri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0"/>
          <p:cNvSpPr/>
          <p:nvPr/>
        </p:nvSpPr>
        <p:spPr>
          <a:xfrm>
            <a:off x="3898800" y="1900080"/>
            <a:ext cx="2549520" cy="1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4581360" y="1536840"/>
            <a:ext cx="135900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iagnosing child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"/>
          <p:cNvSpPr/>
          <p:nvPr/>
        </p:nvSpPr>
        <p:spPr>
          <a:xfrm flipH="1">
            <a:off x="1895040" y="747720"/>
            <a:ext cx="1116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1258920" y="2348640"/>
            <a:ext cx="0" cy="373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3924360" y="2349360"/>
            <a:ext cx="2577960" cy="205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4662360" y="3154320"/>
            <a:ext cx="136692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iagnosing risk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 flipH="1">
            <a:off x="1251000" y="3282840"/>
            <a:ext cx="9360" cy="1104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398520" y="3832200"/>
            <a:ext cx="2517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No risk factors/abus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3024360" y="3381480"/>
            <a:ext cx="12600" cy="199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9"/>
          <p:cNvSpPr/>
          <p:nvPr/>
        </p:nvSpPr>
        <p:spPr>
          <a:xfrm>
            <a:off x="2664000" y="4624560"/>
            <a:ext cx="112392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oub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 flipV="1">
            <a:off x="1285920" y="4929120"/>
            <a:ext cx="0" cy="67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419040" y="5086440"/>
            <a:ext cx="249732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No risk factors/abuse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 flipV="1">
            <a:off x="3817800" y="5173200"/>
            <a:ext cx="2551320" cy="11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4549680" y="5554800"/>
            <a:ext cx="15876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Calibri"/>
                <a:ea typeface="Calibri"/>
              </a:rPr>
              <a:t>Diagnosing risk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4176720" y="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DIAGRAM FOR HEALTHCARE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"/>
          <p:cNvSpPr/>
          <p:nvPr/>
        </p:nvSpPr>
        <p:spPr>
          <a:xfrm>
            <a:off x="1187280" y="333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Calibri"/>
              </a:rPr>
              <a:t>WHAT KIND OF PARENTS DO WE WORK WI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rostokąt 2"/>
          <p:cNvSpPr/>
          <p:nvPr/>
        </p:nvSpPr>
        <p:spPr>
          <a:xfrm>
            <a:off x="684360" y="1341360"/>
            <a:ext cx="634824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ingle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een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Foster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Add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history of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ocially iso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mental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Having problems with ag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Helpless in upbringing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SUPPORT FOR FAMILIES -UNIVER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rostokąt 2"/>
          <p:cNvSpPr/>
          <p:nvPr/>
        </p:nvSpPr>
        <p:spPr>
          <a:xfrm>
            <a:off x="324000" y="2060640"/>
            <a:ext cx="81356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hematic education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Internet consultanc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Play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Awareness raising campa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SUPPORT FOR FAMILIES –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TARGE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rostokąt 2"/>
          <p:cNvSpPr/>
          <p:nvPr/>
        </p:nvSpPr>
        <p:spPr>
          <a:xfrm>
            <a:off x="324000" y="2060640"/>
            <a:ext cx="835164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ultations with psychologists, psychiatrist, lawyer, dietetitian, mid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ideo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Parental skill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and therapeutic holiday c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nteer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8640" y="14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Introduc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ory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Train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Seminars, conferenc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Monthly monitoring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ultatio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s, constant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campa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3399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Website 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dobryrodzic.fdn.pl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1332000" y="189000"/>
            <a:ext cx="742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Calibri"/>
              </a:rPr>
              <a:t>SUPPORT TO PROFESSIONALS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Good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4788000" y="4097160"/>
            <a:ext cx="2421000" cy="196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6300720" y="2421000"/>
            <a:ext cx="233676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22268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STANDARDS FOR PREVENTION OF YOUNG CHILD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ABUSE AND NEGLECT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7120" y="1428480"/>
            <a:ext cx="8429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1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upport offer for parents of young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2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ystem cooperation between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3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Various levels of preven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4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Organization of work of professionals supporting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5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fessional-family relationship based on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6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kills and competences of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tandard 7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and 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(Source: A.Izdebska, K.Lew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Calibri"/>
              </a:rPr>
              <a:t>ndowska „Jak budować lokalny system profilaktki krzywdzenia małych dzieci, Dzieko Krzywdzone. Teoria Badania Praktyka, no. 2(27) 200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44"/>
          <p:cNvSpPr/>
          <p:nvPr/>
        </p:nvSpPr>
        <p:spPr>
          <a:xfrm>
            <a:off x="4140360" y="6507000"/>
            <a:ext cx="4981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Nobody's Children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705636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345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700200" y="5661000"/>
            <a:ext cx="7742160" cy="324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955800" y="1316160"/>
            <a:ext cx="72295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ole tekstowe 2"/>
          <p:cNvSpPr/>
          <p:nvPr/>
        </p:nvSpPr>
        <p:spPr>
          <a:xfrm>
            <a:off x="1997280" y="5013360"/>
            <a:ext cx="56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Do professionals distribute educational materials among famili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413240" cy="2639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2498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179280" y="2004840"/>
            <a:ext cx="4253040" cy="2576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4643280" y="1998720"/>
            <a:ext cx="4297680" cy="2582640"/>
          </a:xfrm>
          <a:prstGeom prst="rect">
            <a:avLst/>
          </a:prstGeom>
          <a:ln w="0">
            <a:noFill/>
          </a:ln>
        </p:spPr>
      </p:pic>
      <p:sp>
        <p:nvSpPr>
          <p:cNvPr id="414" name="pole tekstowe 2"/>
          <p:cNvSpPr/>
          <p:nvPr/>
        </p:nvSpPr>
        <p:spPr>
          <a:xfrm>
            <a:off x="250920" y="5268960"/>
            <a:ext cx="87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How do professionals assess the effectiveness of the screening tool used in the Local System? (no.=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36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611280" y="1157400"/>
            <a:ext cx="78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iekt 1"/>
          <p:cNvGraphicFramePr/>
          <p:nvPr/>
        </p:nvGraphicFramePr>
        <p:xfrm>
          <a:off x="196920" y="2562120"/>
          <a:ext cx="2759040" cy="22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iek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562120"/>
                    <a:ext cx="2759040" cy="22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rostokąt 2"/>
          <p:cNvSpPr/>
          <p:nvPr/>
        </p:nvSpPr>
        <p:spPr>
          <a:xfrm>
            <a:off x="3564000" y="1157400"/>
            <a:ext cx="4572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blished in 1991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fdn.p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rking out the system to help abused children and protect children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from abuse and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ovid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direct services (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ildren, families, profession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ole tekstowe 2"/>
          <p:cNvSpPr/>
          <p:nvPr/>
        </p:nvSpPr>
        <p:spPr>
          <a:xfrm>
            <a:off x="2411280" y="5291280"/>
            <a:ext cx="48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Do the professionals use the screening tool? (no.=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4643280" y="2004840"/>
            <a:ext cx="4176720" cy="25765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324000" y="2004840"/>
            <a:ext cx="41767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ole tekstowe 2"/>
          <p:cNvSpPr/>
          <p:nvPr/>
        </p:nvSpPr>
        <p:spPr>
          <a:xfrm>
            <a:off x="508320" y="5934240"/>
            <a:ext cx="85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How do professionals assess the cooperation within the programme with various agencies? (no.=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025640" y="1557360"/>
            <a:ext cx="70754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ole tekstowe 1"/>
          <p:cNvSpPr/>
          <p:nvPr/>
        </p:nvSpPr>
        <p:spPr>
          <a:xfrm>
            <a:off x="316800" y="1628640"/>
            <a:ext cx="83019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most positive aspects of the programme mentioned by the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Common super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Common trai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Opportunity to know each other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etter cooperation between some Welfare Centers and Health C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ole tekstowe 1"/>
          <p:cNvSpPr/>
          <p:nvPr/>
        </p:nvSpPr>
        <p:spPr>
          <a:xfrm>
            <a:off x="299880" y="1162080"/>
            <a:ext cx="852012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Reccomended modifications/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Expanding the age of children covered with the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roader offer for families, where violence already oc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Slimmer” educational materials for some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etter outreach to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Broader information to parents (picninc, local free newspapers, other m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Revising the screening tool, making it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Calibri"/>
              </a:rPr>
              <a:t>Including the non-public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ole tekstowe 1"/>
          <p:cNvSpPr/>
          <p:nvPr/>
        </p:nvSpPr>
        <p:spPr>
          <a:xfrm>
            <a:off x="299880" y="2637000"/>
            <a:ext cx="8520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  <a:ea typeface="Calibri"/>
              </a:rPr>
              <a:t>THANK YOU FOR YOUR ATTEN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nata.szredzinska@fdn.p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GOALS of Good Parent – Good Start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11280" y="1157400"/>
            <a:ext cx="78134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Early prevention of young child abuse and neg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Target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oulnerable famil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s with young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fessionals working with parents with young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Why preventive approa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611280" y="1157400"/>
            <a:ext cx="78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rostokąt 1"/>
          <p:cNvSpPr/>
          <p:nvPr/>
        </p:nvSpPr>
        <p:spPr>
          <a:xfrm>
            <a:off x="611280" y="2208240"/>
            <a:ext cx="78134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mprovement of the well being of babies and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ducing inclination of antisocial behavi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nancial reaso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Why families with young childr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611280" y="1157400"/>
            <a:ext cx="781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rostokąt 1"/>
          <p:cNvSpPr/>
          <p:nvPr/>
        </p:nvSpPr>
        <p:spPr>
          <a:xfrm>
            <a:off x="611280" y="2208240"/>
            <a:ext cx="7813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pheava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in the famil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ack of knowledge of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st vulnerabl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ritical moments in bra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6560" y="152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870120" y="6469200"/>
            <a:ext cx="8273880" cy="388800"/>
            <a:chOff x="870120" y="6469200"/>
            <a:chExt cx="8273880" cy="388800"/>
          </a:xfrm>
        </p:grpSpPr>
        <p:pic>
          <p:nvPicPr>
            <p:cNvPr id="346" name="Picture 11" descr=""/>
            <p:cNvPicPr/>
            <p:nvPr/>
          </p:nvPicPr>
          <p:blipFill>
            <a:blip r:embed="rId1"/>
            <a:stretch/>
          </p:blipFill>
          <p:spPr>
            <a:xfrm>
              <a:off x="870120" y="6469200"/>
              <a:ext cx="827388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12"/>
            <p:cNvSpPr/>
            <p:nvPr/>
          </p:nvSpPr>
          <p:spPr>
            <a:xfrm>
              <a:off x="6230520" y="6480000"/>
              <a:ext cx="28911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Fundacja Dzieci Niczy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42"/>
          <p:cNvGrpSpPr/>
          <p:nvPr/>
        </p:nvGrpSpPr>
        <p:grpSpPr>
          <a:xfrm>
            <a:off x="870120" y="6496200"/>
            <a:ext cx="8273880" cy="388800"/>
            <a:chOff x="870120" y="6496200"/>
            <a:chExt cx="8273880" cy="388800"/>
          </a:xfrm>
        </p:grpSpPr>
        <p:pic>
          <p:nvPicPr>
            <p:cNvPr id="349" name="Picture 43" descr=""/>
            <p:cNvPicPr/>
            <p:nvPr/>
          </p:nvPicPr>
          <p:blipFill>
            <a:blip r:embed="rId2"/>
            <a:stretch/>
          </p:blipFill>
          <p:spPr>
            <a:xfrm>
              <a:off x="870120" y="6496200"/>
              <a:ext cx="827388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Rectangle 44"/>
            <p:cNvSpPr/>
            <p:nvPr/>
          </p:nvSpPr>
          <p:spPr>
            <a:xfrm>
              <a:off x="4140360" y="6507000"/>
              <a:ext cx="4981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Arial"/>
                </a:rPr>
                <a:t>Nobody's Children Found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12" descr=""/>
          <p:cNvPicPr/>
          <p:nvPr/>
        </p:nvPicPr>
        <p:blipFill>
          <a:blip r:embed="rId3"/>
          <a:stretch/>
        </p:blipFill>
        <p:spPr>
          <a:xfrm>
            <a:off x="-31680" y="0"/>
            <a:ext cx="915336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LOCAL SYSTEM FOR PREVENTION OF YOUNG CHILD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24000" y="1157400"/>
            <a:ext cx="835164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 build a system of cooperation between local health care and social care service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 the area of identifying and supporting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voulner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families with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rtn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ty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cal Health Cen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Local Welfare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y nur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bation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ot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LOCAL SYSTEM FOR PREVENTION OF YOUNG CHILD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116000" y="1362240"/>
            <a:ext cx="70200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7058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  <a:ea typeface="Calibri"/>
              </a:rPr>
              <a:t>LOCAL SYSTEM FOR PREVENTION OF YOUNG CHILD AB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24000" y="1157400"/>
            <a:ext cx="83516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rostokąt 2"/>
          <p:cNvSpPr/>
          <p:nvPr/>
        </p:nvSpPr>
        <p:spPr>
          <a:xfrm>
            <a:off x="324000" y="2060640"/>
            <a:ext cx="813564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3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Information 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 the projec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 (Good Parent Pac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Identification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of voulnerable fmailies and interdisciplinary coopera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Need-tailored 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upport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to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Calibri"/>
              </a:rPr>
              <a:t> famil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  <a:ea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4:36:35Z</dcterms:created>
  <dc:creator>Renata</dc:creator>
  <dc:description/>
  <dc:language>en-US</dc:language>
  <cp:lastModifiedBy>Renata</cp:lastModifiedBy>
  <dcterms:modified xsi:type="dcterms:W3CDTF">2012-12-05T12:53:04Z</dcterms:modified>
  <cp:revision>31</cp:revision>
  <dc:subject/>
  <dc:title>Prezentacja programu PowerPoint</dc:title>
</cp:coreProperties>
</file>