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D8B2-E6B8-41C7-A165-2FDA18D38E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81CA-CE98-4F70-ACA7-D4CDFC82E6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1F806F-2AD2-4759-A0E1-A2D215104851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062-9B6F-4E35-8E69-1504E0C3DE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9D9E-8BDD-4F7A-B910-605EED192E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B3B722-7BFF-4B86-AA0E-9963069B216A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FE4587-EBE6-4F73-AD10-A1FAC24C89E6}" type="slidenum">
              <a:rPr b="0" lang="pl-PL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B15B-FA28-440E-A3D0-73378F336B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0AFA-9F72-4F35-8910-4BC41C365E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78A0-67EB-45A3-B469-0E3B870358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1CA8-F69B-4FA0-82F8-E44F895F25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A316-BA77-46B3-AAC3-6FB5D97455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8434-4AF6-4B3D-9FBE-E79178386F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24CD-24CD-420C-B0FE-44682914AC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536-31AA-4F86-B2ED-CB48736EC5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9FFF-915E-4D21-9592-275C74057E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D3BB-7A23-450E-9B80-22FA9A63E3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BF6B-443E-4DBF-A712-0331734B87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FF20-66AE-44DB-83B4-C392C6ED24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2B3-F17F-4A5F-95EE-32F0EB383D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DEED09-3842-4B4C-96C4-8FFA1AC17466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CA4A-7A07-44F5-BB2E-20BAFBDFF5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A746-FE57-4B33-9A04-6A3B3A4340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BBB-A6A6-452D-ADDA-DD297EA8FD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C57-87CC-41FD-9B7B-20F007D0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D02-FA30-4371-AEFB-44E7B4F6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4C4-A419-4430-A2A7-F574FA32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7DB-2BB2-4DE6-B87A-BA9D4427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FBE2-92A9-4CBB-8195-33BC3DAE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50D2-29A1-4695-8839-1DFB747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7356-A7C2-430A-B5BF-2BE3F226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E00-C14B-4B2E-9F78-F41E48B6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B9A7-DC9F-426E-8A31-7813CDDC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EE6E-1544-4BB5-9416-2D752249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78F4-B630-4673-875B-17BAD52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CA8-F922-44F1-8280-F008419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8905-C45A-4EF3-8785-4EDB72F8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6D35-7896-457C-9ED5-8918D1B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E0BA-54B3-43C2-A0FC-8949E3B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5F3B-9B68-4675-9F2D-460DE8B1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2D29-8B3D-45BE-A709-AEF3C4C7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9164-20AE-4F91-8CF0-55AFC733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ECC7-F6BE-4188-B273-6E50A872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E667-6A62-44B1-8C31-893E622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585F-4119-4ACB-ADC7-C9054B3C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0388-537F-42ED-B29C-5ECF63E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5CB-10A7-4511-B566-09E12792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27A5-EF4C-476F-AB06-1728F64C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6FEC-9D16-4F2A-A4EA-0E1C19F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A218-C818-4BD0-95A3-906F235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A402-8E8B-40BC-A611-B8AA336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E489-4EBC-4A67-93A5-33BE5E7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0449-A33F-4529-84CB-729F9817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CD43-74BA-4324-B72E-8A73E451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8B55-2741-4DED-9E22-4AE31B05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191C-E157-4945-B686-A59528B9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230A-2C1A-40F1-A34F-AAFE64C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980-CB03-49EF-AC89-81943104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F364-127C-472E-93AC-5DF59F5B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C90F-6E80-46B5-932F-72C19510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5358-EB9C-4AC7-B564-386BF684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D128-1539-4734-96F3-66F5170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C93F-3694-47D7-9EBD-D104B5F9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09FB-E379-4626-9ECB-270D1F81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F2E1-3E59-4E97-8030-17D6A06B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628B-804F-46C8-915E-18298F4B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19B0-2A10-4450-9C83-A44F2712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E051-4C4C-45A3-B88F-CDF800A1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B67-6F07-46DD-87E3-E58139B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AF75-2C01-493D-A6BE-8EA576B9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1DA0-D7EE-4996-B217-9A075D3B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05B2-52C3-4DAF-B187-A0C6A2FB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C3AE5-EE88-4085-902C-4391FF8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64F9-84E0-4F26-9D39-5C4BC1C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4C5F5-91CD-4994-8576-721B08F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9106-661B-403D-8280-D6A8255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4A45-117F-4758-A829-2E1401F6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9FC8-DB6E-4199-83E4-6111B80F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7ED99-04DF-4D29-B5A9-C0E557D0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B3B-929A-4622-9BA7-6CBE2E42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0E0AD-0529-4D83-BB62-9FA5F0A3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0B8-6790-41C8-8020-C931039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778-C7C8-4B46-9D58-F1E500F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17F-4A33-49AB-8C9B-DE98B1A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121B-9093-4829-B4EB-F6C6EE7AC74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8F6E-68FE-4822-89AF-BD6D9438308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EFA4-4714-4D7B-9AC9-F9AF2AF2B84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2332-93DA-4091-B761-93BA07141BF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71D9-C462-4DCD-9EEC-BB266FE1177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obryrodzic.fdn.pl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hyperlink" Target="http://www.fdn.pl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renata.szredzinska@fdn.p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Calibri"/>
              </a:rPr>
              <a:t>Good Parent - Good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85800" y="4397400"/>
            <a:ext cx="2389320" cy="101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3405240" y="4276800"/>
            <a:ext cx="2333520" cy="113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3"/>
          <a:stretch/>
        </p:blipFill>
        <p:spPr>
          <a:xfrm>
            <a:off x="5867280" y="4156200"/>
            <a:ext cx="2590920" cy="1493640"/>
          </a:xfrm>
          <a:prstGeom prst="rect">
            <a:avLst/>
          </a:prstGeom>
          <a:ln w="0">
            <a:noFill/>
          </a:ln>
        </p:spPr>
      </p:pic>
      <p:sp>
        <p:nvSpPr>
          <p:cNvPr id="330" name="pole tekstowe 1"/>
          <p:cNvSpPr/>
          <p:nvPr/>
        </p:nvSpPr>
        <p:spPr>
          <a:xfrm>
            <a:off x="900000" y="6165720"/>
            <a:ext cx="73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gue, 6-7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479840" y="244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53920" y="157320"/>
            <a:ext cx="3070440" cy="53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  <a:ea typeface="Calibri"/>
              </a:rPr>
              <a:t>A woman with a small child/in pregnancy reports to an examination/vacc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469800" y="1197000"/>
            <a:ext cx="3441960" cy="115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Midwife/nurse/doct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- informs parents about the programme and provides them with the „Good Parent”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collects a written consent from a parent to participate in the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fills in a questionnaire on the basis of an interview/ob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58640" y="2736720"/>
            <a:ext cx="3505320" cy="49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The original copy of the questionnaire is kept in internal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92120" y="4449600"/>
            <a:ext cx="18986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The questionnaire is kept in internal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36680" y="5715000"/>
            <a:ext cx="3436920" cy="9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Conversation wit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- doctor/midwife/n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- coordinator from a Social Welfare Centre: 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Psychologist from the Nobody’s Children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The Praga Child and Family Centre, tel. 0 22 616 16 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6516720" y="1069920"/>
            <a:ext cx="22096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Starting the Blue Card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Informing the Family Team of the Social Welfare Centre on the Blue Card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6629400" y="4264200"/>
            <a:ext cx="2104920" cy="122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Delivering a copy to the programme’s coordinator in a Social Welfare Cent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………………………………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3898800" y="1900080"/>
            <a:ext cx="254952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4581360" y="1536840"/>
            <a:ext cx="135900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child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"/>
          <p:cNvSpPr/>
          <p:nvPr/>
        </p:nvSpPr>
        <p:spPr>
          <a:xfrm flipH="1">
            <a:off x="1895040" y="747720"/>
            <a:ext cx="1116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1258920" y="2348640"/>
            <a:ext cx="0" cy="37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3924360" y="2349360"/>
            <a:ext cx="2577960" cy="205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4662360" y="3154320"/>
            <a:ext cx="136692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 flipH="1">
            <a:off x="1251000" y="3282840"/>
            <a:ext cx="936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398520" y="3832200"/>
            <a:ext cx="2517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No risk factors/abus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3024360" y="3381480"/>
            <a:ext cx="12600" cy="199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2664000" y="4624560"/>
            <a:ext cx="112392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oub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285920" y="4929120"/>
            <a:ext cx="0" cy="67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419040" y="5086440"/>
            <a:ext cx="249732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No risk factors/abus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V="1">
            <a:off x="3817800" y="5173200"/>
            <a:ext cx="2551320" cy="11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4549680" y="5554800"/>
            <a:ext cx="15876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4176720" y="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DIAGRAM FOR HEALTHCAR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"/>
          <p:cNvSpPr/>
          <p:nvPr/>
        </p:nvSpPr>
        <p:spPr>
          <a:xfrm>
            <a:off x="1187280" y="333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KIND OF PARENTS DO WE WORK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rostokąt 2"/>
          <p:cNvSpPr/>
          <p:nvPr/>
        </p:nvSpPr>
        <p:spPr>
          <a:xfrm>
            <a:off x="684360" y="1341360"/>
            <a:ext cx="634824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ingle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Foster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Add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history of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ocially iso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mental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Having problems with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Helpless in upbringing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SUPPORT FOR FAMILIES -UNIVE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rostokąt 2"/>
          <p:cNvSpPr/>
          <p:nvPr/>
        </p:nvSpPr>
        <p:spPr>
          <a:xfrm>
            <a:off x="324000" y="2060640"/>
            <a:ext cx="81356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hematic education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Internet consultanc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la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Awareness rais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SUPPORT FOR FAMILIES –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TARG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rostokąt 2"/>
          <p:cNvSpPr/>
          <p:nvPr/>
        </p:nvSpPr>
        <p:spPr>
          <a:xfrm>
            <a:off x="324000" y="2060640"/>
            <a:ext cx="83516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ultations with psychologists, psychiatrist, lawyer, dietetitian, mid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ideo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arental skill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and therapeutic holiday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nteer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8640" y="14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Introduc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ry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Trai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Seminars, conferenc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Monthly monitoring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ult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, constan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ebsite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dobryrodzic.fdn.p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1332000" y="189000"/>
            <a:ext cx="742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Calibri"/>
              </a:rPr>
              <a:t>SUPPORT TO PROFESSIONALS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Good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4788000" y="4097160"/>
            <a:ext cx="2421000" cy="196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3367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STANDARDS FOR PREVENTION OF YOUNG CHILD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ABUSE AND NEGLEC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7120" y="1428480"/>
            <a:ext cx="8429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upport offer for parents of young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2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 cooperation between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3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Various levels of preven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4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rganization of work of professionals supporting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5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fessional-family relationship based on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6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kills and competences of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7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and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(Source: A.Izdebska, K.Lew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ndowska „Jak budować lokalny system profilaktki krzywdzenia małych dzieci, Dzieko Krzywdzone. Teoria Badania Praktyka, no. 2(27)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4"/>
          <p:cNvSpPr/>
          <p:nvPr/>
        </p:nvSpPr>
        <p:spPr>
          <a:xfrm>
            <a:off x="4140360" y="6507000"/>
            <a:ext cx="4981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Nobody's Children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563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700200" y="5661000"/>
            <a:ext cx="7742160" cy="324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955800" y="1316160"/>
            <a:ext cx="72295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ole tekstowe 2"/>
          <p:cNvSpPr/>
          <p:nvPr/>
        </p:nvSpPr>
        <p:spPr>
          <a:xfrm>
            <a:off x="1997280" y="5013360"/>
            <a:ext cx="56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Do professionals distribute educational materials among famili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413240" cy="2639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2498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79280" y="2004840"/>
            <a:ext cx="4253040" cy="2576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4643280" y="1998720"/>
            <a:ext cx="4297680" cy="2582640"/>
          </a:xfrm>
          <a:prstGeom prst="rect">
            <a:avLst/>
          </a:prstGeom>
          <a:ln w="0">
            <a:noFill/>
          </a:ln>
        </p:spPr>
      </p:pic>
      <p:sp>
        <p:nvSpPr>
          <p:cNvPr id="414" name="pole tekstowe 2"/>
          <p:cNvSpPr/>
          <p:nvPr/>
        </p:nvSpPr>
        <p:spPr>
          <a:xfrm>
            <a:off x="250920" y="5268960"/>
            <a:ext cx="87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How do professionals assess the effectiveness of the screening tool used in the Local System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6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iekt 1"/>
          <p:cNvGraphicFramePr/>
          <p:nvPr/>
        </p:nvGraphicFramePr>
        <p:xfrm>
          <a:off x="196920" y="2562120"/>
          <a:ext cx="275904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iek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562120"/>
                    <a:ext cx="275904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rostokąt 2"/>
          <p:cNvSpPr/>
          <p:nvPr/>
        </p:nvSpPr>
        <p:spPr>
          <a:xfrm>
            <a:off x="3564000" y="1157400"/>
            <a:ext cx="45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blished in 199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fdn.p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king out the system to help abused children and protect childre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from abuse and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vid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irect services (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ildren, families, profession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ole tekstowe 2"/>
          <p:cNvSpPr/>
          <p:nvPr/>
        </p:nvSpPr>
        <p:spPr>
          <a:xfrm>
            <a:off x="2411280" y="5291280"/>
            <a:ext cx="48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Do the professionals use the screening tool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4643280" y="2004840"/>
            <a:ext cx="4176720" cy="2576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324000" y="2004840"/>
            <a:ext cx="41767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ole tekstowe 2"/>
          <p:cNvSpPr/>
          <p:nvPr/>
        </p:nvSpPr>
        <p:spPr>
          <a:xfrm>
            <a:off x="508320" y="5934240"/>
            <a:ext cx="85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How do professionals assess the cooperation within the programme with various agencies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025640" y="1557360"/>
            <a:ext cx="70754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1"/>
          <p:cNvSpPr/>
          <p:nvPr/>
        </p:nvSpPr>
        <p:spPr>
          <a:xfrm>
            <a:off x="316800" y="1628640"/>
            <a:ext cx="8301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ost positive aspects of the programme mentioned by the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Common super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Common trai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Opportunity to know each other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etter cooperation between some Welfare Centers and Health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ole tekstowe 1"/>
          <p:cNvSpPr/>
          <p:nvPr/>
        </p:nvSpPr>
        <p:spPr>
          <a:xfrm>
            <a:off x="299880" y="1162080"/>
            <a:ext cx="852012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Reccomended modifications/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Expanding the age of children covered with th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roader offer for families, where violence already oc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Slimmer” educational materials for some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etter outreach to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roader information to parents (picninc, local free newspapers, other m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Revising the screening tool, making it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Including the non-public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ole tekstowe 1"/>
          <p:cNvSpPr/>
          <p:nvPr/>
        </p:nvSpPr>
        <p:spPr>
          <a:xfrm>
            <a:off x="299880" y="2637000"/>
            <a:ext cx="8520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nata.szredzinska@fdn.p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GOALS of Good Parent – Good Start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11280" y="1157400"/>
            <a:ext cx="78134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Early prevention of young child abuse and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arget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ulnerable famil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 with young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fessionals working with parents with young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Why preventive approa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rostokąt 1"/>
          <p:cNvSpPr/>
          <p:nvPr/>
        </p:nvSpPr>
        <p:spPr>
          <a:xfrm>
            <a:off x="611280" y="2208240"/>
            <a:ext cx="7813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provement of the well being of babies and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cing inclination of antisocial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nancial reaso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Why families with young childr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rostokąt 1"/>
          <p:cNvSpPr/>
          <p:nvPr/>
        </p:nvSpPr>
        <p:spPr>
          <a:xfrm>
            <a:off x="611280" y="2208240"/>
            <a:ext cx="7813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heav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in the famil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ack of knowledge of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st vulnerabl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ritical moments in bra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6560" y="152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870120" y="6469200"/>
            <a:ext cx="8273880" cy="388800"/>
            <a:chOff x="870120" y="6469200"/>
            <a:chExt cx="8273880" cy="388800"/>
          </a:xfrm>
        </p:grpSpPr>
        <p:pic>
          <p:nvPicPr>
            <p:cNvPr id="346" name="Picture 11" descr=""/>
            <p:cNvPicPr/>
            <p:nvPr/>
          </p:nvPicPr>
          <p:blipFill>
            <a:blip r:embed="rId1"/>
            <a:stretch/>
          </p:blipFill>
          <p:spPr>
            <a:xfrm>
              <a:off x="870120" y="6469200"/>
              <a:ext cx="827388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12"/>
            <p:cNvSpPr/>
            <p:nvPr/>
          </p:nvSpPr>
          <p:spPr>
            <a:xfrm>
              <a:off x="6230520" y="6480000"/>
              <a:ext cx="289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Fundacja Dzieci Niczy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42"/>
          <p:cNvGrpSpPr/>
          <p:nvPr/>
        </p:nvGrpSpPr>
        <p:grpSpPr>
          <a:xfrm>
            <a:off x="870120" y="6496200"/>
            <a:ext cx="8273880" cy="388800"/>
            <a:chOff x="870120" y="6496200"/>
            <a:chExt cx="8273880" cy="388800"/>
          </a:xfrm>
        </p:grpSpPr>
        <p:pic>
          <p:nvPicPr>
            <p:cNvPr id="349" name="Picture 43" descr=""/>
            <p:cNvPicPr/>
            <p:nvPr/>
          </p:nvPicPr>
          <p:blipFill>
            <a:blip r:embed="rId2"/>
            <a:stretch/>
          </p:blipFill>
          <p:spPr>
            <a:xfrm>
              <a:off x="870120" y="6496200"/>
              <a:ext cx="827388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44"/>
            <p:cNvSpPr/>
            <p:nvPr/>
          </p:nvSpPr>
          <p:spPr>
            <a:xfrm>
              <a:off x="4140360" y="6507000"/>
              <a:ext cx="4981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Nobody's Children Found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2" descr=""/>
          <p:cNvPicPr/>
          <p:nvPr/>
        </p:nvPicPr>
        <p:blipFill>
          <a:blip r:embed="rId3"/>
          <a:stretch/>
        </p:blipFill>
        <p:spPr>
          <a:xfrm>
            <a:off x="-31680" y="0"/>
            <a:ext cx="91533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24000" y="1157400"/>
            <a:ext cx="83516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build a system of cooperation between local health care and social care service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the area of identifying and supporting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ulne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families with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rt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ty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cal Health Cen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cal Welfare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y nur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ation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116000" y="1362240"/>
            <a:ext cx="7020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rostokąt 2"/>
          <p:cNvSpPr/>
          <p:nvPr/>
        </p:nvSpPr>
        <p:spPr>
          <a:xfrm>
            <a:off x="324000" y="2060640"/>
            <a:ext cx="8135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3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the projec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 (Good Parent 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Identification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f voulnerable fmailies and interdisciplinary coopera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Need-tailored 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upport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o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fami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4:36:35Z</dcterms:created>
  <dc:creator>Renata</dc:creator>
  <dc:description/>
  <dc:language>en-US</dc:language>
  <cp:lastModifiedBy>Renata</cp:lastModifiedBy>
  <dcterms:modified xsi:type="dcterms:W3CDTF">2012-12-05T12:53:04Z</dcterms:modified>
  <cp:revision>31</cp:revision>
  <dc:subject/>
  <dc:title>Prezentacja programu PowerPoint</dc:title>
</cp:coreProperties>
</file>