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4.wmf" ContentType="image/x-wmf"/>
  <Override PartName="/ppt/media/image36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F39-9069-4001-88FB-51E7EB2C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8E4-E804-48EB-91CA-2E9255F1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E09-7723-4E5F-B67A-6FE3F1C9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E22-FDCE-4E7E-90CA-C9137599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E226-BF5E-44AC-8EC5-0E22D797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C03D-E553-4F53-B986-FFD3496F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F199-AA9B-4C52-964D-D01D3487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44CC-55B6-45C6-B5EA-CECD877F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C243-05DA-48EC-973E-0DE801F2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F39D-397D-4D55-9602-E065E405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520A-54D4-4451-B89B-6240B291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3D0-35D5-4231-82B3-7835BE30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1005-6E7E-471C-8BFA-C24283FB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2A21-8DEE-4417-8326-1C01DF97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F33B-2B8B-4F99-92D0-3E9427AA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BAC0-6BC1-4026-A927-22A314AC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361D-6378-400F-8D69-B59ACBF1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BABD-E776-44F4-9B6D-AAC5F61A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065B7-95FE-49EA-9E75-7CA82CF4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A10C-610E-458D-8FC6-F169574D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CC536-0842-4788-9965-EEE39D51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B564-9F53-4704-BBAF-58CFB38E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447-D748-4A4C-B6C6-5D8CB79A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E615-24A2-40AC-9131-42A72F67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4428-58EC-463A-B9B0-5706516C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A734-66EC-4527-B9C9-353E6836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58A1-9762-44D3-A32D-52CE76B1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FC80-BDD2-46E1-A0B2-10E7C05E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1242-3FAF-48AC-8A75-88AFAA57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4DA1-7167-485D-A53D-365873B4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AFB7-BF50-4BFB-9B93-37C2BBAB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1536-18F5-4F68-ACA7-9588A0D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D874-0D36-46B6-8B00-C12EDFA4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290-6A86-4DEB-9BD3-BA0D8222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3C358-6136-4865-833C-FE0F13B2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5221-81CA-44DD-9FE6-B3264351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BDF95-6E93-4FE8-9F70-5046CA0D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887E9-A5AD-4A13-980C-EFCE442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614E-99F0-46C0-AF10-B4F6280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AADFA-5101-4DAF-B83F-11C30E6D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26AB-57EC-44C1-9C68-12FB2A66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988A-A417-479D-AC90-C8651039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6FE2-FC6C-46E5-87F7-10FD2211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D09B-EEEB-400D-A457-CA53E35E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AD2-D3F0-4F23-B643-D28E8C73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4A0F-145A-466C-9741-0ADDAF79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F4201-AB01-4BA7-8F97-82E8E92C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4DF0E-3D46-43F4-AB0C-976F26D9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BF3D-E814-4DE9-8578-3B5B46D8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4EE9-1443-4753-BAA1-39954B11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DC6B-9FAA-4FF6-9B1A-0E500FAE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A6AF-4150-49CC-A93D-1E5BAB8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FBC14-C600-4DAE-A0F3-7625AB83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DA7E4-ABE5-412B-9F24-CD131008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E0C65-34E2-45BD-82E3-26F4D640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9C5-45A6-4433-AC7A-3937C29D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7F812-AA73-4856-8C98-1E164A53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7F1-2D4A-448C-BEED-52C6361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732-478F-4F21-B47F-7C2DFB99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E4C-88CC-43EA-8F6B-4669C9A8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B3F9-FE28-484D-A79B-B01F9BD08A71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C0CB-F2E3-4C9F-B350-323ABA5935B2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DBDE-4BDD-44B2-A8ED-31216F0B5A53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E19F-5EA9-416A-9FFE-83BD631E4F7E}" type="slidenum">
              <a:rPr b="0" lang="nl-NL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5359-B6DC-4C7B-B44A-2D86DCFB632F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6"/>
          </p:nvPr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7"/>
          </p:nvPr>
        </p:nvSpPr>
        <p:spPr>
          <a:xfrm>
            <a:off x="899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A589-1868-44E3-8584-8E961E073E4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916360" y="3789360"/>
            <a:ext cx="592272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Franklin Gothic Medium"/>
              </a:rPr>
              <a:t>FOSTER CARE IN THE NETHERLAND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Franklin Gothic Book"/>
                <a:ea typeface="Tunga"/>
              </a:rPr>
              <a:t>RENE DE BOT</a:t>
            </a: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Franklin Gothic Book"/>
                <a:ea typeface="Tunga"/>
              </a:rPr>
              <a:t>DECEMBER 2012</a:t>
            </a: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Tijdelijke aanduiding voor afbeelding 5" descr="C:\Users\Rene de Bot\Documents\Scan0005 - kopie.jpg"/>
          <p:cNvPicPr/>
          <p:nvPr/>
        </p:nvPicPr>
        <p:blipFill>
          <a:blip r:embed="rId1"/>
          <a:srcRect l="0" t="23612" r="0" b="23612"/>
          <a:stretch/>
        </p:blipFill>
        <p:spPr>
          <a:xfrm>
            <a:off x="-684360" y="0"/>
            <a:ext cx="5256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57160" y="260280"/>
            <a:ext cx="79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BABY HATCH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8" name="Picture 3" descr="C:\Users\Rene de Bot\Pictures\italie\DSC00045.JPG"/>
          <p:cNvPicPr/>
          <p:nvPr/>
        </p:nvPicPr>
        <p:blipFill>
          <a:blip r:embed="rId1"/>
          <a:stretch/>
        </p:blipFill>
        <p:spPr>
          <a:xfrm>
            <a:off x="1547640" y="1557360"/>
            <a:ext cx="3587760" cy="4784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Users\Rene de Bot\Pictures\powerpoint materiaal\babywiege.jpg"/>
          <p:cNvPicPr/>
          <p:nvPr/>
        </p:nvPicPr>
        <p:blipFill>
          <a:blip r:embed="rId2"/>
          <a:stretch/>
        </p:blipFill>
        <p:spPr>
          <a:xfrm>
            <a:off x="6443640" y="5229360"/>
            <a:ext cx="247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8389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Documents and Settings\Rene de Bot\Mijn documenten\0.1. Mijn afbeeldingen\weeshuis brielle.jpg"/>
          <p:cNvPicPr/>
          <p:nvPr/>
        </p:nvPicPr>
        <p:blipFill>
          <a:blip r:embed="rId1"/>
          <a:stretch/>
        </p:blipFill>
        <p:spPr>
          <a:xfrm>
            <a:off x="457200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Documents and Settings\Rene de Bot\Mijn documenten\0.1. Mijn afbeeldingen\catharijnekerk.png"/>
          <p:cNvPicPr/>
          <p:nvPr/>
        </p:nvPicPr>
        <p:blipFill>
          <a:blip r:embed="rId2"/>
          <a:stretch/>
        </p:blipFill>
        <p:spPr>
          <a:xfrm>
            <a:off x="179280" y="476280"/>
            <a:ext cx="3811680" cy="5081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C:\Users\Rene de Bot\Pictures\powerpoint materiaal\oliver twist.jpg"/>
          <p:cNvPicPr/>
          <p:nvPr/>
        </p:nvPicPr>
        <p:blipFill>
          <a:blip r:embed="rId3"/>
          <a:stretch/>
        </p:blipFill>
        <p:spPr>
          <a:xfrm>
            <a:off x="6591240" y="1125360"/>
            <a:ext cx="2551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958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185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8" name="Picture 4" descr="weeshuis"/>
          <p:cNvPicPr/>
          <p:nvPr/>
        </p:nvPicPr>
        <p:blipFill>
          <a:blip r:embed="rId1"/>
          <a:stretch/>
        </p:blipFill>
        <p:spPr>
          <a:xfrm>
            <a:off x="-324000" y="1628640"/>
            <a:ext cx="9828360" cy="57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196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0" name="Picture 4" descr="ifco2013"/>
          <p:cNvPicPr/>
          <p:nvPr/>
        </p:nvPicPr>
        <p:blipFill>
          <a:blip r:embed="rId1"/>
          <a:stretch/>
        </p:blipFill>
        <p:spPr>
          <a:xfrm>
            <a:off x="2197080" y="1100160"/>
            <a:ext cx="47721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2" name="Picture 9" descr="vsl"/>
          <p:cNvPicPr/>
          <p:nvPr/>
        </p:nvPicPr>
        <p:blipFill>
          <a:blip r:embed="rId1"/>
          <a:stretch/>
        </p:blipFill>
        <p:spPr>
          <a:xfrm>
            <a:off x="3414600" y="981000"/>
            <a:ext cx="2381400" cy="1781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juul"/>
          <p:cNvPicPr/>
          <p:nvPr/>
        </p:nvPicPr>
        <p:blipFill>
          <a:blip r:embed="rId2"/>
          <a:stretch/>
        </p:blipFill>
        <p:spPr>
          <a:xfrm>
            <a:off x="6443640" y="184464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dijk"/>
          <p:cNvPicPr/>
          <p:nvPr/>
        </p:nvPicPr>
        <p:blipFill>
          <a:blip r:embed="rId3"/>
          <a:stretch/>
        </p:blipFill>
        <p:spPr>
          <a:xfrm>
            <a:off x="900000" y="2428920"/>
            <a:ext cx="2362320" cy="2012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sita"/>
          <p:cNvPicPr/>
          <p:nvPr/>
        </p:nvPicPr>
        <p:blipFill>
          <a:blip r:embed="rId4"/>
          <a:stretch/>
        </p:blipFill>
        <p:spPr>
          <a:xfrm>
            <a:off x="4788000" y="4005360"/>
            <a:ext cx="2857320" cy="2136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malmo"/>
          <p:cNvPicPr/>
          <p:nvPr/>
        </p:nvPicPr>
        <p:blipFill>
          <a:blip r:embed="rId5"/>
          <a:stretch/>
        </p:blipFill>
        <p:spPr>
          <a:xfrm>
            <a:off x="1547640" y="4708440"/>
            <a:ext cx="28576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Medium"/>
              </a:rPr>
              <a:t>FLEXUSJEUGDPLEI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700 employe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One organisation fo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amily coach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 social wor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oster ca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sidential car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9" name="Picture 6" descr="FlexusJeugdplein_logo_PMS klein"/>
          <p:cNvPicPr/>
          <p:nvPr/>
        </p:nvPicPr>
        <p:blipFill>
          <a:blip r:embed="rId1"/>
          <a:stretch/>
        </p:blipFill>
        <p:spPr>
          <a:xfrm>
            <a:off x="7740720" y="115920"/>
            <a:ext cx="13190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ifco2006"/>
          <p:cNvPicPr/>
          <p:nvPr/>
        </p:nvPicPr>
        <p:blipFill>
          <a:blip r:embed="rId1"/>
          <a:stretch/>
        </p:blipFill>
        <p:spPr>
          <a:xfrm>
            <a:off x="900000" y="1741320"/>
            <a:ext cx="7704360" cy="511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ifco2010"/>
          <p:cNvPicPr/>
          <p:nvPr/>
        </p:nvPicPr>
        <p:blipFill>
          <a:blip r:embed="rId2"/>
          <a:stretch/>
        </p:blipFill>
        <p:spPr>
          <a:xfrm>
            <a:off x="7093080" y="-4140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AMILY AND YOUTH CENT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3" name="Picture 2" descr="C:\Users\Rene de Bot\Pictures\powerpoint materiaal\cjg 1.jpg"/>
          <p:cNvPicPr/>
          <p:nvPr/>
        </p:nvPicPr>
        <p:blipFill>
          <a:blip r:embed="rId1"/>
          <a:stretch/>
        </p:blipFill>
        <p:spPr>
          <a:xfrm>
            <a:off x="4067280" y="2193840"/>
            <a:ext cx="3028680" cy="173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Rene de Bot\Pictures\powerpoint materiaal\cjg 2.jpg"/>
          <p:cNvPicPr/>
          <p:nvPr/>
        </p:nvPicPr>
        <p:blipFill>
          <a:blip r:embed="rId2"/>
          <a:stretch/>
        </p:blipFill>
        <p:spPr>
          <a:xfrm>
            <a:off x="1332000" y="217188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Rene de Bot\Pictures\powerpoint materiaal\cjg 4.jpg"/>
          <p:cNvPicPr/>
          <p:nvPr/>
        </p:nvPicPr>
        <p:blipFill>
          <a:blip r:embed="rId3"/>
          <a:stretch/>
        </p:blipFill>
        <p:spPr>
          <a:xfrm>
            <a:off x="5724360" y="5160960"/>
            <a:ext cx="2733840" cy="167652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6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4"/>
          <a:stretch/>
        </p:blipFill>
        <p:spPr>
          <a:xfrm>
            <a:off x="6804000" y="168120"/>
            <a:ext cx="19098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532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OUTPLACEMENT BECAUSE OF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problems  ( psychiatry, drugs/alcohol addiction, domestic violence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hild problems (problematic behavior, low intelligence, psychiatry, handicap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ombination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(poverty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OUR MISSION STAT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1922400" y="1100160"/>
            <a:ext cx="53215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1" name="Picture 2" descr="C:\Users\Rene de Bot\Pictures\powerpoint materiaal\sint 1.png"/>
          <p:cNvPicPr/>
          <p:nvPr/>
        </p:nvPicPr>
        <p:blipFill>
          <a:blip r:embed="rId1"/>
          <a:stretch/>
        </p:blipFill>
        <p:spPr>
          <a:xfrm>
            <a:off x="1116000" y="1184400"/>
            <a:ext cx="3384720" cy="224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Rene de Bot\Pictures\powerpoint materiaal\sint 2.jpg"/>
          <p:cNvPicPr/>
          <p:nvPr/>
        </p:nvPicPr>
        <p:blipFill>
          <a:blip r:embed="rId2"/>
          <a:stretch/>
        </p:blipFill>
        <p:spPr>
          <a:xfrm>
            <a:off x="5508720" y="1413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Rene de Bot\Pictures\powerpoint materiaal\sint 3.jpg"/>
          <p:cNvPicPr/>
          <p:nvPr/>
        </p:nvPicPr>
        <p:blipFill>
          <a:blip r:embed="rId3"/>
          <a:stretch/>
        </p:blipFill>
        <p:spPr>
          <a:xfrm>
            <a:off x="3352680" y="3903840"/>
            <a:ext cx="3389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6998" r="0" b="0"/>
          <a:stretch/>
        </p:blipFill>
        <p:spPr>
          <a:xfrm>
            <a:off x="2228760" y="2548080"/>
            <a:ext cx="46864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rcRect l="0" t="15455" r="0" b="18170"/>
          <a:stretch/>
        </p:blipFill>
        <p:spPr>
          <a:xfrm>
            <a:off x="1547640" y="1557360"/>
            <a:ext cx="8218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TYPES OF FOSTER CARE</a:t>
            </a:r>
            <a:r>
              <a:rPr b="0" lang="nl-NL" sz="2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crisis intervention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4weeks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temporary care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treatment and return home or other permanent solu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permanent care: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hild stays with foster family until 18 +: permanent family member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short break foster care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weekend/ holiday 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57160" y="-459000"/>
            <a:ext cx="79581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AGE OF THE DUTCH FOSTER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51% are girls , 49% boy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Grafiek 5" descr=""/>
          <p:cNvPicPr/>
          <p:nvPr/>
        </p:nvPicPr>
        <p:blipFill>
          <a:blip r:embed="rId1"/>
          <a:stretch/>
        </p:blipFill>
        <p:spPr>
          <a:xfrm>
            <a:off x="1523880" y="1857240"/>
            <a:ext cx="72630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57160" y="189000"/>
            <a:ext cx="7958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DURATION OF THE PLAC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880" y="2071800"/>
            <a:ext cx="7672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0 -   3  month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34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3 –   6 months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3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6 – 12 month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7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 – 2   years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5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Longer than 2 year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1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00%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 PROTEC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Voluntary placement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authority to be limited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authority to be withdrawn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0%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WHO MAKES THE DECISION FOR OUTPLACEMENT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For social workers residential care is easier  than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foster car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Residential educators: their opinion about foster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are   ( their experiences with  break dow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Lack and quality of foster parents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40" name="Picture 2" descr="C:\Users\Rene de Bot\Pictures\montenegro\P1020373.JPG"/>
          <p:cNvPicPr/>
          <p:nvPr/>
        </p:nvPicPr>
        <p:blipFill>
          <a:blip r:embed="rId1"/>
          <a:stretch/>
        </p:blipFill>
        <p:spPr>
          <a:xfrm>
            <a:off x="2197080" y="1100160"/>
            <a:ext cx="6561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GATE KEEP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77724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More knowledge for social workers about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residentieal care:  negative long term effec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When institutions are available, they will be used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So recruiting new foster families is only part of the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dea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EVERY CHILD: STELA GRIGORAS AND HER COLLEAGUES ARE HONOURED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16360" y="3789360"/>
            <a:ext cx="592272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6000" spc="-1" strike="noStrike">
                <a:solidFill>
                  <a:srgbClr val="000000"/>
                </a:solidFill>
                <a:latin typeface="Franklin Gothic Medium"/>
              </a:rPr>
              <a:t>YES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OSTER CARE IS POSSIBLE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EAP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AND IN THE INTEREST OF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R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1100" spc="-1" strike="noStrike">
                <a:solidFill>
                  <a:srgbClr val="000000"/>
                </a:solidFill>
                <a:latin typeface="Franklin Gothic Medium"/>
              </a:rPr>
              <a:t>(ROTTERDAM: 1.000.000 INHABITANTS, 1200 FOSTER FAMILIES).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LOSING INSTITUTIONS: MOLDOVA EXAMP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childre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build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employee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HANDOUT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Give me your businesscard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or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E mail adres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9" name="Picture 2" descr="C:\Users\Rene de Bot\Pictures\powerpoint materiaal\bollenvelden.jpg"/>
          <p:cNvPicPr/>
          <p:nvPr/>
        </p:nvPicPr>
        <p:blipFill>
          <a:blip r:embed="rId1"/>
          <a:stretch/>
        </p:blipFill>
        <p:spPr>
          <a:xfrm>
            <a:off x="4289400" y="1878120"/>
            <a:ext cx="4491000" cy="3351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C:\Users\Rene de Bot\Pictures\powerpoint materiaal\molens.jpg"/>
          <p:cNvPicPr/>
          <p:nvPr/>
        </p:nvPicPr>
        <p:blipFill>
          <a:blip r:embed="rId2"/>
          <a:stretch/>
        </p:blipFill>
        <p:spPr>
          <a:xfrm>
            <a:off x="0" y="2182680"/>
            <a:ext cx="34923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9581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ROTTERDAM: 170 NATIONALITI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2" name="Picture 5" descr="C:\Documents and Settings\Rene de Bot\Mijn documenten\0.1. Mijn afbeeldingen\aboutaleb 2.jpg"/>
          <p:cNvPicPr/>
          <p:nvPr/>
        </p:nvPicPr>
        <p:blipFill>
          <a:blip r:embed="rId1"/>
          <a:stretch/>
        </p:blipFill>
        <p:spPr>
          <a:xfrm>
            <a:off x="3855960" y="1860480"/>
            <a:ext cx="2657520" cy="1724040"/>
          </a:xfrm>
          <a:prstGeom prst="rect">
            <a:avLst/>
          </a:prstGeom>
          <a:ln w="0">
            <a:noFill/>
          </a:ln>
        </p:spPr>
      </p:pic>
      <p:sp>
        <p:nvSpPr>
          <p:cNvPr id="273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Documents and Settings\Rene de Bot\Mijn documenten\0.1. Mijn afbeeldingen\rotterdam achterbuurt 1.jpg"/>
          <p:cNvPicPr/>
          <p:nvPr/>
        </p:nvPicPr>
        <p:blipFill>
          <a:blip r:embed="rId2"/>
          <a:stretch/>
        </p:blipFill>
        <p:spPr>
          <a:xfrm>
            <a:off x="4716360" y="4259160"/>
            <a:ext cx="3665520" cy="2092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Documents and Settings\Rene de Bot\Mijn documenten\0.1. Mijn afbeeldingen\moderne flat.jpg"/>
          <p:cNvPicPr/>
          <p:nvPr/>
        </p:nvPicPr>
        <p:blipFill>
          <a:blip r:embed="rId3"/>
          <a:stretch/>
        </p:blipFill>
        <p:spPr>
          <a:xfrm>
            <a:off x="284040" y="1125360"/>
            <a:ext cx="3387960" cy="316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C:\Documents and Settings\Rene de Bot\Mijn documenten\0.1. Mijn afbeeldingen\hooligans.jpg"/>
          <p:cNvPicPr/>
          <p:nvPr/>
        </p:nvPicPr>
        <p:blipFill>
          <a:blip r:embed="rId4"/>
          <a:stretch/>
        </p:blipFill>
        <p:spPr>
          <a:xfrm>
            <a:off x="826920" y="4581360"/>
            <a:ext cx="2441880" cy="1584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Rene de Bot\Pictures\powerpoint materiaal\orthodoxe kerk.jpg"/>
          <p:cNvPicPr/>
          <p:nvPr/>
        </p:nvPicPr>
        <p:blipFill>
          <a:blip r:embed="rId5"/>
          <a:stretch/>
        </p:blipFill>
        <p:spPr>
          <a:xfrm>
            <a:off x="7020000" y="111744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7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OME DEMOGRAPHIC INFORM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12720" y="2060280"/>
            <a:ext cx="81532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6.000.000 inhabitan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3.600.000 childre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50.000 childcare clients ( 4,5%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( 7 %).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41320" y="-15840"/>
            <a:ext cx="7958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MOZES IN THE WOODEN BASKE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2" name="Picture 2" descr="C:\Users\Rene de Bot\Pictures\powerpoint materiaal\rembrandt_mozes_mandje.jpg"/>
          <p:cNvPicPr/>
          <p:nvPr/>
        </p:nvPicPr>
        <p:blipFill>
          <a:blip r:embed="rId1"/>
          <a:stretch/>
        </p:blipFill>
        <p:spPr>
          <a:xfrm>
            <a:off x="1692360" y="1844640"/>
            <a:ext cx="62578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7160" y="333000"/>
            <a:ext cx="79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LORENCE 155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2" descr="C:\Users\Rene de Bot\Pictures\powerpoint materiaal\Spedale_degli_Innocenti 1.jpg"/>
          <p:cNvPicPr/>
          <p:nvPr/>
        </p:nvPicPr>
        <p:blipFill>
          <a:blip r:embed="rId1"/>
          <a:stretch/>
        </p:blipFill>
        <p:spPr>
          <a:xfrm>
            <a:off x="1476360" y="1708200"/>
            <a:ext cx="68659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13:07Z</dcterms:created>
  <dc:creator>Bep van Sloten</dc:creator>
  <dc:description/>
  <dc:language>en-US</dc:language>
  <cp:lastModifiedBy>Rene de Bot</cp:lastModifiedBy>
  <dcterms:modified xsi:type="dcterms:W3CDTF">2013-01-10T15:57:42Z</dcterms:modified>
  <cp:revision>304</cp:revision>
  <dc:subject/>
  <dc:title>Dia 1</dc:title>
</cp:coreProperties>
</file>