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76F-3C47-41D7-98D3-9D5A90EF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A66-1A40-491A-B36C-31F10985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67B-A29E-49F7-B578-FAB3FF17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9A0-DA6C-45DE-8256-14E79FAA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65CA-2315-40A3-A3D9-BE9DCB7C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C3E5-51DE-4255-8B45-568D495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C19-318A-4703-991A-5454B67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380-CA46-4510-A6BC-B8227DD4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B79-E4CB-41F5-AB07-8A935DD2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551E-4C57-4EFF-B14C-7786B445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E37-8C2D-454F-9F63-33D3D9C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8AB-3D37-4BD7-B425-CACD07A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F068-F1FE-4311-9CDE-ADF16C0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8F54-1154-455D-8818-88A8A3B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F9A-C0C7-4B40-B958-452B5E80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0DA7-3DF1-48BE-BD8A-F6F5BD3E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F2B6-5E1C-44B5-99C2-CCBA191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2245-6575-4A35-AF6A-363CAF2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B17C-70F7-404D-B89E-433C3C6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66E0-EA8E-4D4A-88C6-4DB7AE74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EEE8-7C0D-49B5-98DA-F2145F00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548F-774D-4359-8A66-C9072E1E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5C9-B7F8-4741-9AE4-C0E3DB2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899B-DF97-48D3-9DB0-DF7617D6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8628-A518-46E6-A61A-9AEEA43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A6D4-F2DF-427C-81AF-D26FEEE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DD3D-3C40-4D86-81DB-20DA46C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7CDB-360D-4D7C-9696-2A9DB52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431F-1542-4B4D-BC95-724B622F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F5A4-E16F-46F8-BBA3-3892850F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BF96-A83E-416A-844B-D4B5EDFA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B4DB-A7C6-4804-AE0F-82D015ED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A07B-D127-4CD2-B51C-84E4FAD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0AC-F5B7-4B8E-AE13-B5E18B6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1930-2ABA-49C5-B433-6D84D8A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7CEB-7ACE-4658-BCCF-E40A2622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284E-7D98-4266-A6D2-40E22B7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F428-2EAD-4836-B874-3681572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C752-102D-40E5-9780-9C74F61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CA6F-4828-4660-AFBE-3C5F795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98B4-AE9E-40C5-B024-1D577E4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0E3F-930A-48E2-9718-07B7C594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CA41-BEB9-4D78-A2BB-F36A7AAB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A47A-968A-48F1-8654-AF9DA456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38C-1446-4F95-B628-4BF8C0A1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5366-B961-4888-820F-D5C2657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F0B2-E387-4679-90EC-C22DD614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9F12-B2AB-4017-9B00-61039055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DB8A-8CDE-4B38-949F-56285F2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DCE4-0DA0-48F8-88E0-362B43E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B5B0-5E75-4B9A-A481-17DFEBE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3EA2-5BDF-47D2-AEE8-B3CCA69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7180-0DC1-4AE5-8882-BA9EC58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32613-3B7C-40E2-814E-0BB0BC0A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A171-4302-4EB8-BD13-F437FF9E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11A-3097-4943-AF2B-AF044569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2904-6410-4C1D-8BB8-509A3C3D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795-2AED-4FBB-9BFF-006DCDB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FBD-91BC-4349-BB11-DCE7EFE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2D9-04B0-4198-9616-4E4ACFC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3ACA-BDF8-45C6-9BEA-1C92CA1B991A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82F-CF92-4837-A1E4-CF7B78BE98C5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152-1A09-4839-B00F-10D244F8F0FC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BCEC-C4F1-46ED-9230-02ED30FFF06E}" type="slidenum">
              <a:rPr b="0" lang="nl-N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BA2-EEE9-49E3-B805-8B32540B3194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7"/>
          </p:nvPr>
        </p:nvSpPr>
        <p:spPr>
          <a:xfrm>
            <a:off x="899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A8B-A444-4FC4-8848-0A8D5F5A4F1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Franklin Gothic Medium"/>
              </a:rPr>
              <a:t>FOSTER CARE IN THE NETHERLAND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RENE DE BOT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ECEMBER 2012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Tijdelijke aanduiding voor afbeelding 5" descr="C:\Users\Rene de Bot\Documents\Scan0005 - kopie.jpg"/>
          <p:cNvPicPr/>
          <p:nvPr/>
        </p:nvPicPr>
        <p:blipFill>
          <a:blip r:embed="rId1"/>
          <a:srcRect l="0" t="23612" r="0" b="23612"/>
          <a:stretch/>
        </p:blipFill>
        <p:spPr>
          <a:xfrm>
            <a:off x="-684360" y="0"/>
            <a:ext cx="52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57160" y="260280"/>
            <a:ext cx="79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BABY HATCH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Picture 3" descr="C:\Users\Rene de Bot\Pictures\italie\DSC00045.JPG"/>
          <p:cNvPicPr/>
          <p:nvPr/>
        </p:nvPicPr>
        <p:blipFill>
          <a:blip r:embed="rId1"/>
          <a:stretch/>
        </p:blipFill>
        <p:spPr>
          <a:xfrm>
            <a:off x="1547640" y="1557360"/>
            <a:ext cx="3587760" cy="478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Rene de Bot\Pictures\powerpoint materiaal\babywiege.jpg"/>
          <p:cNvPicPr/>
          <p:nvPr/>
        </p:nvPicPr>
        <p:blipFill>
          <a:blip r:embed="rId2"/>
          <a:stretch/>
        </p:blipFill>
        <p:spPr>
          <a:xfrm>
            <a:off x="6443640" y="5229360"/>
            <a:ext cx="247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838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Rene de Bot\Mijn documenten\0.1. Mijn afbeeldingen\weeshuis brielle.jpg"/>
          <p:cNvPicPr/>
          <p:nvPr/>
        </p:nvPicPr>
        <p:blipFill>
          <a:blip r:embed="rId1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Rene de Bot\Mijn documenten\0.1. Mijn afbeeldingen\catharijnekerk.png"/>
          <p:cNvPicPr/>
          <p:nvPr/>
        </p:nvPicPr>
        <p:blipFill>
          <a:blip r:embed="rId2"/>
          <a:stretch/>
        </p:blipFill>
        <p:spPr>
          <a:xfrm>
            <a:off x="179280" y="476280"/>
            <a:ext cx="3811680" cy="5081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C:\Users\Rene de Bot\Pictures\powerpoint materiaal\oliver twist.jpg"/>
          <p:cNvPicPr/>
          <p:nvPr/>
        </p:nvPicPr>
        <p:blipFill>
          <a:blip r:embed="rId3"/>
          <a:stretch/>
        </p:blipFill>
        <p:spPr>
          <a:xfrm>
            <a:off x="6591240" y="1125360"/>
            <a:ext cx="2551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958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8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4" descr="weeshuis"/>
          <p:cNvPicPr/>
          <p:nvPr/>
        </p:nvPicPr>
        <p:blipFill>
          <a:blip r:embed="rId1"/>
          <a:stretch/>
        </p:blipFill>
        <p:spPr>
          <a:xfrm>
            <a:off x="-324000" y="1628640"/>
            <a:ext cx="982836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96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0" name="Picture 4" descr="ifco2013"/>
          <p:cNvPicPr/>
          <p:nvPr/>
        </p:nvPicPr>
        <p:blipFill>
          <a:blip r:embed="rId1"/>
          <a:stretch/>
        </p:blipFill>
        <p:spPr>
          <a:xfrm>
            <a:off x="2197080" y="1100160"/>
            <a:ext cx="47721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Picture 9" descr="vsl"/>
          <p:cNvPicPr/>
          <p:nvPr/>
        </p:nvPicPr>
        <p:blipFill>
          <a:blip r:embed="rId1"/>
          <a:stretch/>
        </p:blipFill>
        <p:spPr>
          <a:xfrm>
            <a:off x="3414600" y="9810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juul"/>
          <p:cNvPicPr/>
          <p:nvPr/>
        </p:nvPicPr>
        <p:blipFill>
          <a:blip r:embed="rId2"/>
          <a:stretch/>
        </p:blipFill>
        <p:spPr>
          <a:xfrm>
            <a:off x="6443640" y="184464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dijk"/>
          <p:cNvPicPr/>
          <p:nvPr/>
        </p:nvPicPr>
        <p:blipFill>
          <a:blip r:embed="rId3"/>
          <a:stretch/>
        </p:blipFill>
        <p:spPr>
          <a:xfrm>
            <a:off x="900000" y="2428920"/>
            <a:ext cx="2362320" cy="2012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sita"/>
          <p:cNvPicPr/>
          <p:nvPr/>
        </p:nvPicPr>
        <p:blipFill>
          <a:blip r:embed="rId4"/>
          <a:stretch/>
        </p:blipFill>
        <p:spPr>
          <a:xfrm>
            <a:off x="4788000" y="4005360"/>
            <a:ext cx="2857320" cy="213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malmo"/>
          <p:cNvPicPr/>
          <p:nvPr/>
        </p:nvPicPr>
        <p:blipFill>
          <a:blip r:embed="rId5"/>
          <a:stretch/>
        </p:blipFill>
        <p:spPr>
          <a:xfrm>
            <a:off x="1547640" y="4708440"/>
            <a:ext cx="28576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FLEXUSJEUGDPLEI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700 employe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One organisation f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ily coach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 social wor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sidential car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9" name="Picture 6" descr="FlexusJeugdplein_logo_PMS klein"/>
          <p:cNvPicPr/>
          <p:nvPr/>
        </p:nvPicPr>
        <p:blipFill>
          <a:blip r:embed="rId1"/>
          <a:stretch/>
        </p:blipFill>
        <p:spPr>
          <a:xfrm>
            <a:off x="7740720" y="115920"/>
            <a:ext cx="1319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fco2006"/>
          <p:cNvPicPr/>
          <p:nvPr/>
        </p:nvPicPr>
        <p:blipFill>
          <a:blip r:embed="rId1"/>
          <a:stretch/>
        </p:blipFill>
        <p:spPr>
          <a:xfrm>
            <a:off x="900000" y="1741320"/>
            <a:ext cx="7704360" cy="511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ifco2010"/>
          <p:cNvPicPr/>
          <p:nvPr/>
        </p:nvPicPr>
        <p:blipFill>
          <a:blip r:embed="rId2"/>
          <a:stretch/>
        </p:blipFill>
        <p:spPr>
          <a:xfrm>
            <a:off x="7093080" y="-414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AMILY AND YOUTH CEN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3" name="Picture 2" descr="C:\Users\Rene de Bot\Pictures\powerpoint materiaal\cjg 1.jpg"/>
          <p:cNvPicPr/>
          <p:nvPr/>
        </p:nvPicPr>
        <p:blipFill>
          <a:blip r:embed="rId1"/>
          <a:stretch/>
        </p:blipFill>
        <p:spPr>
          <a:xfrm>
            <a:off x="4067280" y="2193840"/>
            <a:ext cx="3028680" cy="173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Rene de Bot\Pictures\powerpoint materiaal\cjg 2.jpg"/>
          <p:cNvPicPr/>
          <p:nvPr/>
        </p:nvPicPr>
        <p:blipFill>
          <a:blip r:embed="rId2"/>
          <a:stretch/>
        </p:blipFill>
        <p:spPr>
          <a:xfrm>
            <a:off x="1332000" y="21718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Rene de Bot\Pictures\powerpoint materiaal\cjg 4.jpg"/>
          <p:cNvPicPr/>
          <p:nvPr/>
        </p:nvPicPr>
        <p:blipFill>
          <a:blip r:embed="rId3"/>
          <a:stretch/>
        </p:blipFill>
        <p:spPr>
          <a:xfrm>
            <a:off x="5724360" y="5160960"/>
            <a:ext cx="2733840" cy="16765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6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4"/>
          <a:stretch/>
        </p:blipFill>
        <p:spPr>
          <a:xfrm>
            <a:off x="6804000" y="168120"/>
            <a:ext cx="19098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OUTPLACEMENT BECAUSE O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problems  ( psychiatry, drugs/alcohol addiction, domestic violence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problems (problematic behavior, low intelligence, psychiatry, handicap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mbination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(poverty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OUR MISSION STAT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922400" y="1100160"/>
            <a:ext cx="53215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Picture 2" descr="C:\Users\Rene de Bot\Pictures\powerpoint materiaal\sint 1.png"/>
          <p:cNvPicPr/>
          <p:nvPr/>
        </p:nvPicPr>
        <p:blipFill>
          <a:blip r:embed="rId1"/>
          <a:stretch/>
        </p:blipFill>
        <p:spPr>
          <a:xfrm>
            <a:off x="1116000" y="1184400"/>
            <a:ext cx="3384720" cy="22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Rene de Bot\Pictures\powerpoint materiaal\sint 2.jpg"/>
          <p:cNvPicPr/>
          <p:nvPr/>
        </p:nvPicPr>
        <p:blipFill>
          <a:blip r:embed="rId2"/>
          <a:stretch/>
        </p:blipFill>
        <p:spPr>
          <a:xfrm>
            <a:off x="550872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Rene de Bot\Pictures\powerpoint materiaal\sint 3.jpg"/>
          <p:cNvPicPr/>
          <p:nvPr/>
        </p:nvPicPr>
        <p:blipFill>
          <a:blip r:embed="rId3"/>
          <a:stretch/>
        </p:blipFill>
        <p:spPr>
          <a:xfrm>
            <a:off x="3352680" y="3903840"/>
            <a:ext cx="3389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6998" r="0" b="0"/>
          <a:stretch/>
        </p:blipFill>
        <p:spPr>
          <a:xfrm>
            <a:off x="2228760" y="2548080"/>
            <a:ext cx="4686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0" t="15455" r="0" b="18170"/>
          <a:stretch/>
        </p:blipFill>
        <p:spPr>
          <a:xfrm>
            <a:off x="1547640" y="1557360"/>
            <a:ext cx="8218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YPES OF FOSTER CARE</a:t>
            </a: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crisis intervention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4week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temporary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treatment and return home or other permanent s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permanent care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stays with foster family until 18 +: permanent family member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short break foster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weekend/ holiday 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9581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GE OF THE DUTCH FOSTER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1% are girls , 49% boy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afiek 5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57160" y="189000"/>
            <a:ext cx="7958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URATION OF THE PLAC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672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0 -   3 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34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 –   6 months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3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6 – 12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7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 – 2   years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5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onger than 2 year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Voluntary placement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limited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withdrawn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WHO MAKES THE DECISION FOR OUTPLACEMEN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r social workers residential care is easier  than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al educators: their opinion about foster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are   ( their experiences with  break dow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ack and quality of foster parents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0" name="Picture 2" descr="C:\Users\Rene de Bot\Pictures\montenegro\P1020373.JPG"/>
          <p:cNvPicPr/>
          <p:nvPr/>
        </p:nvPicPr>
        <p:blipFill>
          <a:blip r:embed="rId1"/>
          <a:stretch/>
        </p:blipFill>
        <p:spPr>
          <a:xfrm>
            <a:off x="2197080" y="1100160"/>
            <a:ext cx="6561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GATE KEEP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More knowledge for social workers about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eal care:  negative long term effec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When institutions are available, they will be use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So recruiting new foster families is only part of the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de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EVERY CHILD: STELA GRIGORAS AND HER COLLEAGUES ARE HONOUR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6000" spc="-1" strike="noStrike">
                <a:solidFill>
                  <a:srgbClr val="000000"/>
                </a:solidFill>
                <a:latin typeface="Franklin Gothic Medium"/>
              </a:rPr>
              <a:t>YES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OSTER CARE IS POSSIBLE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EAP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ND IN THE INTEREST OF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1100" spc="-1" strike="noStrike">
                <a:solidFill>
                  <a:srgbClr val="000000"/>
                </a:solidFill>
                <a:latin typeface="Franklin Gothic Medium"/>
              </a:rPr>
              <a:t>(ROTTERDAM: 1.000.000 INHABITANTS, 1200 FOSTER FAMILIES).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LOSING INSTITUTIONS: MOLDOVA EXAMP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build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employe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HANDOU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Give me your businesscard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r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E mail adres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2" descr="C:\Users\Rene de Bot\Pictures\powerpoint materiaal\bollenvelden.jpg"/>
          <p:cNvPicPr/>
          <p:nvPr/>
        </p:nvPicPr>
        <p:blipFill>
          <a:blip r:embed="rId1"/>
          <a:stretch/>
        </p:blipFill>
        <p:spPr>
          <a:xfrm>
            <a:off x="4289400" y="1878120"/>
            <a:ext cx="4491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Users\Rene de Bot\Pictures\powerpoint materiaal\molens.jpg"/>
          <p:cNvPicPr/>
          <p:nvPr/>
        </p:nvPicPr>
        <p:blipFill>
          <a:blip r:embed="rId2"/>
          <a:stretch/>
        </p:blipFill>
        <p:spPr>
          <a:xfrm>
            <a:off x="0" y="2182680"/>
            <a:ext cx="34923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958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ROTTERDAM: 170 NATIONALITI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5" descr="C:\Documents and Settings\Rene de Bot\Mijn documenten\0.1. Mijn afbeeldingen\aboutaleb 2.jpg"/>
          <p:cNvPicPr/>
          <p:nvPr/>
        </p:nvPicPr>
        <p:blipFill>
          <a:blip r:embed="rId1"/>
          <a:stretch/>
        </p:blipFill>
        <p:spPr>
          <a:xfrm>
            <a:off x="3855960" y="1860480"/>
            <a:ext cx="2657520" cy="1724040"/>
          </a:xfrm>
          <a:prstGeom prst="rect">
            <a:avLst/>
          </a:prstGeom>
          <a:ln w="0">
            <a:noFill/>
          </a:ln>
        </p:spPr>
      </p:pic>
      <p:sp>
        <p:nvSpPr>
          <p:cNvPr id="273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Rene de Bot\Mijn documenten\0.1. Mijn afbeeldingen\rotterdam achterbuurt 1.jpg"/>
          <p:cNvPicPr/>
          <p:nvPr/>
        </p:nvPicPr>
        <p:blipFill>
          <a:blip r:embed="rId2"/>
          <a:stretch/>
        </p:blipFill>
        <p:spPr>
          <a:xfrm>
            <a:off x="4716360" y="4259160"/>
            <a:ext cx="3665520" cy="2092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Documents and Settings\Rene de Bot\Mijn documenten\0.1. Mijn afbeeldingen\moderne flat.jpg"/>
          <p:cNvPicPr/>
          <p:nvPr/>
        </p:nvPicPr>
        <p:blipFill>
          <a:blip r:embed="rId3"/>
          <a:stretch/>
        </p:blipFill>
        <p:spPr>
          <a:xfrm>
            <a:off x="284040" y="1125360"/>
            <a:ext cx="3387960" cy="316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C:\Documents and Settings\Rene de Bot\Mijn documenten\0.1. Mijn afbeeldingen\hooligans.jpg"/>
          <p:cNvPicPr/>
          <p:nvPr/>
        </p:nvPicPr>
        <p:blipFill>
          <a:blip r:embed="rId4"/>
          <a:stretch/>
        </p:blipFill>
        <p:spPr>
          <a:xfrm>
            <a:off x="826920" y="4581360"/>
            <a:ext cx="24418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Rene de Bot\Pictures\powerpoint materiaal\orthodoxe kerk.jpg"/>
          <p:cNvPicPr/>
          <p:nvPr/>
        </p:nvPicPr>
        <p:blipFill>
          <a:blip r:embed="rId5"/>
          <a:stretch/>
        </p:blipFill>
        <p:spPr>
          <a:xfrm>
            <a:off x="7020000" y="111744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ME DEMOGRAPHIC INFORM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6.000.000 inhabitan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.600.000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50.000 childcare clients ( 4,5%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( 7 %).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41320" y="-15840"/>
            <a:ext cx="7958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MOZES IN THE WOODEN BASKE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C:\Users\Rene de Bot\Pictures\powerpoint materiaal\rembrandt_mozes_mandje.jpg"/>
          <p:cNvPicPr/>
          <p:nvPr/>
        </p:nvPicPr>
        <p:blipFill>
          <a:blip r:embed="rId1"/>
          <a:stretch/>
        </p:blipFill>
        <p:spPr>
          <a:xfrm>
            <a:off x="1692360" y="1844640"/>
            <a:ext cx="6257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7160" y="333000"/>
            <a:ext cx="79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LORENCE 15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2" descr="C:\Users\Rene de Bot\Pictures\powerpoint materiaal\Spedale_degli_Innocenti 1.jpg"/>
          <p:cNvPicPr/>
          <p:nvPr/>
        </p:nvPicPr>
        <p:blipFill>
          <a:blip r:embed="rId1"/>
          <a:stretch/>
        </p:blipFill>
        <p:spPr>
          <a:xfrm>
            <a:off x="1476360" y="17082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Rene de Bot</cp:lastModifiedBy>
  <dcterms:modified xsi:type="dcterms:W3CDTF">2013-01-10T15:57:42Z</dcterms:modified>
  <cp:revision>304</cp:revision>
  <dc:subject/>
  <dc:title>Dia 1</dc:title>
</cp:coreProperties>
</file>