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5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96DD-AF3B-444D-B015-452241E1D2D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F0F3-83FD-4A84-8F91-2C524AA33FA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ástupný symbol čísla snímky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B196-7A66-4B85-AEEC-0B3398798F2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2F4-97D5-4003-8EF5-B01A7953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3A8-1FC0-41DE-97F7-AD475111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761-ECA2-40AD-9055-454FD349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0B2-6953-4BCA-92C7-8182FD8C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1BC-468B-4033-8CBC-A4E9BD8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BAB-6C21-4D87-ADED-6B1E3318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912-4C86-499E-8DD7-89F4B12A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A1D-7E9B-4753-8873-C6CB4B88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E29-BF0A-4FAA-849E-B3DCE83B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D33-3BB3-4D8B-B5DD-AF3D9D54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223-32FB-4B9C-B1A7-02B1D0DD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526-22C4-427B-8FB4-8C92AF3C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538E-7E04-4E88-B7CD-6D1D1CB1F9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ystém starostlivosti o ohrozené deti a rodiny na Slovensku</a:t>
            </a:r>
            <a:br>
              <a:rPr sz="3200"/>
            </a:br>
            <a:br>
              <a:rPr sz="32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hDr. Slávka Bertová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stredie práce, sociálnych vecí a rodiny Bratislava,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bor sociálnoprávnej ochrany detí a sociálnej kurately,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aha 6.12.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660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Organizácia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ociálnoprávnej ochrany detí a sociálnej kurately (SPODaSK) na Sloven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atrenia SPODaSK vykonávaj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rgány štátnej správy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Ministerstvo práce, sociálnych vecí a rodi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Ústredie PSV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Úrady PSVR (46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Centrum pre medzinárodnoprávnu ochranu detí a mlád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) obec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138 mestských obcí, 2 752 vidieckych obcí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) vyšší územný celok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) akreditovaný subjek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) právnická osoba alebo fyzická osoba, ktorá vykonáva opatrenia sociálnoprávnej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chrany detí a sociálnej ku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"/>
          <p:cNvSpPr/>
          <p:nvPr/>
        </p:nvSpPr>
        <p:spPr>
          <a:xfrm>
            <a:off x="0" y="-523800"/>
            <a:ext cx="22096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upload.wikimedia.org/wikipedia/commons/8/84/Slovensko_kraje.png"/>
          <p:cNvPicPr/>
          <p:nvPr/>
        </p:nvPicPr>
        <p:blipFill>
          <a:blip r:embed="rId2"/>
          <a:stretch/>
        </p:blipFill>
        <p:spPr>
          <a:xfrm>
            <a:off x="324000" y="1428840"/>
            <a:ext cx="8820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očet rodín a detí v evidencii úradov PSVR, SPODaSK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 roku 201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dí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, ktoré boli vykonávané opatren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1 5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tí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, ktoré boli vykonávané opatren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84 0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všetkých rodín:  224 432 (z toho v priebehu roka nových 22 789 rod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všetkých detí: 338 085 (z toho v priebehu roka nových 31 802 d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kon opatrení SPODaSK pre ohrozené deti a rodiny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udzovan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miery ohrozenia dieťaťa (ohrozenie života, zdravia a priaznivého fyzického, psychického a sociálneho vývin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časná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a intervencia s cieľom zabezpečenia ochrany dieťať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ak je dieťa vážne ohrozené, je urýchlene vyňaté z rodinného prostred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nterdisciplinárna spoluprác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úrad PSVR, obec, škola, akreditovaný subjekt, zariadenie, lekár, polícia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alizácia opatrení SPODaSK sa plánuje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lá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ej prác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avidelné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hodnocova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osti vykonaných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sažiteľnosť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24 hodinová dostupnosť zamestnancov úradov PSVR na mobilnom telefóne (ak je život, zdravie, priaznivý vývin dieťaťa ohrozený alebo narušený umiestnenie do detského domova alebo krízového stredis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ložen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chovného opatrenia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eľ: navrátenie riadneho výchovného prostredia dieťaťa, zdravý vývin dieťať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pojenie detí a rodičov do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ít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napr. skupinové programy, sanácia rodinných pomerov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konávanie opatrení SPODaSK v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ariadeni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hradnej rodinnej starostl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28400" y="1600200"/>
            <a:ext cx="82580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chovné opatrenia uložené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úradom PSVR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odľa zákona č.305/2005 Z.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5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§ 12 ods.1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orgán SPODaSK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ozhoduje o výchovných opatreni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upozorneni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dieťaťa, rodičov alebo osoby, ktorá sa osobne stará o dieť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enie povinnosti dieťaťu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drobiť sa odbornej diagnostik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v špecializovanej ambulantnej starostliv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enie povinnosti dieťaťu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zúčastniť sa na liečbe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v špecializovanej ambulantnej starostliv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enie povinnosti dieťaťu zúčastniť sa n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výchovnom programe alebo sociálnom prog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chovné  opatrenia uložené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úradom PSVR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odľa zákona č.36/2005 Z.z. o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dľa § 37 ods.2 orgán SPODaSK rozhoduje o výchovných opatreni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napomenuti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dohľa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obmedzeni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iť povinnosť dieťaťu  a jeho rodičom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drobiť sa sociálnemu poradenstvu alebo odbornému poradenstvu v špecializovaných zariadeni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chovné  opatrenia uložené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údom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podľa zákona č.36/2005 Z.z. o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Súd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ozhoduje o VO ako úrad, ale navyše aj o VO, ktorými sa dieť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vyníma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z rodinného prostr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dľa § 37 ods.3 súd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odníme maloleté dieťa zo starostlivosti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rodičov alebo osôb, ktoré majú dieťa v starostlivosti a nariadi dieťať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byt v zariadení, ktoré plní úlohy odbornej diagnostiky, najdlhšie na 6 mesiac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byt v špecializovaných zariadeniach najdlhšie na 6 mesiac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byt v resocializačnom stredisku pre drogovo závisl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kupinové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účasťou sociálnej práce s dieťaťom a jeho rodinou je aj zapájanie dieťaťa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ýchovných skupinových progra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ociálnych skupinových progra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ýchovno-rekreačných skupinových progra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ieto programy organizuje alebo sprostredkúva úrad PSVaR nasledovnými form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mbulant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eloden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byto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 je to vhodné alebo účelné, možno ponúknuť účasť na programe rodičom alebo osobe, ktorá sa osobne stará o die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8400" y="1600200"/>
            <a:ext cx="82580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kladné údaje o Sloven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kladné pojmy a legisla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iele v oblasti sociálnoprávnej ochrany de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rganizác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oprávnej ochrany detí a sociálnej kurately (SPODaSK) na Sloven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čet rodín a detí v evidencii SPOD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kon opatrení SPOD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rodné projekty financované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borné pôsobenie na  odstránenie alebo zmiernenie problémov v správaní dieťaťa, alebo jeho porúch sprá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voj sociálnych zruč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nie spoločenských návykov, hygienických návy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bezpečenie vhodného využitia voľného času dieťať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00040" y="1500120"/>
          <a:ext cx="8229600" cy="4094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9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detí zapojených do skupinových program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zapojených rodičov, resp.osôb, ktoré sa osobne starajú o dieť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ný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álny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no-rekreačný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kupinové programy –za rok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anácia rodinného prostr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 sa s ozdravením, nápravou, zmenou výchovných, rodinných podmienok dieťaťa, zmenou spôsobu života, ako aj s uschopnením rodičov dieťaťa vykonávať rodičovskú rolu v súlade s akceptovateľnými spoločenskými norma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ide o výkon opatrení SPODaSK v prirodzenom rodinnom prostredí s cieľom úpravy rodinných pomerov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konáva úrad PSVR, v spolupráci s obcou a akreditovaným subjek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roku 2011 bolo ukončené poskytovanie starostlivosti v DeD z dôvodu sanácie v prípad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d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Mediá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borná metóda na uľahčenie riešenia konfliktných situácií v r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rámci úradov PSVR je najčastejšie využívaná v oblasti sociálnoprávnej ochrany detí a sociálnej kurately (zabezpečenie dohody pri problémovom realizovaní stretnutí rodičov s dieťaťom, v prípade spornej osobnej starostlivosti o dieťaťa, v prípade určenia vyživovacej povinnosti, v prípadoch konfliktov medzi rodičmi, rodičmi a deťmi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roku 2011 bola mediácia zrealizovaná v 253 prípad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stredníctvom mediátorov zapísaných v zozname mediátorov Ministerstva spravodlivosti, zamestnanci úradu PSVR,ktorí skončili odbornú akreditovanú prípravu mediátora a môžu  vykonávať mediáciu na riešenie sporov vo veciach sociálnoprávnej ochrany detí a sociálnej kura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Referáty poradensko-psychologických služi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ú organizačnou súčasťou  úradov PSVR, vykonávajú čin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 oblasti psychologického a iného odborného poradenstv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e a párové poradenstvo v oblasti osobných, partnerských, manželských, výchovných a rodinných problém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e a párové poradenstvo manželom/rodičom v procese rozvo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e (a skupinové) poradenstvo pre deti v rozvode rodič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radenská a psychologická pomoc dieťaťu pri úprave styku s rodičmi po rozv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radenstvo rodine s problémom domáceho násil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radenstvo rodine s problémom drogovej a inej závisl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ákladná poradensko-psychologická pomoc dieťaťu, rodičom a plnoletej fyzickej osobe v krízových situáciách, nešťastiach a závažných životných zmená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radenstvo rodičom, ktorý majú dieťa v N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 oblasti psychologickej prípravy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fyzických osôb na osvojenie a pestúnsku starostlivosť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fyzických osôb pre výkon zabezpečovania ústavnej starostlivosti, predbežného opatrenia a výchovného opatrenia v profesionálnej rodi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dieťaťa na osvojenie, na pestúnsku starostlivosť (v prípade, že detský domov nemá psychológ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á asistencia pri nadviazaní vzťahu medzi dieťaťom a budúcim osvojiteľom, (vrátane medzištátneho osvojenia) a pestúnom (v prípade ak detský domov nemá psychológ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i v oblasti psychodiagnostik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fyzickej osoby, ktorá má záujem stať sa pestúnom alebo osvojiteľom, za účelom: vyjadrenia k charakteristike osobnosti fyzickej osoby, vyjadrenia k jej predpokladom vychovávať dieťa, vyjadrenia k motivácii jej záujmu stať sa pestúnom alebo osvojiteľom, vyjadrenia k stabilite manželského vzťahu a rodinného prostred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a poskytovania informácií o psychickom vývine dieťaťa na účely vykonávania opatrení sociálnoprávnej ochr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kon orientačného psychologického zhodnotenia nadväzovania osobného vzťahu medzi dieťaťom a žiadateľom o NRS vrátane uvedenia názoru na vývoj tohto vzťah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kvality vzťahu manželov v rozvode, kvality  a dynamiky vzťahov v rodine, s ohľadom na najlepší záujem dieťať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napĺňania potrieb dieťaťa v záujme jeho harmonického vývinu, vrátane zisťovania názoru dieťaťa vo veciach, ktoré sa ho týkajú (napr. v prípade rozvodu rodičov, pri príprave na NRS, a i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osobnostných predpokladov neplnoletej matky s ohľadom na jej rodičovskú spôsobilosť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ykonávanie opatrení SPODaSK v zariadeni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tský do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tský domov pre maloletých bez sprievodu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pre dieťa, ktoré nie je občanom SR a nachádza sa na území SR bez sprievodu rodiča, alebo osoby ktorej bolo zvere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rízové stredisko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pre dieťa a rodinu, ak sa nachádzajú v krízovej životnej situác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esocializačné stredisko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pre deti a dospelých na prekonanie dôsledkov drogovej závislosti a na zapojenie sa do života v prirodzenom prostred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slovakregion.sk/files/images/vysoke_tatry.jpg"/>
          <p:cNvPicPr/>
          <p:nvPr/>
        </p:nvPicPr>
        <p:blipFill>
          <a:blip r:embed="rId2"/>
          <a:stretch/>
        </p:blipFill>
        <p:spPr>
          <a:xfrm>
            <a:off x="500040" y="214200"/>
            <a:ext cx="811368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Detský domov (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dočasne nahrádza dieťaťu jeho prirodzené rodinné prostredie alebo náhradné rodinné prostred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67 štátnych DeD, 20 neštátnych 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dieťa je do DeD umiestnené na základe rozhodnutia súdu o nariadení ústavnej starostlivosti, predbežného opatrenia, alebo výchovného opatreni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ri umiestnení sa rešpektujú súrodenecké väzby a rodičovské väz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 DeD sú umiestnené deti a mladí dospelí, mladý dospelý je plnoletá fyzická osoba do 25 rokov, pobyt je možné predĺžiť do 27 rok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Ovál 3"/>
          <p:cNvSpPr/>
          <p:nvPr/>
        </p:nvSpPr>
        <p:spPr>
          <a:xfrm>
            <a:off x="1500120" y="1785960"/>
            <a:ext cx="142884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Spol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4 631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etí a M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ál 4"/>
          <p:cNvSpPr/>
          <p:nvPr/>
        </p:nvSpPr>
        <p:spPr>
          <a:xfrm>
            <a:off x="4000680" y="1785960"/>
            <a:ext cx="1285560" cy="11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z toh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654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ál 5"/>
          <p:cNvSpPr/>
          <p:nvPr/>
        </p:nvSpPr>
        <p:spPr>
          <a:xfrm>
            <a:off x="6429240" y="1714680"/>
            <a:ext cx="1285920" cy="1071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z t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82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tí v 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ĺžnik 9"/>
          <p:cNvSpPr/>
          <p:nvPr/>
        </p:nvSpPr>
        <p:spPr>
          <a:xfrm>
            <a:off x="3714840" y="3571920"/>
            <a:ext cx="15001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etský do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Rovná spojovacia šípka 22"/>
          <p:cNvCxnSpPr/>
          <p:nvPr/>
        </p:nvCxnSpPr>
        <p:spPr>
          <a:xfrm>
            <a:off x="2214360" y="3000240"/>
            <a:ext cx="157212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0" name="Rovná spojovacia šípka 24"/>
          <p:cNvCxnSpPr/>
          <p:nvPr/>
        </p:nvCxnSpPr>
        <p:spPr>
          <a:xfrm flipH="1">
            <a:off x="4571640" y="3071520"/>
            <a:ext cx="7200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1" name="Rovná spojovacia šípka 26"/>
          <p:cNvCxnSpPr>
            <a:stCxn id="117" idx="4"/>
          </p:cNvCxnSpPr>
          <p:nvPr/>
        </p:nvCxnSpPr>
        <p:spPr>
          <a:xfrm flipH="1">
            <a:off x="5000760" y="2785680"/>
            <a:ext cx="2071800" cy="1500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38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Umiestňovanie podľa veku</a:t>
            </a:r>
            <a:br>
              <a:rPr sz="2200"/>
            </a:b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január – </a:t>
            </a:r>
            <a:r>
              <a:rPr b="1" lang="sk-SK" sz="2200" spc="-1" strike="noStrike">
                <a:solidFill>
                  <a:srgbClr val="ff0000"/>
                </a:solidFill>
                <a:latin typeface="Arial"/>
              </a:rPr>
              <a:t>septe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920" y="1357200"/>
          <a:ext cx="8785080" cy="586116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440000"/>
                <a:gridCol w="1439640"/>
                <a:gridCol w="1368720"/>
                <a:gridCol w="15127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1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4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10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5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a vi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á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uá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e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í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j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"/>
          <p:cNvGraphicFramePr/>
          <p:nvPr/>
        </p:nvGraphicFramePr>
        <p:xfrm>
          <a:off x="428760" y="214200"/>
          <a:ext cx="8020080" cy="566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214200"/>
                    <a:ext cx="802008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meranie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vrat dieťaťa do rodiny (napr. budovanie vzťahov dieťaťa s biologickou rodinou, podpora rodiny pri úprave rodinných, bytových pomerov..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erenie dieťaťa do NRS (napr. príprava dieťaťa na náhradnú rodinnú starostlivosť, podpora vzťahov s budúcimi náhradnými rodičmi, pomoc pri prekonávaní obáv z nových situácií, príprava dieťaťa na odchod z profesionálnej rodiny..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otrvanie v zariadení a príprava na osamostatnenie sa (v osobitných prípadoch, ak dieťa napr. odmieta NRS, napriek tomu, že sa s názorom dieťaťa pracovalo a sanácia rodiny nie je možn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 detí so zdravotným postihnut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pora maximálne možnej samostat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voj a uplatňovanie svojich schopností a zručností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členenie do spoloč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držiavanie kontaktu s rodinou, príbuzný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užívanie dobrovoľníckej čin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na osamostatnenie 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bezpečenie bývan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uprácu s agentúrami podporovaného zamestnania a 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patrenia SPOD a Sk finančného charakt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rodičom n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prav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detského domova (poskytuje ob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 na úpravu a obnovu rodinných pomerov dieťaťa, „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náci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“ (obec vyčl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na tvorbu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spo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 dieťa (poskytuje ob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dieťaťu n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trav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ak je dieťa mimo DeD na návšteve rodičov (poskytuje 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eľ: úprava a zachovanie vzťahov medzi dieťaťom a rodičom, podpora úpravy rodinných, bytových a sociálnych pom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2"/>
          <p:cNvGraphicFramePr/>
          <p:nvPr/>
        </p:nvGraphicFramePr>
        <p:xfrm>
          <a:off x="214200" y="285840"/>
          <a:ext cx="8683560" cy="613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85840"/>
                    <a:ext cx="868356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emerná dĺžka pobytu  dieťaťa a MD v DeD bola k 30.6.2012 v štátnych DeD 4,1 rokov, v neštátnych DeD 4,7 ro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ška priemerných bežných výdavkov na miesto v DeD v roku 2011 bola 10 996,- 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áhradná rodinná starostliv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dieťaťa na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záujemcov o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ľahčenie plnenia účelu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Základné údaje o Sloven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čet obyvateľov: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 5 405 338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(k 30.6.20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detí do 15 rokov: 15,3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sobášnosť a rozvodovosť v r. 2011: 25 623 sobášov, 11 102 rozvodov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odinný stav: 42,3 % slobodní, 41,3 % ženatí/vyda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hrozenie rizikom chudoby: 13 % obyvateľov (najviac ohrozené sú deti vo veku 0-17 rok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iemerná mesačná mzda zamestnanca: 786 E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íprava dieťaťa na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konáva: najčastejšie zariadenie (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oznámenie dieťaťa s možnosťou sprostredkovania N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ieťaťu je potrebné poskytnúť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ciálne poradenstv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obecné a objektívne informácie o účinkoch N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ú starostlivosť spôsobom primeraným veku a rozumovej vyspelosti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mietanie NRS dieťaťom – pracovať s názorom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sa nevyžaduje, ak to nie je účelné vzhľadom na nízky vek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íprava fyzickej osoby, ktorá má záujem o sprostredkovanie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konáva úrad PSVR, alebo akreditovaný su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sah najmenej 26 hod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ou, skupinovou, alebo kombinovanou for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ranie: NRS, vývin dieťaťa v NRS, práva dieťaťa na udržiavanie a rozvíjanie súrodeneckých väzieb, práva a povinnosti rodičov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tualizácia prípravy: ak nastala zmena pomerov u žiadateľa, ak uplynuli 2 roky, ak už je pestúnom alebo osvojiteľ, alebo už má zverené dieťa do predsovojiteľskej starostlivosti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30088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prostredkovanie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ieťa je zapísané v prehľade detí, ktorým treba sprostredkovať N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dospelá fyzická osoba je zapísaná v zozname žiadateľov (zapísaná je po splnení všetkých zákonných podmien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RS sprostredkúva 8 určených úradov PSVR,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k určený úrad PSVR zistí, že nevedie v zozname vhodného žiadateľa pre konkrétne dieťa, osloví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2 týždň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od zapísania dieťaťa do prehľadu) akreditované subjekty, ktoré pôsobia v územnom obvode úradu PSVR, ak tieto nesprostredkujú NRS, požiadajú o sprostredkovanie ďalšie určené úrady PSVR (7), tieto taktiež oslovia akreditované subjekty vo svojom územnom obvod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u detí, ktoré sú osvojiteľné, ak sa nepodarí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6 mesiac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d zapísania dieťaťa do prehľadu sprostredkovať NRS na Slovensku sprostredkúva sa medzištátne osvojenie prostredníctvom Centra pre MPO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Object 2"/>
          <p:cNvGraphicFramePr/>
          <p:nvPr/>
        </p:nvGraphicFramePr>
        <p:xfrm>
          <a:off x="285840" y="285840"/>
          <a:ext cx="8702640" cy="591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85840"/>
                    <a:ext cx="870264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roku 2011 bo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ávoplatným rozhodnutím súdu  osvojených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356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, do cudziny 30 d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o NOS zverených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 126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etí, celkovo k 31.12.2011 bolo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5 833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 v 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o pestúnskej starostlivosti zverených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34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, celkovo k 31.12.2011 bolo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 249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 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rodný projekt XXIV-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ovanie zamestnateľnosti profesionálnych rodi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Časový harmonogram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 :  36 mesiacov (XII/2008 do XI/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artneri projektu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: 89 detských domov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Rozpočet projektu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:    SR 2.008.042,65 €   BSK : 278.998,42 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ealizáci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dpory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, ktorá vychádza zo zákona č. 305/2005 Z. z. o sociálnoprávnej ochrane detí a o sociálnej kuratele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Cieľom projektu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je rozvoj profesionálnych rodín, vrátane prípravy na profesionálne vykonávanie náhradnej starostlivos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ivity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pagácia profesionálneho rodičov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bezpečenie prípravy na profesionálne vykonávanie náhradnej starostl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delávanie zamestnancov detských dom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borné vzdelávanie a starostlivosť o profesionálnych rodi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dzinárodná spoluprá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285840" y="2000160"/>
          <a:ext cx="8572320" cy="378612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1 Propagácia profesionálneho rodičovs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45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čno-propagačný materiál  /rok 2009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letáky 20000 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plagáty 4000 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brožúry 6000 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klamné spoty v TV (2)  (rok 20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klamné spoty – rozhlas (2) (r. 20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čné stretnutia vo všetkých krajoch SR (40). (r. 2009 / 20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428760" y="1785960"/>
          <a:ext cx="8215200" cy="472608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2: Zabezpečenie prípravy na profesionálne vykonávanie náhradnej starostliv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416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vatívne a efektívne metódy prípravy vykonávanej úradmi PSV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stavenie lektorského tí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elávanie členov tí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orba inovatívnych a efektívnych metód lektorským tí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bezpečenie prípravy na úradoch PSVR (199  účastníkov) – pracovné stretnut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dňové  (II.-III./2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ňové (V.-VI./2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ňové (II. Polrok 201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ebooky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 úrady PSVR – na účely prípravy (46 notebooko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 „nových“ profesionálnych rodičov (     440 notebooko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ttstudio.sk/photos/nabrezie-dunaja-bratislava-1578.jpg"/>
          <p:cNvPicPr/>
          <p:nvPr/>
        </p:nvPicPr>
        <p:blipFill>
          <a:blip r:embed="rId2"/>
          <a:stretch/>
        </p:blipFill>
        <p:spPr>
          <a:xfrm>
            <a:off x="285840" y="571680"/>
            <a:ext cx="8670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500040" y="2000160"/>
          <a:ext cx="8072640" cy="400068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3 : Vzdelávanie zamestnancov detských domov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96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žérske zručnosti pre riaditeľo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.-XI.2009 – 84 riaditeľ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ber zamestnancov pre riaditeľov a psychológ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.-III.2010 – 164 účastník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denie a motivácia zamestnancov pre riaditeľov, psychológov a sociálnych pracovní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II.-VI.2010 – 238 účastník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érie psychologických testov pre detské domo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mery pre detské domo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357120" y="1928880"/>
          <a:ext cx="8429760" cy="353844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4 : Odborné vzdelávanie a starostlivosť o profesionálnych rodič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80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é a odborné semináre pre profesionálnych rodič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. 2009 – VI. 2010 – 64 seminárov, 954 zúčastnených profesionálnych rodičo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vízia pre profesionálnych rodič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357120" y="2071800"/>
          <a:ext cx="8572680" cy="4071960"/>
        </p:xfrm>
        <a:graphic>
          <a:graphicData uri="http://schemas.openxmlformats.org/drawingml/2006/table">
            <a:tbl>
              <a:tblPr/>
              <a:tblGrid>
                <a:gridCol w="8572680"/>
              </a:tblGrid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5 : Medzinárodná spoluprá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34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hraničné pracovné cesty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 2009 – Poľ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ár 2010 – Rakú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úl 2011 – Newcastle, Veľká Britá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2011 – Stockholm, Švéd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zinárodná ko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kt realizácie NP XX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Zvýšila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ovanosť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verejnosti o profesionálnom rodičovstve a 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záujem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o profesionálne rodičovst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2. 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čet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fesionálnych rodín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 profesionálnych rodičov zamestnaných v detských domovo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 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čet detí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miestnených v profesionálnych rodiná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. 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čet záujemcov o profesionálne rodičovstvo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ktorí absolvovali prípravu na PR na úradoch PSVR (v  roku 2009 – 332, v roku 2010 – 52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571680" y="2143080"/>
          <a:ext cx="7143480" cy="4397400"/>
        </p:xfrm>
        <a:graphic>
          <a:graphicData uri="http://schemas.openxmlformats.org/drawingml/2006/table">
            <a:tbl>
              <a:tblPr/>
              <a:tblGrid>
                <a:gridCol w="2071440"/>
                <a:gridCol w="1857600"/>
                <a:gridCol w="1714320"/>
                <a:gridCol w="1500120"/>
              </a:tblGrid>
              <a:tr h="171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ské domovy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ionálnych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ič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ionálnych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ín (P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detí a mladých dospelých v 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8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1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2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35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3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28760" y="2143080"/>
          <a:ext cx="8358120" cy="3467160"/>
        </p:xfrm>
        <a:graphic>
          <a:graphicData uri="http://schemas.openxmlformats.org/drawingml/2006/table">
            <a:tbl>
              <a:tblPr/>
              <a:tblGrid>
                <a:gridCol w="1419120"/>
                <a:gridCol w="6939000"/>
              </a:tblGrid>
              <a:tr h="142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er počtu detí v profesionálnych rodinách k celkovému počtu detí umiestnených v detských domovo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pravovaný Národný projekt deinštitucionalizácie náhradnej starostliv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armonogram realizácie projektu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012- 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vný cieľ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inštitucionalizácia  náhradnej starostlivosti vytváraním a rozvíjaním opatrení podporujúcich život deti v prirodzenom a náhradnom rodinnom prostredí a pokračovanie  v nahrádzaní inštitucionálnej náhradnej starostlivosti komunitnými form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pecifické ciele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valitnenie vykonávani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patrení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ciálnoprávnej ochrany detí a sociálnej kurately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 prirodzenom rodinnom prostredí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predchádzanie umiestňovania detí do inštitúc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pora a uľahčenie plnenia účel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áhradnej rodinnej starostlivosti a náhradnej osobnej starostliv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mplementácia princípov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einštitucionalizáci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oskytovania starostlivosti v detských domov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mplexná podpor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fesionálnych rod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yšovanie odbornosti a prehlbovanie zručností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amestnancov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rgánov sociálnoprávnej ochrany detí a sociálnej kurately a detských domov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kruhy pripravovaných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del manažmentu sanácie rodiny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vytvorenie 92 pracovných miest rodinných asistentov na úradoch PSVR a vzdelávanie zamestnancov  úrad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ora náhradných rodín a overenie podpory pestúnskej starostlivosti pr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ťažko umiestniteľné det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ora tvorby a implementác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ransformačných a deinštitucionalizačných plánov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ských domov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výšenie udržateľnosti a podpora špecializácie profesionálnych rodín vytvorením 23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entier podpory profesionálnych rodi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umanizácia a skvalitnenie poskytovania starostlivosti o deti a mladých dospelých  vrátane vzdelávanie pre odborný tím detských dom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tódy a formy práce s deťmi a mladými dospelý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Legisla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lovenská republika dôsledne dbá na dodržiavanie práv dieťaťa a zabezpečenie ochrany dieťaťa nevyhnutnej pre jeho blaho a rešpektujúcej jeho najlepší záujem podľa medzinárodného dohovoru -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hovor o právach dieťať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blematika sociálnoprávnej ochrany detí je upravená v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kone č.305/2005 Z.z. o sociálnoprávnej ochrane detí a o sociálnej kuratele, v zákone č. 36/2005 Z.z. o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pic>
        <p:nvPicPr>
          <p:cNvPr id="186" name="Diagram 5" descr=""/>
          <p:cNvPicPr/>
          <p:nvPr/>
        </p:nvPicPr>
        <p:blipFill>
          <a:blip r:embed="rId2"/>
          <a:stretch/>
        </p:blipFill>
        <p:spPr>
          <a:xfrm>
            <a:off x="407880" y="1700280"/>
            <a:ext cx="84679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pic>
        <p:nvPicPr>
          <p:cNvPr id="188" name="Diagram 3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6997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pic>
        <p:nvPicPr>
          <p:cNvPr id="190" name="Diagram 3" descr=""/>
          <p:cNvPicPr/>
          <p:nvPr/>
        </p:nvPicPr>
        <p:blipFill>
          <a:blip r:embed="rId2"/>
          <a:stretch/>
        </p:blipFill>
        <p:spPr>
          <a:xfrm>
            <a:off x="165240" y="1841400"/>
            <a:ext cx="87105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enjoyslovakiatours.com/wp-content/uploads/219-plte-orava.jpg"/>
          <p:cNvPicPr/>
          <p:nvPr/>
        </p:nvPicPr>
        <p:blipFill>
          <a:blip r:embed="rId2"/>
          <a:stretch/>
        </p:blipFill>
        <p:spPr>
          <a:xfrm>
            <a:off x="357120" y="214200"/>
            <a:ext cx="79200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Základné poj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oprávna ochr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or opatrení na zabezpeč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) ochrany dieťať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) výchovy a všestranného vývinu dieťaťa v jeho prirodzenom rodinnom prostred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) náhradného prostredia dieťaťu, ktoré nemôže by vychovávané vo vlastnej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ociálna kurat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 súbor opatrení na odstránenie, zmiernenie a zamedze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hlbovania alebo opakovania porúch psychického vývinu, fyzického výv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 sociálneho vývinu dieťaťa a plnoletej fyzickej osoby a poskytovanie pomoci v závislosti od závažnosti poruchy a situácie, v ktorej sa nachádza dieťa alebo plnole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cká oso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iele  v oblasti sociálnoprávnej ochrany det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víjať a skvalitňovať výkon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patrení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orujúcich život detí v 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oritn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 prirodzenom rodinn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ostr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to nie je možné v 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hradnom rodinn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ostr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1920" indent="-234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je potrebné dočasné umiestnenie dieťaťa 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detskom domov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uprednostňovať rodinné formy starostlivosti pred inštitucionálnou starostlivosť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0:04:21Z</dcterms:created>
  <dc:creator>UPSVAR</dc:creator>
  <dc:description/>
  <dc:language>en-US</dc:language>
  <cp:lastModifiedBy>sbertova</cp:lastModifiedBy>
  <dcterms:modified xsi:type="dcterms:W3CDTF">2012-12-12T14:43:29Z</dcterms:modified>
  <cp:revision>203</cp:revision>
  <dc:subject/>
  <dc:title>Národný projekt č. XIV  Cielené odborné vzdelávanie zamestnancov úradov práce, sociálnych vecí a rodiny na úsekoch sociálnych vecí a rodiny</dc:title>
</cp:coreProperties>
</file>