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7.wmf" ContentType="image/x-wmf"/>
  <Override PartName="/ppt/media/image15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6.jpeg" ContentType="image/jpeg"/>
  <Override PartName="/ppt/media/image11.jpeg" ContentType="image/jpeg"/>
  <Override PartName="/ppt/media/image13.png" ContentType="image/png"/>
  <Override PartName="/ppt/media/image8.wmf" ContentType="image/x-wmf"/>
  <Override PartName="/ppt/media/image14.png" ContentType="image/png"/>
  <Override PartName="/ppt/media/image9.wmf" ContentType="image/x-wmf"/>
  <Override PartName="/ppt/media/image5.png" ContentType="image/png"/>
  <Override PartName="/ppt/media/image10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C1A40-D937-4A68-815E-D971B91C8D16}" type="slidenum">
              <a:rPr b="0" lang="sk-S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E03CA-4B90-42E5-84C9-88A15E7A596A}" type="slidenum">
              <a:rPr b="0" lang="sk-S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Zástupný symbol čísla snímky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CA362-E493-4FEF-8608-A44350DA7E35}" type="slidenum">
              <a:rPr b="0" lang="sk-S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D0716-FB37-4B1D-92AE-C60CA1A77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7E0FE-C353-4A5D-AEBF-DB48D4C52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C9C8F-1AFB-401E-9A41-247270B28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60926-E18C-43C9-8CE0-CDA88F68F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DA3D4-5B46-42E3-A036-0318A4612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93229-2F9B-4DD3-A706-48C1310BF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B7566-952D-4AD3-A938-8BEF8411A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FC3DC-AD5A-4DEC-9D4C-A40797904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12662-4F7B-45E5-BEF5-CCACA100E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63E02-84C7-4628-9EF6-9D41F7738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41778-ACCF-4D80-BE31-F595D1C06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5A2EA-FEE3-411F-9D1E-B08FC7473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C9170-9BA7-4819-9C4C-569DF2E32F3C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76280"/>
            <a:ext cx="7772400" cy="36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Systém starostlivosti o ohrozené deti a rodiny na Slovensku</a:t>
            </a:r>
            <a:br>
              <a:rPr sz="3200"/>
            </a:br>
            <a:br>
              <a:rPr sz="3200"/>
            </a:b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PhDr. Slávka Bertová</a:t>
            </a:r>
            <a:br>
              <a:rPr sz="2400"/>
            </a:b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Ústredie práce, sociálnych vecí a rodiny Bratislava,</a:t>
            </a:r>
            <a:br>
              <a:rPr sz="2400"/>
            </a:b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odbor sociálnoprávnej ochrany detí a sociálnej kurately,</a:t>
            </a:r>
            <a:br>
              <a:rPr sz="2400"/>
            </a:b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raha 6.12.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5660640"/>
            <a:ext cx="640080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4" descr="hlavicka power pointu"/>
          <p:cNvPicPr/>
          <p:nvPr/>
        </p:nvPicPr>
        <p:blipFill>
          <a:blip r:embed="rId1"/>
          <a:stretch/>
        </p:blipFill>
        <p:spPr>
          <a:xfrm>
            <a:off x="179280" y="189000"/>
            <a:ext cx="8785440" cy="19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28400" y="1599840"/>
            <a:ext cx="8258040" cy="43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 u="sng">
                <a:solidFill>
                  <a:srgbClr val="000000"/>
                </a:solidFill>
                <a:uFillTx/>
                <a:latin typeface="Arial"/>
              </a:rPr>
              <a:t>Organizácia</a:t>
            </a:r>
            <a:r>
              <a:rPr b="0" lang="sk-SK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sk-SK" sz="2400" spc="-1" strike="noStrike" u="sng">
                <a:solidFill>
                  <a:srgbClr val="000000"/>
                </a:solidFill>
                <a:uFillTx/>
                <a:latin typeface="Arial"/>
              </a:rPr>
              <a:t>sociálnoprávnej ochrany detí a sociálnej kurately (SPODaSK) na Slovensk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Opatrenia SPODaSK vykonávaj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a)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orgány štátnej správy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1. Ministerstvo práce, sociálnych vecí a rodiny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2. Ústredie PSVR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3. Úrady PSVR (46)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4. Centrum pre medzinárodnoprávnu ochranu detí a mládež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4" descr="hlavicka power pointu"/>
          <p:cNvPicPr/>
          <p:nvPr/>
        </p:nvPicPr>
        <p:blipFill>
          <a:blip r:embed="rId1"/>
          <a:stretch/>
        </p:blipFill>
        <p:spPr>
          <a:xfrm>
            <a:off x="395280" y="260280"/>
            <a:ext cx="5043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0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b) obec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(138 mestských obcí, 2 752 vidieckych obcí)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c) vyšší územný celok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(8)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d) akreditovaný subjekt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e) právnická osoba alebo fyzická osoba, ktorá vykonáva opatrenia sociálnoprávnej 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ochrany detí a sociálnej kurate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24" descr="hlavicka power pointu"/>
          <p:cNvPicPr/>
          <p:nvPr/>
        </p:nvPicPr>
        <p:blipFill>
          <a:blip r:embed="rId1"/>
          <a:stretch/>
        </p:blipFill>
        <p:spPr>
          <a:xfrm>
            <a:off x="395280" y="260280"/>
            <a:ext cx="5043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4" descr="hlavicka power pointu"/>
          <p:cNvPicPr/>
          <p:nvPr/>
        </p:nvPicPr>
        <p:blipFill>
          <a:blip r:embed="rId1"/>
          <a:stretch/>
        </p:blipFill>
        <p:spPr>
          <a:xfrm>
            <a:off x="395280" y="260280"/>
            <a:ext cx="5043600" cy="1143000"/>
          </a:xfrm>
          <a:prstGeom prst="rect">
            <a:avLst/>
          </a:prstGeom>
          <a:ln w="0">
            <a:noFill/>
          </a:ln>
        </p:spPr>
      </p:pic>
      <p:sp>
        <p:nvSpPr>
          <p:cNvPr id="74" name="AutoShape 2"/>
          <p:cNvSpPr/>
          <p:nvPr/>
        </p:nvSpPr>
        <p:spPr>
          <a:xfrm>
            <a:off x="0" y="-523800"/>
            <a:ext cx="2209680" cy="10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642960" y="1571400"/>
            <a:ext cx="8229600" cy="40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6" descr="http://upload.wikimedia.org/wikipedia/commons/8/84/Slovensko_kraje.png"/>
          <p:cNvPicPr/>
          <p:nvPr/>
        </p:nvPicPr>
        <p:blipFill>
          <a:blip r:embed="rId2"/>
          <a:stretch/>
        </p:blipFill>
        <p:spPr>
          <a:xfrm>
            <a:off x="324000" y="1428840"/>
            <a:ext cx="8820000" cy="42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500040" y="1714320"/>
            <a:ext cx="8229600" cy="40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 u="sng">
                <a:solidFill>
                  <a:srgbClr val="000000"/>
                </a:solidFill>
                <a:uFillTx/>
                <a:latin typeface="Arial"/>
              </a:rPr>
              <a:t>Počet rodín a detí v evidencii úradov PSVR, SPODaSK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(v roku 2011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očet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rodín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pre, ktoré boli vykonávané opatrenia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121 553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očet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detí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pre, ktoré boli vykonávané opatrenia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184 07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očet všetkých rodín:  224 432 (z toho v priebehu roka nových 22 789 rodí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očet všetkých detí: 338 085 (z toho v priebehu roka nových 31 802 detí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24" descr="hlavicka power pointu"/>
          <p:cNvPicPr/>
          <p:nvPr/>
        </p:nvPicPr>
        <p:blipFill>
          <a:blip r:embed="rId1"/>
          <a:stretch/>
        </p:blipFill>
        <p:spPr>
          <a:xfrm>
            <a:off x="395280" y="260280"/>
            <a:ext cx="5043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0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 u="sng">
                <a:solidFill>
                  <a:srgbClr val="000000"/>
                </a:solidFill>
                <a:uFillTx/>
                <a:latin typeface="Arial"/>
              </a:rPr>
              <a:t>Výkon opatrení SPODaSK pre ohrozené deti a rodiny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posudzovanie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miery ohrozenia dieťaťa (ohrozenie života, zdravia a priaznivého fyzického, psychického a sociálneho vývinu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včasná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sociálna intervencia s cieľom zabezpečenia ochrany dieťaťa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, ak je dieťa vážne ohrozené, je urýchlene vyňaté z rodinného prostredia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interdisciplinárna spolupráca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(úrad PSVR, obec, škola, akreditovaný subjekt, zariadenie, lekár, polícia...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realizácia opatrení SPODaSK sa plánuje (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Plán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sociálnej práce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ravidelné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vyhodnocovanie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efektívnosti vykonaných opatr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24" descr="hlavicka power pointu"/>
          <p:cNvPicPr/>
          <p:nvPr/>
        </p:nvPicPr>
        <p:blipFill>
          <a:blip r:embed="rId1"/>
          <a:stretch/>
        </p:blipFill>
        <p:spPr>
          <a:xfrm>
            <a:off x="395280" y="260280"/>
            <a:ext cx="5043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0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-26496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dosažiteľnosť: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24 hodinová dostupnosť zamestnancov úradov PSVR na mobilnom telefóne (ak je život, zdravie, priaznivý vývin dieťaťa ohrozený alebo narušený umiestnenie do detského domova alebo krízového stredisk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uloženie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výchovného opatrenia,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cieľ: navrátenie riadneho výchovného prostredia dieťaťa, zdravý vývin dieťaťa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zapojenie detí a rodičov do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priorít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(napr. skupinové programy, sanácia rodinných pomerov..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vykonávanie opatrení SPODaSK v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zariadeni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sprostredkovanie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náhradnej rodinnej starostliv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24" descr="hlavicka power pointu"/>
          <p:cNvPicPr/>
          <p:nvPr/>
        </p:nvPicPr>
        <p:blipFill>
          <a:blip r:embed="rId1"/>
          <a:stretch/>
        </p:blipFill>
        <p:spPr>
          <a:xfrm>
            <a:off x="395280" y="260280"/>
            <a:ext cx="5043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28400" y="1600200"/>
            <a:ext cx="825804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5956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 u="sng">
                <a:solidFill>
                  <a:srgbClr val="000000"/>
                </a:solidFill>
                <a:uFillTx/>
                <a:latin typeface="Arial"/>
              </a:rPr>
              <a:t>Výchovné opatrenia uložené </a:t>
            </a:r>
            <a:r>
              <a:rPr b="1" lang="sk-SK" sz="2400" spc="-1" strike="noStrike" u="sng">
                <a:solidFill>
                  <a:srgbClr val="000000"/>
                </a:solidFill>
                <a:uFillTx/>
                <a:latin typeface="Arial"/>
              </a:rPr>
              <a:t>úradom PSVR </a:t>
            </a:r>
            <a:r>
              <a:rPr b="0" lang="sk-SK" sz="2400" spc="-1" strike="noStrike" u="sng">
                <a:solidFill>
                  <a:srgbClr val="000000"/>
                </a:solidFill>
                <a:uFillTx/>
                <a:latin typeface="Arial"/>
              </a:rPr>
              <a:t>podľa zákona č.305/2005 Z.z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956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§ 12 ods.1 </a:t>
            </a:r>
            <a:r>
              <a:rPr b="1" lang="sk-SK" sz="2200" spc="-1" strike="noStrike">
                <a:solidFill>
                  <a:srgbClr val="000000"/>
                </a:solidFill>
                <a:latin typeface="Arial"/>
              </a:rPr>
              <a:t>orgán SPODaSK </a:t>
            </a: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rozhoduje o výchovných opatreniach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59560" indent="-259560" algn="just">
              <a:spcBef>
                <a:spcPts val="5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200" spc="-1" strike="noStrike">
                <a:solidFill>
                  <a:srgbClr val="000000"/>
                </a:solidFill>
                <a:latin typeface="Arial"/>
              </a:rPr>
              <a:t>upozornenie</a:t>
            </a: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 dieťaťa, rodičov alebo osoby, ktorá sa osobne stará o dieťa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59560" indent="-259560" algn="just">
              <a:spcBef>
                <a:spcPts val="5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uloženie povinnosti dieťaťu </a:t>
            </a:r>
            <a:r>
              <a:rPr b="1" lang="sk-SK" sz="2200" spc="-1" strike="noStrike">
                <a:solidFill>
                  <a:srgbClr val="000000"/>
                </a:solidFill>
                <a:latin typeface="Arial"/>
              </a:rPr>
              <a:t>podrobiť sa odbornej diagnostike</a:t>
            </a: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 v špecializovanej ambulantnej starostlivost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59560" indent="-259560" algn="just">
              <a:spcBef>
                <a:spcPts val="5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uloženie povinnosti dieťaťu </a:t>
            </a:r>
            <a:r>
              <a:rPr b="1" lang="sk-SK" sz="2200" spc="-1" strike="noStrike">
                <a:solidFill>
                  <a:srgbClr val="000000"/>
                </a:solidFill>
                <a:latin typeface="Arial"/>
              </a:rPr>
              <a:t>zúčastniť sa na liečbe </a:t>
            </a: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v špecializovanej ambulantnej starostlivost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59560" indent="-259560" algn="just">
              <a:spcBef>
                <a:spcPts val="5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uloženie povinnosti dieťaťu zúčastniť sa na </a:t>
            </a:r>
            <a:r>
              <a:rPr b="1" lang="sk-SK" sz="2200" spc="-1" strike="noStrike">
                <a:solidFill>
                  <a:srgbClr val="000000"/>
                </a:solidFill>
                <a:latin typeface="Arial"/>
              </a:rPr>
              <a:t>výchovnom programe alebo sociálnom progra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5956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24" descr="hlavicka power pointu"/>
          <p:cNvPicPr/>
          <p:nvPr/>
        </p:nvPicPr>
        <p:blipFill>
          <a:blip r:embed="rId1"/>
          <a:stretch/>
        </p:blipFill>
        <p:spPr>
          <a:xfrm>
            <a:off x="395280" y="260280"/>
            <a:ext cx="5043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84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62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 u="sng">
                <a:solidFill>
                  <a:srgbClr val="000000"/>
                </a:solidFill>
                <a:uFillTx/>
                <a:latin typeface="Arial"/>
              </a:rPr>
              <a:t>Výchovné  opatrenia uložené </a:t>
            </a:r>
            <a:r>
              <a:rPr b="1" lang="sk-SK" sz="2400" spc="-1" strike="noStrike" u="sng">
                <a:solidFill>
                  <a:srgbClr val="000000"/>
                </a:solidFill>
                <a:uFillTx/>
                <a:latin typeface="Arial"/>
              </a:rPr>
              <a:t>úradom PSVR </a:t>
            </a:r>
            <a:r>
              <a:rPr b="0" lang="sk-SK" sz="2400" spc="-1" strike="noStrike" u="sng">
                <a:solidFill>
                  <a:srgbClr val="000000"/>
                </a:solidFill>
                <a:uFillTx/>
                <a:latin typeface="Arial"/>
              </a:rPr>
              <a:t>podľa zákona č.36/2005 Z.z. o rod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208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Podľa § 37 ods.2 orgán SPODaSK rozhoduje o výchovných opatreniach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 algn="just">
              <a:spcBef>
                <a:spcPts val="5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200" spc="-1" strike="noStrike">
                <a:solidFill>
                  <a:srgbClr val="000000"/>
                </a:solidFill>
                <a:latin typeface="Arial"/>
              </a:rPr>
              <a:t>napomenutie</a:t>
            </a: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 algn="just">
              <a:spcBef>
                <a:spcPts val="5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200" spc="-1" strike="noStrike">
                <a:solidFill>
                  <a:srgbClr val="000000"/>
                </a:solidFill>
                <a:latin typeface="Arial"/>
              </a:rPr>
              <a:t>dohľad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 algn="just">
              <a:spcBef>
                <a:spcPts val="5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200" spc="-1" strike="noStrike">
                <a:solidFill>
                  <a:srgbClr val="000000"/>
                </a:solidFill>
                <a:latin typeface="Arial"/>
              </a:rPr>
              <a:t>obmedzenie</a:t>
            </a: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 algn="just">
              <a:spcBef>
                <a:spcPts val="5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uložiť povinnosť dieťaťu  a jeho rodičom </a:t>
            </a:r>
            <a:r>
              <a:rPr b="1" lang="sk-SK" sz="2200" spc="-1" strike="noStrike">
                <a:solidFill>
                  <a:srgbClr val="000000"/>
                </a:solidFill>
                <a:latin typeface="Arial"/>
              </a:rPr>
              <a:t>podrobiť sa sociálnemu poradenstvu alebo odbornému poradenstvu v špecializovaných zariadeniac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208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24" descr="hlavicka power pointu"/>
          <p:cNvPicPr/>
          <p:nvPr/>
        </p:nvPicPr>
        <p:blipFill>
          <a:blip r:embed="rId1"/>
          <a:stretch/>
        </p:blipFill>
        <p:spPr>
          <a:xfrm>
            <a:off x="395280" y="260280"/>
            <a:ext cx="5043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99680" y="1600200"/>
            <a:ext cx="81867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62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 u="sng">
                <a:solidFill>
                  <a:srgbClr val="000000"/>
                </a:solidFill>
                <a:uFillTx/>
                <a:latin typeface="Arial"/>
              </a:rPr>
              <a:t>Výchovné  opatrenia uložené </a:t>
            </a:r>
            <a:r>
              <a:rPr b="1" lang="sk-SK" sz="2400" spc="-1" strike="noStrike" u="sng">
                <a:solidFill>
                  <a:srgbClr val="000000"/>
                </a:solidFill>
                <a:uFillTx/>
                <a:latin typeface="Arial"/>
              </a:rPr>
              <a:t>súdom</a:t>
            </a:r>
            <a:r>
              <a:rPr b="0" lang="sk-SK" sz="2400" spc="-1" strike="noStrike" u="sng">
                <a:solidFill>
                  <a:srgbClr val="000000"/>
                </a:solidFill>
                <a:uFillTx/>
                <a:latin typeface="Arial"/>
              </a:rPr>
              <a:t> podľa zákona č.36/2005 Z.z. o rod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208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200" spc="-1" strike="noStrike">
                <a:solidFill>
                  <a:srgbClr val="000000"/>
                </a:solidFill>
                <a:latin typeface="Arial"/>
              </a:rPr>
              <a:t>Súd </a:t>
            </a: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rozhoduje o VO ako úrad, ale navyše aj o VO, ktorými sa dieťa </a:t>
            </a:r>
            <a:r>
              <a:rPr b="1" lang="sk-SK" sz="2200" spc="-1" strike="noStrike">
                <a:solidFill>
                  <a:srgbClr val="000000"/>
                </a:solidFill>
                <a:latin typeface="Arial"/>
              </a:rPr>
              <a:t>vyníma </a:t>
            </a: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z rodinného prostred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208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Podľa § 37 ods.3 súd </a:t>
            </a:r>
            <a:r>
              <a:rPr b="1" lang="sk-SK" sz="2200" spc="-1" strike="noStrike">
                <a:solidFill>
                  <a:srgbClr val="000000"/>
                </a:solidFill>
                <a:latin typeface="Arial"/>
              </a:rPr>
              <a:t>odníme maloleté dieťa zo starostlivosti</a:t>
            </a: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 rodičov alebo osôb, ktoré majú dieťa v starostlivosti a nariadi dieťaťu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 algn="just">
              <a:spcBef>
                <a:spcPts val="5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pobyt v zariadení, ktoré plní úlohy odbornej diagnostiky, najdlhšie na 6 mesiacov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 algn="just">
              <a:spcBef>
                <a:spcPts val="5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pobyt v špecializovaných zariadeniach najdlhšie na 6 mesiacov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 algn="just">
              <a:spcBef>
                <a:spcPts val="5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pobyt v resocializačnom stredisku pre drogovo závislýc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208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24" descr="hlavicka power pointu"/>
          <p:cNvPicPr/>
          <p:nvPr/>
        </p:nvPicPr>
        <p:blipFill>
          <a:blip r:embed="rId1"/>
          <a:stretch/>
        </p:blipFill>
        <p:spPr>
          <a:xfrm>
            <a:off x="395280" y="260280"/>
            <a:ext cx="5043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28400" y="1599840"/>
            <a:ext cx="825804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 u="sng">
                <a:solidFill>
                  <a:srgbClr val="000000"/>
                </a:solidFill>
                <a:uFillTx/>
                <a:latin typeface="Arial"/>
              </a:rPr>
              <a:t>Skupinové program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účasťou sociálnej práce s dieťaťom a jeho rodinou je aj zapájanie dieťaťa d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 algn="just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výchovných skupinových programo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 algn="just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sociálnych skupinových programo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 algn="just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výchovno-rekreačných skupinových programo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496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Tieto programy organizuje alebo sprostredkúva úrad PSVaR nasledovnými formami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 algn="just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Ambulantno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 algn="just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Celodenno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4960" indent="-264960" algn="just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Pobytovo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496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Ak je to vhodné alebo účelné, možno ponúknuť účasť na programe rodičom alebo osobe, ktorá sa osobne stará o dieť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24" descr="hlavicka power pointu"/>
          <p:cNvPicPr/>
          <p:nvPr/>
        </p:nvPicPr>
        <p:blipFill>
          <a:blip r:embed="rId1"/>
          <a:stretch/>
        </p:blipFill>
        <p:spPr>
          <a:xfrm>
            <a:off x="395280" y="260280"/>
            <a:ext cx="5043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28400" y="1600200"/>
            <a:ext cx="8258040" cy="41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Obsah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Základné údaje o Slovenk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Základné pojmy a legislatí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Ciele v oblasti sociálnoprávnej ochrany detí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Organizácia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sociálnoprávnej ochrany detí a sociálnej kurately (SPODaSK) na Slovensk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Počet rodín a detí v evidencii SPODa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Výkon opatrení SPODa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Národné projekty financované z ES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4" descr="hlavicka power pointu"/>
          <p:cNvPicPr/>
          <p:nvPr/>
        </p:nvPicPr>
        <p:blipFill>
          <a:blip r:embed="rId1"/>
          <a:stretch/>
        </p:blipFill>
        <p:spPr>
          <a:xfrm>
            <a:off x="395280" y="260280"/>
            <a:ext cx="5043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642960" y="1571400"/>
            <a:ext cx="8229600" cy="40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odborné pôsobenie na  odstránenie alebo zmiernenie problémov v správaní dieťaťa, alebo jeho porúch správan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rozvoj sociálnych zručností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získanie spoločenských návykov, hygienických návyk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zabezpečenie vhodného využitia voľného času dieťať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24" descr="hlavicka power pointu"/>
          <p:cNvPicPr/>
          <p:nvPr/>
        </p:nvPicPr>
        <p:blipFill>
          <a:blip r:embed="rId1"/>
          <a:stretch/>
        </p:blipFill>
        <p:spPr>
          <a:xfrm>
            <a:off x="395280" y="260280"/>
            <a:ext cx="5043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" name=""/>
          <p:cNvGraphicFramePr/>
          <p:nvPr/>
        </p:nvGraphicFramePr>
        <p:xfrm>
          <a:off x="500040" y="1500120"/>
          <a:ext cx="8229600" cy="409428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897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čet detí zapojených do skupinových programo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čet zapojených rodičov, resp.osôb, ktoré sa osobne starajú o dieť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03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ýchovný S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12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ociálny S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81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ýchovno-rekreačný S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Skupinové programy –za rok 20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0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 u="sng">
                <a:solidFill>
                  <a:srgbClr val="000000"/>
                </a:solidFill>
                <a:uFillTx/>
                <a:latin typeface="Arial"/>
              </a:rPr>
              <a:t>Sanácia rodinného prostre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pája sa s ozdravením, nápravou, zmenou výchovných, rodinných podmienok dieťaťa, zmenou spôsobu života, ako aj s uschopnením rodičov dieťaťa vykonávať rodičovskú rolu v súlade s akceptovateľnými spoločenskými normami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- ide o výkon opatrení SPODaSK v prirodzenom rodinnom prostredí s cieľom úpravy rodinných pomerov dieťať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vykonáva úrad PSVR, v spolupráci s obcou a akreditovaným subjekt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v roku 2011 bolo ukončené poskytovanie starostlivosti v DeD z dôvodu sanácie v prípade 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340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det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24" descr="hlavicka power pointu"/>
          <p:cNvPicPr/>
          <p:nvPr/>
        </p:nvPicPr>
        <p:blipFill>
          <a:blip r:embed="rId1"/>
          <a:stretch/>
        </p:blipFill>
        <p:spPr>
          <a:xfrm>
            <a:off x="395280" y="260280"/>
            <a:ext cx="5043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0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 u="sng">
                <a:solidFill>
                  <a:srgbClr val="000000"/>
                </a:solidFill>
                <a:uFillTx/>
                <a:latin typeface="Arial"/>
              </a:rPr>
              <a:t>Mediáci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odborná metóda na uľahčenie riešenia konfliktných situácií v rod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v rámci úradov PSVR je najčastejšie využívaná v oblasti sociálnoprávnej ochrany detí a sociálnej kurately (zabezpečenie dohody pri problémovom realizovaní stretnutí rodičov s dieťaťom, v prípade spornej osobnej starostlivosti o dieťaťa, v prípade určenia vyživovacej povinnosti, v prípadoch konfliktov medzi rodičmi, rodičmi a deťmi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v roku 2011 bola mediácia zrealizovaná v 253 prípado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prostredníctvom mediátorov zapísaných v zozname mediátorov Ministerstva spravodlivosti, zamestnanci úradu PSVR,ktorí skončili odbornú akreditovanú prípravu mediátora a môžu  vykonávať mediáciu na riešenie sporov vo veciach sociálnoprávnej ochrany detí a sociálnej kuratel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24" descr="hlavicka power pointu"/>
          <p:cNvPicPr/>
          <p:nvPr/>
        </p:nvPicPr>
        <p:blipFill>
          <a:blip r:embed="rId1"/>
          <a:stretch/>
        </p:blipFill>
        <p:spPr>
          <a:xfrm>
            <a:off x="395280" y="260280"/>
            <a:ext cx="5043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0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 u="sng">
                <a:solidFill>
                  <a:srgbClr val="000000"/>
                </a:solidFill>
                <a:uFillTx/>
                <a:latin typeface="Arial"/>
              </a:rPr>
              <a:t>Referáty poradensko-psychologických služie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ú organizačnou súčasťou  úradov PSVR, vykonávajú činnosti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v oblasti psychologického a iného odborného poradenstva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individuálne a párové poradenstvo v oblasti osobných, partnerských, manželských, výchovných a rodinných problémov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individuálne a párové poradenstvo manželom/rodičom v procese rozvodu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individuálne (a skupinové) poradenstvo pre deti v rozvode rodičov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poradenská a psychologická pomoc dieťaťu pri úprave styku s rodičmi po rozvode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24" descr="hlavicka power pointu"/>
          <p:cNvPicPr/>
          <p:nvPr/>
        </p:nvPicPr>
        <p:blipFill>
          <a:blip r:embed="rId1"/>
          <a:stretch/>
        </p:blipFill>
        <p:spPr>
          <a:xfrm>
            <a:off x="395280" y="260280"/>
            <a:ext cx="5043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0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psychologické poradenstvo rodine s problémom domáceho násilia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psychologické poradenstvo rodine s problémom drogovej a inej závislosti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základná poradensko-psychologická pomoc dieťaťu, rodičom a plnoletej fyzickej osobe v krízových situáciách, nešťastiach a závažných životných zmenách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psychologické poradenstvo rodičom, ktorý majú dieťa v N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24" descr="hlavicka power pointu"/>
          <p:cNvPicPr/>
          <p:nvPr/>
        </p:nvPicPr>
        <p:blipFill>
          <a:blip r:embed="rId1"/>
          <a:stretch/>
        </p:blipFill>
        <p:spPr>
          <a:xfrm>
            <a:off x="395280" y="260280"/>
            <a:ext cx="5043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0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v oblasti psychologickej prípravy: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príprava fyzických osôb na osvojenie a pestúnsku starostlivosť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príprava fyzických osôb pre výkon zabezpečovania ústavnej starostlivosti, predbežného opatrenia a výchovného opatrenia v profesionálnej rodine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príprava dieťaťa na osvojenie, na pestúnsku starostlivosť (v prípade, že detský domov nemá psychológa)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psychologická asistencia pri nadviazaní vzťahu medzi dieťaťom a budúcim osvojiteľom, (vrátane medzištátneho osvojenia) a pestúnom (v prípade ak detský domov nemá psychológa)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24" descr="hlavicka power pointu"/>
          <p:cNvPicPr/>
          <p:nvPr/>
        </p:nvPicPr>
        <p:blipFill>
          <a:blip r:embed="rId1"/>
          <a:stretch/>
        </p:blipFill>
        <p:spPr>
          <a:xfrm>
            <a:off x="395280" y="260280"/>
            <a:ext cx="5043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28400" y="1599840"/>
            <a:ext cx="8258040" cy="42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činnosti v oblasti psychodiagnostiky: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psychologické posúdenia fyzickej osoby, ktorá má záujem stať sa pestúnom alebo osvojiteľom, za účelom: vyjadrenia k charakteristike osobnosti fyzickej osoby, vyjadrenia k jej predpokladom vychovávať dieťa, vyjadrenia k motivácii jej záujmu stať sa pestúnom alebo osvojiteľom, vyjadrenia k stabilite manželského vzťahu a rodinného prostredia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psychologické posúdenia a poskytovania informácií o psychickom vývine dieťaťa na účely vykonávania opatrení sociálnoprávnej ochrany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výkon orientačného psychologického zhodnotenia nadväzovania osobného vzťahu medzi dieťaťom a žiadateľom o NRS vrátane uvedenia názoru na vývoj tohto vzťahu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24" descr="hlavicka power pointu"/>
          <p:cNvPicPr/>
          <p:nvPr/>
        </p:nvPicPr>
        <p:blipFill>
          <a:blip r:embed="rId1"/>
          <a:stretch/>
        </p:blipFill>
        <p:spPr>
          <a:xfrm>
            <a:off x="395280" y="260280"/>
            <a:ext cx="5043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0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psychologické posúdenia kvality vzťahu manželov v rozvode, kvality  a dynamiky vzťahov v rodine, s ohľadom na najlepší záujem dieťaťa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psychologické posúdenia napĺňania potrieb dieťaťa v záujme jeho harmonického vývinu, vrátane zisťovania názoru dieťaťa vo veciach, ktoré sa ho týkajú (napr. v prípade rozvodu rodičov, pri príprave na NRS, a i.)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psychologické posúdenia osobnostných predpokladov neplnoletej matky s ohľadom na jej rodičovskú spôsobilosť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24" descr="hlavicka power pointu"/>
          <p:cNvPicPr/>
          <p:nvPr/>
        </p:nvPicPr>
        <p:blipFill>
          <a:blip r:embed="rId1"/>
          <a:stretch/>
        </p:blipFill>
        <p:spPr>
          <a:xfrm>
            <a:off x="395280" y="260280"/>
            <a:ext cx="5043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0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 u="sng">
                <a:solidFill>
                  <a:srgbClr val="000000"/>
                </a:solidFill>
                <a:uFillTx/>
                <a:latin typeface="Arial"/>
              </a:rPr>
              <a:t>Vykonávanie opatrení SPODaSK v zariadeni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Detský dom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Detský domov pre maloletých bez sprievodu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(pre dieťa, ktoré nie je občanom SR a nachádza sa na území SR bez sprievodu rodiča, alebo osoby ktorej bolo zverené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Krízové stredisko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(pre dieťa a rodinu, ak sa nachádzajú v krízovej životnej situáci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Resocializačné stredisko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(pre deti a dospelých na prekonanie dôsledkov drogovej závislosti a na zapojenie sa do života v prirodzenom prostredí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24" descr="hlavicka power pointu"/>
          <p:cNvPicPr/>
          <p:nvPr/>
        </p:nvPicPr>
        <p:blipFill>
          <a:blip r:embed="rId1"/>
          <a:stretch/>
        </p:blipFill>
        <p:spPr>
          <a:xfrm>
            <a:off x="395280" y="260280"/>
            <a:ext cx="5043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" descr="http://www.slovakregion.sk/files/images/vysoke_tatry.jpg"/>
          <p:cNvPicPr/>
          <p:nvPr/>
        </p:nvPicPr>
        <p:blipFill>
          <a:blip r:embed="rId2"/>
          <a:stretch/>
        </p:blipFill>
        <p:spPr>
          <a:xfrm>
            <a:off x="500040" y="214200"/>
            <a:ext cx="8113680" cy="621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357120" y="1714680"/>
            <a:ext cx="822960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 u="sng">
                <a:solidFill>
                  <a:srgbClr val="000000"/>
                </a:solidFill>
                <a:uFillTx/>
                <a:latin typeface="Arial"/>
              </a:rPr>
              <a:t>Detský domov (D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100" spc="-1" strike="noStrike">
                <a:solidFill>
                  <a:srgbClr val="000000"/>
                </a:solidFill>
                <a:latin typeface="Arial"/>
              </a:rPr>
              <a:t>dočasne nahrádza dieťaťu jeho prirodzené rodinné prostredie alebo náhradné rodinné prostredi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100" spc="-1" strike="noStrike">
                <a:solidFill>
                  <a:srgbClr val="000000"/>
                </a:solidFill>
                <a:latin typeface="Arial"/>
              </a:rPr>
              <a:t>67 štátnych DeD, 20 neštátnych DeD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100" spc="-1" strike="noStrike">
                <a:solidFill>
                  <a:srgbClr val="000000"/>
                </a:solidFill>
                <a:latin typeface="Arial"/>
              </a:rPr>
              <a:t>dieťa je do DeD umiestnené na základe rozhodnutia súdu o nariadení ústavnej starostlivosti, predbežného opatrenia, alebo výchovného opatrenia,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100" spc="-1" strike="noStrike">
                <a:solidFill>
                  <a:srgbClr val="000000"/>
                </a:solidFill>
                <a:latin typeface="Arial"/>
              </a:rPr>
              <a:t>pri umiestnení sa rešpektujú súrodenecké väzby a rodičovské väzby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100" spc="-1" strike="noStrike">
                <a:solidFill>
                  <a:srgbClr val="000000"/>
                </a:solidFill>
                <a:latin typeface="Arial"/>
              </a:rPr>
              <a:t>v DeD sú umiestnené deti a mladí dospelí, mladý dospelý je plnoletá fyzická osoba do 25 rokov, pobyt je možné predĺžiť do 27 rokov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24" descr="hlavicka power pointu"/>
          <p:cNvPicPr/>
          <p:nvPr/>
        </p:nvPicPr>
        <p:blipFill>
          <a:blip r:embed="rId1"/>
          <a:stretch/>
        </p:blipFill>
        <p:spPr>
          <a:xfrm>
            <a:off x="395280" y="260280"/>
            <a:ext cx="5043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0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24" descr="hlavicka power pointu"/>
          <p:cNvPicPr/>
          <p:nvPr/>
        </p:nvPicPr>
        <p:blipFill>
          <a:blip r:embed="rId1"/>
          <a:stretch/>
        </p:blipFill>
        <p:spPr>
          <a:xfrm>
            <a:off x="395280" y="260280"/>
            <a:ext cx="5043600" cy="1143000"/>
          </a:xfrm>
          <a:prstGeom prst="rect">
            <a:avLst/>
          </a:prstGeom>
          <a:ln w="0">
            <a:noFill/>
          </a:ln>
        </p:spPr>
      </p:pic>
      <p:sp>
        <p:nvSpPr>
          <p:cNvPr id="115" name="Ovál 3"/>
          <p:cNvSpPr/>
          <p:nvPr/>
        </p:nvSpPr>
        <p:spPr>
          <a:xfrm>
            <a:off x="1500120" y="1785960"/>
            <a:ext cx="1428840" cy="114300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000000"/>
                </a:solidFill>
                <a:latin typeface="Arial"/>
              </a:rPr>
              <a:t>Spolu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4 631 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detí a M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Ovál 4"/>
          <p:cNvSpPr/>
          <p:nvPr/>
        </p:nvSpPr>
        <p:spPr>
          <a:xfrm>
            <a:off x="4000680" y="1785960"/>
            <a:ext cx="1285560" cy="112860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000000"/>
                </a:solidFill>
                <a:latin typeface="Arial"/>
              </a:rPr>
              <a:t>z toho 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654 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P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Ovál 5"/>
          <p:cNvSpPr/>
          <p:nvPr/>
        </p:nvSpPr>
        <p:spPr>
          <a:xfrm>
            <a:off x="6429240" y="1714680"/>
            <a:ext cx="1285920" cy="107136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000000"/>
                </a:solidFill>
                <a:latin typeface="Arial"/>
              </a:rPr>
              <a:t>z toh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1282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detí v P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Obdĺžnik 9"/>
          <p:cNvSpPr/>
          <p:nvPr/>
        </p:nvSpPr>
        <p:spPr>
          <a:xfrm>
            <a:off x="3714840" y="3571920"/>
            <a:ext cx="1500120" cy="12859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Detský dom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Rovná spojovacia šípka 22"/>
          <p:cNvCxnSpPr/>
          <p:nvPr/>
        </p:nvCxnSpPr>
        <p:spPr>
          <a:xfrm>
            <a:off x="2214360" y="3000240"/>
            <a:ext cx="1572120" cy="92952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120" name="Rovná spojovacia šípka 24"/>
          <p:cNvCxnSpPr/>
          <p:nvPr/>
        </p:nvCxnSpPr>
        <p:spPr>
          <a:xfrm flipH="1">
            <a:off x="4571640" y="3071520"/>
            <a:ext cx="72000" cy="57204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121" name="Rovná spojovacia šípka 26"/>
          <p:cNvCxnSpPr>
            <a:stCxn id="117" idx="4"/>
          </p:cNvCxnSpPr>
          <p:nvPr/>
        </p:nvCxnSpPr>
        <p:spPr>
          <a:xfrm flipH="1">
            <a:off x="5000760" y="2785680"/>
            <a:ext cx="2071800" cy="150084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435280" y="274680"/>
            <a:ext cx="33843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200" spc="-1" strike="noStrike">
                <a:solidFill>
                  <a:srgbClr val="000000"/>
                </a:solidFill>
                <a:latin typeface="Arial"/>
              </a:rPr>
              <a:t>Umiestňovanie podľa veku</a:t>
            </a:r>
            <a:br>
              <a:rPr sz="2200"/>
            </a:br>
            <a:r>
              <a:rPr b="1" lang="sk-SK" sz="2200" spc="-1" strike="noStrike">
                <a:solidFill>
                  <a:srgbClr val="000000"/>
                </a:solidFill>
                <a:latin typeface="Arial"/>
              </a:rPr>
              <a:t>január – </a:t>
            </a:r>
            <a:r>
              <a:rPr b="1" lang="sk-SK" sz="2200" spc="-1" strike="noStrike">
                <a:solidFill>
                  <a:srgbClr val="ff0000"/>
                </a:solidFill>
                <a:latin typeface="Arial"/>
              </a:rPr>
              <a:t>septemb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358920" y="1357200"/>
          <a:ext cx="8785080" cy="5861160"/>
        </p:xfrm>
        <a:graphic>
          <a:graphicData uri="http://schemas.openxmlformats.org/drawingml/2006/table">
            <a:tbl>
              <a:tblPr/>
              <a:tblGrid>
                <a:gridCol w="1512720"/>
                <a:gridCol w="1511280"/>
                <a:gridCol w="1440000"/>
                <a:gridCol w="1439640"/>
                <a:gridCol w="1368720"/>
                <a:gridCol w="1512720"/>
              </a:tblGrid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 – 1r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– 4r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– 10 r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 – 15 r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 a via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50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uá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50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bruár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50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ec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ríl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áj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ú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ú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41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gu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41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ptemb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111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OL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</a:tbl>
          </a:graphicData>
        </a:graphic>
      </p:graphicFrame>
      <p:pic>
        <p:nvPicPr>
          <p:cNvPr id="124" name="Picture 24" descr="hlavicka power pointu"/>
          <p:cNvPicPr/>
          <p:nvPr/>
        </p:nvPicPr>
        <p:blipFill>
          <a:blip r:embed="rId1"/>
          <a:stretch/>
        </p:blipFill>
        <p:spPr>
          <a:xfrm>
            <a:off x="395280" y="260280"/>
            <a:ext cx="504360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0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cs-CZ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126" name="Picture 24" descr="hlavicka power pointu"/>
          <p:cNvPicPr/>
          <p:nvPr/>
        </p:nvPicPr>
        <p:blipFill>
          <a:blip r:embed="rId1"/>
          <a:stretch/>
        </p:blipFill>
        <p:spPr>
          <a:xfrm>
            <a:off x="395280" y="260280"/>
            <a:ext cx="504360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7" name="Object 2"/>
          <p:cNvGraphicFramePr/>
          <p:nvPr/>
        </p:nvGraphicFramePr>
        <p:xfrm>
          <a:off x="428760" y="214200"/>
          <a:ext cx="8020080" cy="5667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8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28760" y="214200"/>
                    <a:ext cx="8020080" cy="566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0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Zameranie úloh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návrat dieťaťa do rodiny (napr. budovanie vzťahov dieťaťa s biologickou rodinou, podpora rodiny pri úprave rodinných, bytových pomerov...)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zverenie dieťaťa do NRS (napr. príprava dieťaťa na náhradnú rodinnú starostlivosť, podpora vzťahov s budúcimi náhradnými rodičmi, pomoc pri prekonávaní obáv z nových situácií, príprava dieťaťa na odchod z profesionálnej rodiny...)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zotrvanie v zariadení a príprava na osamostatnenie sa (v osobitných prípadoch, ak dieťa napr. odmieta NRS, napriek tomu, že sa s názorom dieťaťa pracovalo a sanácia rodiny nie je možná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24" descr="hlavicka power pointu"/>
          <p:cNvPicPr/>
          <p:nvPr/>
        </p:nvPicPr>
        <p:blipFill>
          <a:blip r:embed="rId1"/>
          <a:stretch/>
        </p:blipFill>
        <p:spPr>
          <a:xfrm>
            <a:off x="395280" y="260280"/>
            <a:ext cx="5043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0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u detí so zdravotným postihnutí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podpora maximálne možnej samostatnosti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rozvoj a uplatňovanie svojich schopností a zručností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začlenenie do spoločnosti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udržiavanie kontaktu s rodinou, príbuznými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využívanie dobrovoľníckej činnosti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príprava na osamostatnenie sa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zabezpečenie bývania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poluprácu s agentúrami podporovaného zamestnania a po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24" descr="hlavicka power pointu"/>
          <p:cNvPicPr/>
          <p:nvPr/>
        </p:nvPicPr>
        <p:blipFill>
          <a:blip r:embed="rId1"/>
          <a:stretch/>
        </p:blipFill>
        <p:spPr>
          <a:xfrm>
            <a:off x="395280" y="260280"/>
            <a:ext cx="5043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0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Opatrenia SPOD a Sk finančného charakte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ríspevok rodičom na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dopravu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do detského domova (poskytuje obe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ríspevok  na úpravu a obnovu rodinných pomerov dieťaťa, „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sanáciu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“ (obec vyčlení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ríspevok na tvorbu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úspor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pre dieťa (poskytuje obe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ríspevok dieťaťu na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stravu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, ak je dieťa mimo DeD na návšteve rodičov (poskytuje D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Cieľ: úprava a zachovanie vzťahov medzi dieťaťom a rodičom, podpora úpravy rodinných, bytových a sociálnych pomer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24" descr="hlavicka power pointu"/>
          <p:cNvPicPr/>
          <p:nvPr/>
        </p:nvPicPr>
        <p:blipFill>
          <a:blip r:embed="rId1"/>
          <a:stretch/>
        </p:blipFill>
        <p:spPr>
          <a:xfrm>
            <a:off x="395280" y="260280"/>
            <a:ext cx="5043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0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cs-CZ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136" name="Picture 24" descr="hlavicka power pointu"/>
          <p:cNvPicPr/>
          <p:nvPr/>
        </p:nvPicPr>
        <p:blipFill>
          <a:blip r:embed="rId1"/>
          <a:stretch/>
        </p:blipFill>
        <p:spPr>
          <a:xfrm>
            <a:off x="395280" y="260280"/>
            <a:ext cx="504360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7" name="Object 2"/>
          <p:cNvGraphicFramePr/>
          <p:nvPr/>
        </p:nvGraphicFramePr>
        <p:xfrm>
          <a:off x="214200" y="285840"/>
          <a:ext cx="8683560" cy="6137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8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4200" y="285840"/>
                    <a:ext cx="8683560" cy="613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0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Priemerná dĺžka pobytu  dieťaťa a MD v DeD bola k 30.6.2012 v štátnych DeD 4,1 rokov, v neštátnych DeD 4,7 rok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Výška priemerných bežných výdavkov na miesto v DeD v roku 2011 bola 10 996,- E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24" descr="hlavicka power pointu"/>
          <p:cNvPicPr/>
          <p:nvPr/>
        </p:nvPicPr>
        <p:blipFill>
          <a:blip r:embed="rId1"/>
          <a:stretch/>
        </p:blipFill>
        <p:spPr>
          <a:xfrm>
            <a:off x="395280" y="260280"/>
            <a:ext cx="5043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500040" y="1571400"/>
            <a:ext cx="8229600" cy="40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 u="sng">
                <a:solidFill>
                  <a:srgbClr val="000000"/>
                </a:solidFill>
                <a:uFillTx/>
                <a:latin typeface="Arial"/>
              </a:rPr>
              <a:t>Náhradná rodinná starostlivos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ríprava dieťaťa na N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ríprava záujemcov o N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sprostredkovan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uľahčenie plnenia účelu N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24" descr="hlavicka power pointu"/>
          <p:cNvPicPr/>
          <p:nvPr/>
        </p:nvPicPr>
        <p:blipFill>
          <a:blip r:embed="rId1"/>
          <a:stretch/>
        </p:blipFill>
        <p:spPr>
          <a:xfrm>
            <a:off x="395280" y="260280"/>
            <a:ext cx="5043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0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 u="sng">
                <a:solidFill>
                  <a:srgbClr val="000000"/>
                </a:solidFill>
                <a:uFillTx/>
                <a:latin typeface="Arial"/>
              </a:rPr>
              <a:t>Základné údaje o Slovenk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počet obyvateľov:</a:t>
            </a:r>
            <a:r>
              <a:rPr b="1" lang="sk-SK" sz="2200" spc="-1" strike="noStrike">
                <a:solidFill>
                  <a:srgbClr val="000000"/>
                </a:solidFill>
                <a:latin typeface="Arial"/>
              </a:rPr>
              <a:t> 5 405 338 </a:t>
            </a: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(k 30.6.2012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detí do 15 rokov: 15,3 %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sobášnosť a rozvodovosť v r. 2011: 25 623 sobášov, 11 102 rozvodov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rodinný stav: 42,3 % slobodní, 41,3 % ženatí/vydaté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ohrozenie rizikom chudoby: 13 % obyvateľov (najviac ohrozené sú deti vo veku 0-17 rokov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priemerná mesačná mzda zamestnanca: 786 Eur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4" descr="hlavicka power pointu"/>
          <p:cNvPicPr/>
          <p:nvPr/>
        </p:nvPicPr>
        <p:blipFill>
          <a:blip r:embed="rId1"/>
          <a:stretch/>
        </p:blipFill>
        <p:spPr>
          <a:xfrm>
            <a:off x="395280" y="260280"/>
            <a:ext cx="5043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500040" y="1571400"/>
            <a:ext cx="8229600" cy="40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 u="sng">
                <a:solidFill>
                  <a:srgbClr val="000000"/>
                </a:solidFill>
                <a:uFillTx/>
                <a:latin typeface="Arial"/>
              </a:rPr>
              <a:t>Príprava dieťaťa na N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vykonáva: najčastejšie zariadenie (D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oboznámenie dieťaťa s možnosťou sprostredkovania N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dieťaťu je potrebné poskytnúť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ociálne poradenstvo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všeobecné a objektívne informácie o účinkoch NR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psychologickú starostlivosť spôsobom primeraným veku a rozumovej vyspelosti dieťať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odmietanie NRS dieťaťom – pracovať s názorom dieťať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príprava sa nevyžaduje, ak to nie je účelné vzhľadom na nízky vek dieťať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24" descr="hlavicka power pointu"/>
          <p:cNvPicPr/>
          <p:nvPr/>
        </p:nvPicPr>
        <p:blipFill>
          <a:blip r:embed="rId1"/>
          <a:stretch/>
        </p:blipFill>
        <p:spPr>
          <a:xfrm>
            <a:off x="395280" y="260280"/>
            <a:ext cx="5043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500040" y="1571400"/>
            <a:ext cx="8229600" cy="40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 u="sng">
                <a:solidFill>
                  <a:srgbClr val="000000"/>
                </a:solidFill>
                <a:uFillTx/>
                <a:latin typeface="Arial"/>
              </a:rPr>
              <a:t>Príprava fyzickej osoby, ktorá má záujem o sprostredkovanie N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vykonáva úrad PSVR, alebo akreditovaný subjek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rozsah najmenej 26 hodí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individuálnou, skupinovou, alebo kombinovanou formo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zameranie: NRS, vývin dieťaťa v NRS, práva dieťaťa na udržiavanie a rozvíjanie súrodeneckých väzieb, práva a povinnosti rodičov dieťať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aktualizácia prípravy: ak nastala zmena pomerov u žiadateľa, ak uplynuli 2 roky, ak už je pestúnom alebo osvojiteľ, alebo už má zverené dieťa do predsovojiteľskej starostlivosti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24" descr="hlavicka power pointu"/>
          <p:cNvPicPr/>
          <p:nvPr/>
        </p:nvPicPr>
        <p:blipFill>
          <a:blip r:embed="rId1"/>
          <a:stretch/>
        </p:blipFill>
        <p:spPr>
          <a:xfrm>
            <a:off x="395280" y="260280"/>
            <a:ext cx="5043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28760" y="1642680"/>
            <a:ext cx="8300880" cy="418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 u="sng">
                <a:solidFill>
                  <a:srgbClr val="000000"/>
                </a:solidFill>
                <a:uFillTx/>
                <a:latin typeface="Arial"/>
              </a:rPr>
              <a:t>Sprostredkovanie N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dieťa je zapísané v prehľade detí, ktorým treba sprostredkovať N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- dospelá fyzická osoba je zapísaná v zozname žiadateľov (zapísaná je po splnení všetkých zákonných podmieno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NRS sprostredkúva 8 určených úradov PSVR, 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ak určený úrad PSVR zistí, že nevedie v zozname vhodného žiadateľa pre konkrétne dieťa, osloví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do 2 týždňov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(od zapísania dieťaťa do prehľadu) akreditované subjekty, ktoré pôsobia v územnom obvode úradu PSVR, ak tieto nesprostredkujú NRS, požiadajú o sprostredkovanie ďalšie určené úrady PSVR (7), tieto taktiež oslovia akreditované subjekty vo svojom územnom obvode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-  u detí, ktoré sú osvojiteľné, ak sa nepodarí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do 6 mesiacov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od zapísania dieťaťa do prehľadu sprostredkovať NRS na Slovensku sprostredkúva sa medzištátne osvojenie prostredníctvom Centra pre MPOD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24" descr="hlavicka power pointu"/>
          <p:cNvPicPr/>
          <p:nvPr/>
        </p:nvPicPr>
        <p:blipFill>
          <a:blip r:embed="rId1"/>
          <a:stretch/>
        </p:blipFill>
        <p:spPr>
          <a:xfrm>
            <a:off x="395280" y="260280"/>
            <a:ext cx="5043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0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24" descr="hlavicka power pointu"/>
          <p:cNvPicPr/>
          <p:nvPr/>
        </p:nvPicPr>
        <p:blipFill>
          <a:blip r:embed="rId1"/>
          <a:stretch/>
        </p:blipFill>
        <p:spPr>
          <a:xfrm>
            <a:off x="395280" y="260280"/>
            <a:ext cx="504360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1" name="Object 2"/>
          <p:cNvGraphicFramePr/>
          <p:nvPr/>
        </p:nvGraphicFramePr>
        <p:xfrm>
          <a:off x="285840" y="285840"/>
          <a:ext cx="8702640" cy="5919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2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85840" y="285840"/>
                    <a:ext cx="8702640" cy="591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0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V roku 2011 bolo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rávoplatným rozhodnutím súdu  osvojených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356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detí, do cudziny 30 det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do NOS zverených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1 126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detí, celkovo k 31.12.2011 bolo 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5 833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detí v N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do pestúnskej starostlivosti zverených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234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detí, celkovo k 31.12.2011 bolo 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2 249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detí v 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24" descr="hlavicka power pointu"/>
          <p:cNvPicPr/>
          <p:nvPr/>
        </p:nvPicPr>
        <p:blipFill>
          <a:blip r:embed="rId1"/>
          <a:stretch/>
        </p:blipFill>
        <p:spPr>
          <a:xfrm>
            <a:off x="395280" y="260280"/>
            <a:ext cx="5043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0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Národný projekt XXIV-2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Zvyšovanie zamestnateľnosti profesionálnych rodič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24" descr="hlavicka power pointu"/>
          <p:cNvPicPr/>
          <p:nvPr/>
        </p:nvPicPr>
        <p:blipFill>
          <a:blip r:embed="rId1"/>
          <a:stretch/>
        </p:blipFill>
        <p:spPr>
          <a:xfrm>
            <a:off x="395280" y="260280"/>
            <a:ext cx="5043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0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200" spc="-1" strike="noStrike">
                <a:solidFill>
                  <a:srgbClr val="000000"/>
                </a:solidFill>
                <a:latin typeface="Arial"/>
              </a:rPr>
              <a:t>Časový harmonogram</a:t>
            </a: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  :  36 mesiacov (XII/2008 do XI/2011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200" spc="-1" strike="noStrike">
                <a:solidFill>
                  <a:srgbClr val="000000"/>
                </a:solidFill>
                <a:latin typeface="Arial"/>
              </a:rPr>
              <a:t>Partneri projektu </a:t>
            </a: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: 89 detských domovov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200" spc="-1" strike="noStrike">
                <a:solidFill>
                  <a:srgbClr val="000000"/>
                </a:solidFill>
                <a:latin typeface="Arial"/>
              </a:rPr>
              <a:t>Rozpočet projektu </a:t>
            </a: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:    SR 2.008.042,65 €   BSK : 278.998,42 €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Realizácia </a:t>
            </a:r>
            <a:r>
              <a:rPr b="1" lang="sk-SK" sz="2200" spc="-1" strike="noStrike">
                <a:solidFill>
                  <a:srgbClr val="000000"/>
                </a:solidFill>
                <a:latin typeface="Arial"/>
              </a:rPr>
              <a:t>podpory</a:t>
            </a: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, ktorá vychádza zo zákona č. 305/2005 Z. z. o sociálnoprávnej ochrane detí a o sociálnej kuratele 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200" spc="-1" strike="noStrike">
                <a:solidFill>
                  <a:srgbClr val="000000"/>
                </a:solidFill>
                <a:latin typeface="Arial"/>
              </a:rPr>
              <a:t>Cieľom projektu </a:t>
            </a: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je rozvoj profesionálnych rodín, vrátane prípravy na profesionálne vykonávanie náhradnej starostlivosti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24" descr="hlavicka power pointu"/>
          <p:cNvPicPr/>
          <p:nvPr/>
        </p:nvPicPr>
        <p:blipFill>
          <a:blip r:embed="rId1"/>
          <a:stretch/>
        </p:blipFill>
        <p:spPr>
          <a:xfrm>
            <a:off x="395280" y="260280"/>
            <a:ext cx="5043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0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Aktivity N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ropagácia profesionálneho rodičovst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Zabezpečenie prípravy na profesionálne vykonávanie náhradnej starostliv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Vzdelávanie zamestnancov detských domov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Odborné vzdelávanie a starostlivosť o profesionálnych rodič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Medzinárodná spoluprá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24" descr="hlavicka power pointu"/>
          <p:cNvPicPr/>
          <p:nvPr/>
        </p:nvPicPr>
        <p:blipFill>
          <a:blip r:embed="rId1"/>
          <a:stretch/>
        </p:blipFill>
        <p:spPr>
          <a:xfrm>
            <a:off x="395280" y="260280"/>
            <a:ext cx="5043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24" descr="hlavicka power pointu"/>
          <p:cNvPicPr/>
          <p:nvPr/>
        </p:nvPicPr>
        <p:blipFill>
          <a:blip r:embed="rId1"/>
          <a:stretch/>
        </p:blipFill>
        <p:spPr>
          <a:xfrm>
            <a:off x="179280" y="189000"/>
            <a:ext cx="8785440" cy="1525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2" name=""/>
          <p:cNvGraphicFramePr/>
          <p:nvPr/>
        </p:nvGraphicFramePr>
        <p:xfrm>
          <a:off x="285840" y="2000160"/>
          <a:ext cx="8572320" cy="3786120"/>
        </p:xfrm>
        <a:graphic>
          <a:graphicData uri="http://schemas.openxmlformats.org/drawingml/2006/table">
            <a:tbl>
              <a:tblPr/>
              <a:tblGrid>
                <a:gridCol w="8572320"/>
              </a:tblGrid>
              <a:tr h="3319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ktivita 1 Propagácia profesionálneho rodičovstv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7ba0cd"/>
                      </a:solidFill>
                    </a:lnL>
                    <a:lnR w="5760">
                      <a:solidFill>
                        <a:srgbClr val="7ba0cd"/>
                      </a:solidFill>
                    </a:lnR>
                    <a:lnT w="5760">
                      <a:solidFill>
                        <a:srgbClr val="7ba0cd"/>
                      </a:solidFill>
                    </a:lnT>
                    <a:lnB w="5760">
                      <a:solidFill>
                        <a:srgbClr val="7ba0cd"/>
                      </a:solidFill>
                    </a:lnB>
                    <a:solidFill>
                      <a:srgbClr val="a7bfde"/>
                    </a:solidFill>
                  </a:tcPr>
                </a:tc>
              </a:tr>
              <a:tr h="34542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formačno-propagačný materiál  /rok 2009/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</a:t>
                      </a: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letáky 20000 k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</a:t>
                      </a: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plagáty 4000 k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</a:t>
                      </a: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brožúry 6000 k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klamné spoty v TV (2)  (rok 2009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klamné spoty – rozhlas (2) (r. 2009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formačné stretnutia vo všetkých krajoch SR (40). (r. 2009 / 2010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7ba0cd"/>
                      </a:solidFill>
                    </a:lnL>
                    <a:lnR w="5760">
                      <a:solidFill>
                        <a:srgbClr val="7ba0cd"/>
                      </a:solidFill>
                    </a:lnR>
                    <a:lnT w="5760">
                      <a:solidFill>
                        <a:srgbClr val="7ba0cd"/>
                      </a:solidFill>
                    </a:lnT>
                    <a:lnB w="5760">
                      <a:solidFill>
                        <a:srgbClr val="7ba0cd"/>
                      </a:solidFill>
                    </a:lnB>
                    <a:solidFill>
                      <a:srgbClr val="d3dfe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4" descr="hlavicka power pointu"/>
          <p:cNvPicPr/>
          <p:nvPr/>
        </p:nvPicPr>
        <p:blipFill>
          <a:blip r:embed="rId1"/>
          <a:stretch/>
        </p:blipFill>
        <p:spPr>
          <a:xfrm>
            <a:off x="179280" y="189000"/>
            <a:ext cx="8785440" cy="1525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4" name=""/>
          <p:cNvGraphicFramePr/>
          <p:nvPr/>
        </p:nvGraphicFramePr>
        <p:xfrm>
          <a:off x="428760" y="1785960"/>
          <a:ext cx="8215200" cy="4726080"/>
        </p:xfrm>
        <a:graphic>
          <a:graphicData uri="http://schemas.openxmlformats.org/drawingml/2006/table">
            <a:tbl>
              <a:tblPr/>
              <a:tblGrid>
                <a:gridCol w="8215200"/>
              </a:tblGrid>
              <a:tr h="565200"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KTIVITA 2: Zabezpečenie prípravy na profesionálne vykonávanie náhradnej starostlivost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7ba0cd"/>
                      </a:solidFill>
                    </a:lnL>
                    <a:lnR w="5760">
                      <a:solidFill>
                        <a:srgbClr val="7ba0cd"/>
                      </a:solidFill>
                    </a:lnR>
                    <a:lnT w="5760">
                      <a:solidFill>
                        <a:srgbClr val="7ba0cd"/>
                      </a:solidFill>
                    </a:lnT>
                    <a:lnB w="5760">
                      <a:solidFill>
                        <a:srgbClr val="7ba0cd"/>
                      </a:solidFill>
                    </a:lnB>
                    <a:solidFill>
                      <a:srgbClr val="a7bfde"/>
                    </a:solidFill>
                  </a:tcPr>
                </a:tc>
              </a:tr>
              <a:tr h="41608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ovatívne a efektívne metódy prípravy vykonávanej úradmi PSV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</a:t>
                      </a: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ostavenie lektorského tím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</a:t>
                      </a: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zdelávanie členov tím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</a:t>
                      </a: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vorba inovatívnych a efektívnych metód lektorským tím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abezpečenie prípravy na úradoch PSVR (199  účastníkov) – pracovné stretnut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</a:t>
                      </a: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 dňové  (II.-III./201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</a:t>
                      </a: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dňové (V.-VI./201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</a:t>
                      </a: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dňové (II. Polrok 2010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__________________________________________________________________________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tebooky 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 úrady PSVR – na účely prípravy (46 notebookov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 „nových“ profesionálnych rodičov (     440 notebookov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7ba0cd"/>
                      </a:solidFill>
                    </a:lnL>
                    <a:lnR w="5760">
                      <a:solidFill>
                        <a:srgbClr val="7ba0cd"/>
                      </a:solidFill>
                    </a:lnR>
                    <a:lnT w="5760">
                      <a:solidFill>
                        <a:srgbClr val="7ba0cd"/>
                      </a:solidFill>
                    </a:lnT>
                    <a:lnB w="5760">
                      <a:solidFill>
                        <a:srgbClr val="7ba0cd"/>
                      </a:solidFill>
                    </a:lnB>
                    <a:solidFill>
                      <a:srgbClr val="d3dfe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" descr="http://www.ttstudio.sk/photos/nabrezie-dunaja-bratislava-1578.jpg"/>
          <p:cNvPicPr/>
          <p:nvPr/>
        </p:nvPicPr>
        <p:blipFill>
          <a:blip r:embed="rId2"/>
          <a:stretch/>
        </p:blipFill>
        <p:spPr>
          <a:xfrm>
            <a:off x="285840" y="571680"/>
            <a:ext cx="867096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24" descr="hlavicka power pointu"/>
          <p:cNvPicPr/>
          <p:nvPr/>
        </p:nvPicPr>
        <p:blipFill>
          <a:blip r:embed="rId1"/>
          <a:stretch/>
        </p:blipFill>
        <p:spPr>
          <a:xfrm>
            <a:off x="179280" y="189000"/>
            <a:ext cx="8785440" cy="1525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6" name=""/>
          <p:cNvGraphicFramePr/>
          <p:nvPr/>
        </p:nvGraphicFramePr>
        <p:xfrm>
          <a:off x="500040" y="2000160"/>
          <a:ext cx="8072640" cy="4000680"/>
        </p:xfrm>
        <a:graphic>
          <a:graphicData uri="http://schemas.openxmlformats.org/drawingml/2006/table">
            <a:tbl>
              <a:tblPr/>
              <a:tblGrid>
                <a:gridCol w="8072640"/>
              </a:tblGrid>
              <a:tr h="305280"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KTIVITA 3 : Vzdelávanie zamestnancov detských domovo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7ba0cd"/>
                      </a:solidFill>
                    </a:lnL>
                    <a:lnR w="5760">
                      <a:solidFill>
                        <a:srgbClr val="7ba0cd"/>
                      </a:solidFill>
                    </a:lnR>
                    <a:lnT w="5760">
                      <a:solidFill>
                        <a:srgbClr val="7ba0cd"/>
                      </a:solidFill>
                    </a:lnT>
                    <a:lnB w="5760">
                      <a:solidFill>
                        <a:srgbClr val="7ba0cd"/>
                      </a:solidFill>
                    </a:lnB>
                    <a:solidFill>
                      <a:srgbClr val="d3dfee"/>
                    </a:solidFill>
                  </a:tcPr>
                </a:tc>
              </a:tr>
              <a:tr h="39643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nažérske zručnosti pre riaditeľov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X.-XI.2009 – 84 riaditeľov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ýber zamestnancov pre riaditeľov a psychológo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I.-III.2010 – 164 účastníkov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edenie a motivácia zamestnancov pre riaditeľov, psychológov a sociálnych pracovníko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III.-VI.2010 – 238 účastníkov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_________________________________________________________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atérie psychologických testov pre detské domov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_________________________________________________________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amery pre detské domov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7ba0cd"/>
                      </a:solidFill>
                    </a:lnL>
                    <a:lnR w="5760">
                      <a:solidFill>
                        <a:srgbClr val="7ba0cd"/>
                      </a:solidFill>
                    </a:lnR>
                    <a:lnT w="5760">
                      <a:solidFill>
                        <a:srgbClr val="7ba0cd"/>
                      </a:solidFill>
                    </a:lnT>
                    <a:lnB w="5760">
                      <a:solidFill>
                        <a:srgbClr val="7ba0cd"/>
                      </a:solidFill>
                    </a:lnB>
                    <a:solidFill>
                      <a:srgbClr val="d3dfe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4" descr="hlavicka power pointu"/>
          <p:cNvPicPr/>
          <p:nvPr/>
        </p:nvPicPr>
        <p:blipFill>
          <a:blip r:embed="rId1"/>
          <a:stretch/>
        </p:blipFill>
        <p:spPr>
          <a:xfrm>
            <a:off x="179280" y="189000"/>
            <a:ext cx="8785440" cy="1525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8" name=""/>
          <p:cNvGraphicFramePr/>
          <p:nvPr/>
        </p:nvGraphicFramePr>
        <p:xfrm>
          <a:off x="357120" y="1928880"/>
          <a:ext cx="8429760" cy="3538440"/>
        </p:xfrm>
        <a:graphic>
          <a:graphicData uri="http://schemas.openxmlformats.org/drawingml/2006/table">
            <a:tbl>
              <a:tblPr/>
              <a:tblGrid>
                <a:gridCol w="8429760"/>
              </a:tblGrid>
              <a:tr h="731880"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KTIVITA 4 : Odborné vzdelávanie a starostlivosť o profesionálnych rodičo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7ba0cd"/>
                      </a:solidFill>
                    </a:lnL>
                    <a:lnR w="5760">
                      <a:solidFill>
                        <a:srgbClr val="7ba0cd"/>
                      </a:solidFill>
                    </a:lnR>
                    <a:lnT w="5760">
                      <a:solidFill>
                        <a:srgbClr val="7ba0cd"/>
                      </a:solidFill>
                    </a:lnT>
                    <a:lnB w="5760">
                      <a:solidFill>
                        <a:srgbClr val="7ba0cd"/>
                      </a:solidFill>
                    </a:lnB>
                    <a:solidFill>
                      <a:srgbClr val="d3dfee"/>
                    </a:solidFill>
                  </a:tcPr>
                </a:tc>
              </a:tr>
              <a:tr h="28065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matické a odborné semináre pre profesionálnych rodičo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X. 2009 – VI. 2010 – 64 seminárov, 954 zúčastnených profesionálnych rodičov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______________________________________________________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upervízia pre profesionálnych rodičo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7ba0cd"/>
                      </a:solidFill>
                    </a:lnL>
                    <a:lnR w="5760">
                      <a:solidFill>
                        <a:srgbClr val="7ba0cd"/>
                      </a:solidFill>
                    </a:lnR>
                    <a:lnT w="5760">
                      <a:solidFill>
                        <a:srgbClr val="7ba0cd"/>
                      </a:solidFill>
                    </a:lnT>
                    <a:lnB w="5760">
                      <a:solidFill>
                        <a:srgbClr val="7ba0cd"/>
                      </a:solidFill>
                    </a:lnB>
                    <a:solidFill>
                      <a:srgbClr val="d3dfe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4" descr="hlavicka power pointu"/>
          <p:cNvPicPr/>
          <p:nvPr/>
        </p:nvPicPr>
        <p:blipFill>
          <a:blip r:embed="rId1"/>
          <a:stretch/>
        </p:blipFill>
        <p:spPr>
          <a:xfrm>
            <a:off x="179280" y="189000"/>
            <a:ext cx="8785440" cy="1525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0" name=""/>
          <p:cNvGraphicFramePr/>
          <p:nvPr/>
        </p:nvGraphicFramePr>
        <p:xfrm>
          <a:off x="357120" y="2071800"/>
          <a:ext cx="8572680" cy="4071960"/>
        </p:xfrm>
        <a:graphic>
          <a:graphicData uri="http://schemas.openxmlformats.org/drawingml/2006/table">
            <a:tbl>
              <a:tblPr/>
              <a:tblGrid>
                <a:gridCol w="8572680"/>
              </a:tblGrid>
              <a:tr h="728640">
                <a:tc>
                  <a:txBody>
                    <a:bodyPr lIns="68760" rIns="68760" tIns="0" bIns="0" anchor="t">
                      <a:noAutofit/>
                    </a:bodyPr>
                    <a:p>
                      <a:pPr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KTIVITA 5 : Medzinárodná spoluprác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7ba0cd"/>
                      </a:solidFill>
                    </a:lnL>
                    <a:lnR w="5760">
                      <a:solidFill>
                        <a:srgbClr val="7ba0cd"/>
                      </a:solidFill>
                    </a:lnR>
                    <a:lnT w="5760">
                      <a:solidFill>
                        <a:srgbClr val="7ba0cd"/>
                      </a:solidFill>
                    </a:lnT>
                    <a:lnB w="5760">
                      <a:solidFill>
                        <a:srgbClr val="7ba0cd"/>
                      </a:solidFill>
                    </a:lnB>
                    <a:solidFill>
                      <a:srgbClr val="d3dfee"/>
                    </a:solidFill>
                  </a:tcPr>
                </a:tc>
              </a:tr>
              <a:tr h="33433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ahraničné pracovné cesty 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cember 2009 – Poľsk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ebruár 2010 – Rakúsk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úl 2011 – Newcastle, Veľká Britán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ugust 2011 – Stockholm, Švédsk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edzinárodná konferenc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7ba0cd"/>
                      </a:solidFill>
                    </a:lnL>
                    <a:lnR w="5760">
                      <a:solidFill>
                        <a:srgbClr val="7ba0cd"/>
                      </a:solidFill>
                    </a:lnR>
                    <a:lnT w="5760">
                      <a:solidFill>
                        <a:srgbClr val="7ba0cd"/>
                      </a:solidFill>
                    </a:lnT>
                    <a:lnB w="5760">
                      <a:solidFill>
                        <a:srgbClr val="7ba0cd"/>
                      </a:solidFill>
                    </a:lnB>
                    <a:solidFill>
                      <a:srgbClr val="d3dfe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0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fekt realizácie NP XXIV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Zvýšila sa </a:t>
            </a:r>
            <a:r>
              <a:rPr b="1" lang="sk-SK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informovanosť</a:t>
            </a:r>
            <a:r>
              <a:rPr b="0" lang="sk-SK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verejnosti o profesionálnom rodičovstve a zvýšil sa </a:t>
            </a:r>
            <a:r>
              <a:rPr b="1" lang="sk-SK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záujem</a:t>
            </a:r>
            <a:r>
              <a:rPr b="0" lang="sk-SK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o profesionálne rodičovstv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2. Zvýšil sa </a:t>
            </a:r>
            <a:r>
              <a:rPr b="1" lang="sk-SK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počet</a:t>
            </a:r>
            <a:r>
              <a:rPr b="0" lang="sk-SK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sk-SK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profesionálnych rodín </a:t>
            </a:r>
            <a:r>
              <a:rPr b="0" lang="sk-SK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a profesionálnych rodičov zamestnaných v detských domovoch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3. Zvýšil sa </a:t>
            </a:r>
            <a:r>
              <a:rPr b="1" lang="sk-SK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počet detí </a:t>
            </a:r>
            <a:r>
              <a:rPr b="0" lang="sk-SK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umiestnených v profesionálnych rodinách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4. Zvýšil sa </a:t>
            </a:r>
            <a:r>
              <a:rPr b="1" lang="sk-SK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počet záujemcov o profesionálne rodičovstvo</a:t>
            </a:r>
            <a:r>
              <a:rPr b="0" lang="sk-SK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, ktorí absolvovali prípravu na PR na úradoch PSVR (v  roku 2009 – 332, v roku 2010 – 520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24" descr="hlavicka power pointu"/>
          <p:cNvPicPr/>
          <p:nvPr/>
        </p:nvPicPr>
        <p:blipFill>
          <a:blip r:embed="rId1"/>
          <a:stretch/>
        </p:blipFill>
        <p:spPr>
          <a:xfrm>
            <a:off x="395280" y="260280"/>
            <a:ext cx="5043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4" descr="hlavicka power pointu"/>
          <p:cNvPicPr/>
          <p:nvPr/>
        </p:nvPicPr>
        <p:blipFill>
          <a:blip r:embed="rId1"/>
          <a:stretch/>
        </p:blipFill>
        <p:spPr>
          <a:xfrm>
            <a:off x="179280" y="189000"/>
            <a:ext cx="8785440" cy="1525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4" name=""/>
          <p:cNvGraphicFramePr/>
          <p:nvPr/>
        </p:nvGraphicFramePr>
        <p:xfrm>
          <a:off x="571680" y="2143080"/>
          <a:ext cx="7143480" cy="4397400"/>
        </p:xfrm>
        <a:graphic>
          <a:graphicData uri="http://schemas.openxmlformats.org/drawingml/2006/table">
            <a:tbl>
              <a:tblPr/>
              <a:tblGrid>
                <a:gridCol w="2071440"/>
                <a:gridCol w="1857600"/>
                <a:gridCol w="1714320"/>
                <a:gridCol w="1500120"/>
              </a:tblGrid>
              <a:tr h="1711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tské domovy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7ba0cd"/>
                      </a:solidFill>
                    </a:lnL>
                    <a:lnR w="5760">
                      <a:solidFill>
                        <a:srgbClr val="7ba0cd"/>
                      </a:solidFill>
                    </a:lnR>
                    <a:lnT w="5760">
                      <a:solidFill>
                        <a:srgbClr val="7ba0cd"/>
                      </a:solidFill>
                    </a:lnT>
                    <a:lnB w="5760">
                      <a:solidFill>
                        <a:srgbClr val="7ba0cd"/>
                      </a:solidFill>
                    </a:lnB>
                    <a:solidFill>
                      <a:srgbClr val="d3dfe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čet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fesionálnych  </a:t>
                      </a: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odičo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7ba0cd"/>
                      </a:solidFill>
                    </a:lnL>
                    <a:lnR w="5760">
                      <a:solidFill>
                        <a:srgbClr val="7ba0cd"/>
                      </a:solidFill>
                    </a:lnR>
                    <a:lnT w="5760">
                      <a:solidFill>
                        <a:srgbClr val="7ba0cd"/>
                      </a:solidFill>
                    </a:lnT>
                    <a:lnB w="5760">
                      <a:solidFill>
                        <a:srgbClr val="7ba0cd"/>
                      </a:solidFill>
                    </a:lnB>
                    <a:solidFill>
                      <a:srgbClr val="d3dfe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čet </a:t>
                      </a: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fesionálnych </a:t>
                      </a: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odín (PR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7ba0cd"/>
                      </a:solidFill>
                    </a:lnL>
                    <a:lnR w="5760">
                      <a:solidFill>
                        <a:srgbClr val="7ba0cd"/>
                      </a:solidFill>
                    </a:lnR>
                    <a:lnT w="5760">
                      <a:solidFill>
                        <a:srgbClr val="7ba0cd"/>
                      </a:solidFill>
                    </a:lnT>
                    <a:lnB w="5760">
                      <a:solidFill>
                        <a:srgbClr val="7ba0cd"/>
                      </a:solidFill>
                    </a:lnB>
                    <a:solidFill>
                      <a:srgbClr val="a7bf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čet detí a mladých dospelých v P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7ba0cd"/>
                      </a:solidFill>
                    </a:lnL>
                    <a:lnR w="5760">
                      <a:solidFill>
                        <a:srgbClr val="7ba0cd"/>
                      </a:solidFill>
                    </a:lnR>
                    <a:lnT w="5760">
                      <a:solidFill>
                        <a:srgbClr val="7ba0cd"/>
                      </a:solidFill>
                    </a:lnT>
                    <a:lnB w="5760">
                      <a:solidFill>
                        <a:srgbClr val="7ba0cd"/>
                      </a:solidFill>
                    </a:lnB>
                    <a:solidFill>
                      <a:srgbClr val="d3dfee"/>
                    </a:solidFill>
                  </a:tcPr>
                </a:tc>
              </a:tr>
              <a:tr h="671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 31.12.2008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7ba0cd"/>
                      </a:solidFill>
                    </a:lnL>
                    <a:lnR w="5760">
                      <a:solidFill>
                        <a:srgbClr val="7ba0cd"/>
                      </a:solidFill>
                    </a:lnR>
                    <a:lnT w="5760">
                      <a:solidFill>
                        <a:srgbClr val="7ba0cd"/>
                      </a:solidFill>
                    </a:lnT>
                    <a:lnB w="5760">
                      <a:solidFill>
                        <a:srgbClr val="7ba0cd"/>
                      </a:solidFill>
                    </a:lnB>
                    <a:solidFill>
                      <a:srgbClr val="a7bf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7ba0cd"/>
                      </a:solidFill>
                    </a:lnL>
                    <a:lnR w="5760">
                      <a:solidFill>
                        <a:srgbClr val="7ba0cd"/>
                      </a:solidFill>
                    </a:lnR>
                    <a:lnT w="5760">
                      <a:solidFill>
                        <a:srgbClr val="7ba0cd"/>
                      </a:solidFill>
                    </a:lnT>
                    <a:lnB w="5760">
                      <a:solidFill>
                        <a:srgbClr val="7ba0cd"/>
                      </a:solidFill>
                    </a:lnB>
                    <a:solidFill>
                      <a:srgbClr val="a7bf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7ba0cd"/>
                      </a:solidFill>
                    </a:lnL>
                    <a:lnR w="5760">
                      <a:solidFill>
                        <a:srgbClr val="7ba0cd"/>
                      </a:solidFill>
                    </a:lnR>
                    <a:lnT w="5760">
                      <a:solidFill>
                        <a:srgbClr val="7ba0cd"/>
                      </a:solidFill>
                    </a:lnT>
                    <a:lnB w="5760">
                      <a:solidFill>
                        <a:srgbClr val="7ba0cd"/>
                      </a:solidFill>
                    </a:lnB>
                    <a:solidFill>
                      <a:srgbClr val="a7bf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98</a:t>
                      </a: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tí a </a:t>
                      </a: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 </a:t>
                      </a: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7ba0cd"/>
                      </a:solidFill>
                    </a:lnL>
                    <a:lnR w="5760">
                      <a:solidFill>
                        <a:srgbClr val="7ba0cd"/>
                      </a:solidFill>
                    </a:lnR>
                    <a:lnT w="5760">
                      <a:solidFill>
                        <a:srgbClr val="7ba0cd"/>
                      </a:solidFill>
                    </a:lnT>
                    <a:lnB w="5760">
                      <a:solidFill>
                        <a:srgbClr val="7ba0cd"/>
                      </a:solidFill>
                    </a:lnB>
                    <a:solidFill>
                      <a:srgbClr val="a7bfde"/>
                    </a:solidFill>
                  </a:tcPr>
                </a:tc>
              </a:tr>
              <a:tr h="671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 31.12.200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7ba0cd"/>
                      </a:solidFill>
                    </a:lnL>
                    <a:lnR w="5760">
                      <a:solidFill>
                        <a:srgbClr val="7ba0cd"/>
                      </a:solidFill>
                    </a:lnR>
                    <a:lnT w="5760">
                      <a:solidFill>
                        <a:srgbClr val="7ba0cd"/>
                      </a:solidFill>
                    </a:lnT>
                    <a:lnB w="5760">
                      <a:solidFill>
                        <a:srgbClr val="7ba0cd"/>
                      </a:solidFill>
                    </a:lnB>
                    <a:solidFill>
                      <a:srgbClr val="d3dfe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7ba0cd"/>
                      </a:solidFill>
                    </a:lnL>
                    <a:lnR w="5760">
                      <a:solidFill>
                        <a:srgbClr val="7ba0cd"/>
                      </a:solidFill>
                    </a:lnR>
                    <a:lnT w="5760">
                      <a:solidFill>
                        <a:srgbClr val="7ba0cd"/>
                      </a:solidFill>
                    </a:lnT>
                    <a:lnB w="5760">
                      <a:solidFill>
                        <a:srgbClr val="7ba0cd"/>
                      </a:solidFill>
                    </a:lnB>
                    <a:solidFill>
                      <a:srgbClr val="d3dfe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7ba0cd"/>
                      </a:solidFill>
                    </a:lnL>
                    <a:lnR w="5760">
                      <a:solidFill>
                        <a:srgbClr val="7ba0cd"/>
                      </a:solidFill>
                    </a:lnR>
                    <a:lnT w="5760">
                      <a:solidFill>
                        <a:srgbClr val="7ba0cd"/>
                      </a:solidFill>
                    </a:lnT>
                    <a:lnB w="5760">
                      <a:solidFill>
                        <a:srgbClr val="7ba0cd"/>
                      </a:solidFill>
                    </a:lnB>
                    <a:solidFill>
                      <a:srgbClr val="a7bf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15 </a:t>
                      </a: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tí a</a:t>
                      </a: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31 </a:t>
                      </a: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7ba0cd"/>
                      </a:solidFill>
                    </a:lnL>
                    <a:lnR w="5760">
                      <a:solidFill>
                        <a:srgbClr val="7ba0cd"/>
                      </a:solidFill>
                    </a:lnR>
                    <a:lnT w="5760">
                      <a:solidFill>
                        <a:srgbClr val="7ba0cd"/>
                      </a:solidFill>
                    </a:lnT>
                    <a:lnB w="5760">
                      <a:solidFill>
                        <a:srgbClr val="7ba0cd"/>
                      </a:solidFill>
                    </a:lnB>
                    <a:solidFill>
                      <a:srgbClr val="d3dfee"/>
                    </a:solidFill>
                  </a:tcPr>
                </a:tc>
              </a:tr>
              <a:tr h="671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 31.12.20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7ba0cd"/>
                      </a:solidFill>
                    </a:lnL>
                    <a:lnR w="5760">
                      <a:solidFill>
                        <a:srgbClr val="7ba0cd"/>
                      </a:solidFill>
                    </a:lnR>
                    <a:lnT w="5760">
                      <a:solidFill>
                        <a:srgbClr val="7ba0cd"/>
                      </a:solidFill>
                    </a:lnT>
                    <a:lnB w="5760">
                      <a:solidFill>
                        <a:srgbClr val="7ba0cd"/>
                      </a:solidFill>
                    </a:lnB>
                    <a:solidFill>
                      <a:srgbClr val="d3dfe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6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7ba0cd"/>
                      </a:solidFill>
                    </a:lnL>
                    <a:lnR w="5760">
                      <a:solidFill>
                        <a:srgbClr val="7ba0cd"/>
                      </a:solidFill>
                    </a:lnR>
                    <a:lnT w="5760">
                      <a:solidFill>
                        <a:srgbClr val="7ba0cd"/>
                      </a:solidFill>
                    </a:lnT>
                    <a:lnB w="5760">
                      <a:solidFill>
                        <a:srgbClr val="7ba0cd"/>
                      </a:solidFill>
                    </a:lnB>
                    <a:solidFill>
                      <a:srgbClr val="d3dfe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7ba0cd"/>
                      </a:solidFill>
                    </a:lnL>
                    <a:lnR w="5760">
                      <a:solidFill>
                        <a:srgbClr val="7ba0cd"/>
                      </a:solidFill>
                    </a:lnR>
                    <a:lnT w="5760">
                      <a:solidFill>
                        <a:srgbClr val="7ba0cd"/>
                      </a:solidFill>
                    </a:lnT>
                    <a:lnB w="5760">
                      <a:solidFill>
                        <a:srgbClr val="7ba0cd"/>
                      </a:solidFill>
                    </a:lnB>
                    <a:solidFill>
                      <a:srgbClr val="a7bf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42</a:t>
                      </a: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tí a</a:t>
                      </a: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35 </a:t>
                      </a: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7ba0cd"/>
                      </a:solidFill>
                    </a:lnL>
                    <a:lnR w="5760">
                      <a:solidFill>
                        <a:srgbClr val="7ba0cd"/>
                      </a:solidFill>
                    </a:lnR>
                    <a:lnT w="5760">
                      <a:solidFill>
                        <a:srgbClr val="7ba0cd"/>
                      </a:solidFill>
                    </a:lnT>
                    <a:lnB w="5760">
                      <a:solidFill>
                        <a:srgbClr val="7ba0cd"/>
                      </a:solidFill>
                    </a:lnB>
                    <a:solidFill>
                      <a:srgbClr val="d3dfee"/>
                    </a:solidFill>
                  </a:tcPr>
                </a:tc>
              </a:tr>
              <a:tr h="671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 31.12.20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7ba0cd"/>
                      </a:solidFill>
                    </a:lnL>
                    <a:lnR w="5760">
                      <a:solidFill>
                        <a:srgbClr val="7ba0cd"/>
                      </a:solidFill>
                    </a:lnR>
                    <a:lnT w="5760">
                      <a:solidFill>
                        <a:srgbClr val="7ba0cd"/>
                      </a:solidFill>
                    </a:lnT>
                    <a:lnB w="5760">
                      <a:solidFill>
                        <a:srgbClr val="7ba0cd"/>
                      </a:solidFill>
                    </a:lnB>
                    <a:solidFill>
                      <a:srgbClr val="d3dfe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7ba0cd"/>
                      </a:solidFill>
                    </a:lnL>
                    <a:lnR w="5760">
                      <a:solidFill>
                        <a:srgbClr val="7ba0cd"/>
                      </a:solidFill>
                    </a:lnR>
                    <a:lnT w="5760">
                      <a:solidFill>
                        <a:srgbClr val="7ba0cd"/>
                      </a:solidFill>
                    </a:lnT>
                    <a:lnB w="5760">
                      <a:solidFill>
                        <a:srgbClr val="7ba0cd"/>
                      </a:solidFill>
                    </a:lnB>
                    <a:solidFill>
                      <a:srgbClr val="d3dfe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7ba0cd"/>
                      </a:solidFill>
                    </a:lnL>
                    <a:lnR w="5760">
                      <a:solidFill>
                        <a:srgbClr val="7ba0cd"/>
                      </a:solidFill>
                    </a:lnR>
                    <a:lnT w="5760">
                      <a:solidFill>
                        <a:srgbClr val="7ba0cd"/>
                      </a:solidFill>
                    </a:lnT>
                    <a:lnB w="5760">
                      <a:solidFill>
                        <a:srgbClr val="7ba0cd"/>
                      </a:solidFill>
                    </a:lnB>
                    <a:solidFill>
                      <a:srgbClr val="a7bf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03 </a:t>
                      </a: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tí a </a:t>
                      </a: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 </a:t>
                      </a: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7ba0cd"/>
                      </a:solidFill>
                    </a:lnL>
                    <a:lnR w="5760">
                      <a:solidFill>
                        <a:srgbClr val="7ba0cd"/>
                      </a:solidFill>
                    </a:lnR>
                    <a:lnT w="5760">
                      <a:solidFill>
                        <a:srgbClr val="7ba0cd"/>
                      </a:solidFill>
                    </a:lnT>
                    <a:lnB w="5760">
                      <a:solidFill>
                        <a:srgbClr val="7ba0cd"/>
                      </a:solidFill>
                    </a:lnB>
                    <a:solidFill>
                      <a:srgbClr val="d3dfe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4" descr="hlavicka power pointu"/>
          <p:cNvPicPr/>
          <p:nvPr/>
        </p:nvPicPr>
        <p:blipFill>
          <a:blip r:embed="rId1"/>
          <a:stretch/>
        </p:blipFill>
        <p:spPr>
          <a:xfrm>
            <a:off x="179280" y="189000"/>
            <a:ext cx="8785440" cy="1525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6" name=""/>
          <p:cNvGraphicFramePr/>
          <p:nvPr/>
        </p:nvGraphicFramePr>
        <p:xfrm>
          <a:off x="428760" y="2143080"/>
          <a:ext cx="8358120" cy="3467160"/>
        </p:xfrm>
        <a:graphic>
          <a:graphicData uri="http://schemas.openxmlformats.org/drawingml/2006/table">
            <a:tbl>
              <a:tblPr/>
              <a:tblGrid>
                <a:gridCol w="1419120"/>
                <a:gridCol w="6939000"/>
              </a:tblGrid>
              <a:tr h="14288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ok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7ba0cd"/>
                      </a:solidFill>
                    </a:lnL>
                    <a:lnR w="5760">
                      <a:solidFill>
                        <a:srgbClr val="7ba0cd"/>
                      </a:solidFill>
                    </a:lnR>
                    <a:lnT w="5760">
                      <a:solidFill>
                        <a:srgbClr val="7ba0cd"/>
                      </a:solidFill>
                    </a:lnT>
                    <a:lnB w="5760">
                      <a:solidFill>
                        <a:srgbClr val="7ba0cd"/>
                      </a:solidFill>
                    </a:lnB>
                    <a:solidFill>
                      <a:srgbClr val="d3dfe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mer počtu detí v profesionálnych rodinách k celkovému počtu detí umiestnených v detských domovoch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7ba0cd"/>
                      </a:solidFill>
                    </a:lnL>
                    <a:lnR w="5760">
                      <a:solidFill>
                        <a:srgbClr val="7ba0cd"/>
                      </a:solidFill>
                    </a:lnR>
                    <a:lnT w="5760">
                      <a:solidFill>
                        <a:srgbClr val="7ba0cd"/>
                      </a:solidFill>
                    </a:lnT>
                    <a:lnB w="5760">
                      <a:solidFill>
                        <a:srgbClr val="7ba0cd"/>
                      </a:solidFill>
                    </a:lnB>
                    <a:solidFill>
                      <a:srgbClr val="d3dfee"/>
                    </a:solidFill>
                  </a:tcPr>
                </a:tc>
              </a:tr>
              <a:tr h="6793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7ba0cd"/>
                      </a:solidFill>
                    </a:lnL>
                    <a:lnR w="5760">
                      <a:solidFill>
                        <a:srgbClr val="7ba0cd"/>
                      </a:solidFill>
                    </a:lnR>
                    <a:lnT w="5760">
                      <a:solidFill>
                        <a:srgbClr val="7ba0cd"/>
                      </a:solidFill>
                    </a:lnT>
                    <a:lnB w="5760">
                      <a:solidFill>
                        <a:srgbClr val="7ba0cd"/>
                      </a:solidFill>
                    </a:lnB>
                    <a:solidFill>
                      <a:srgbClr val="a7bf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 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7ba0cd"/>
                      </a:solidFill>
                    </a:lnL>
                    <a:lnR w="5760">
                      <a:solidFill>
                        <a:srgbClr val="7ba0cd"/>
                      </a:solidFill>
                    </a:lnR>
                    <a:lnT w="5760">
                      <a:solidFill>
                        <a:srgbClr val="7ba0cd"/>
                      </a:solidFill>
                    </a:lnT>
                    <a:lnB w="5760">
                      <a:solidFill>
                        <a:srgbClr val="7ba0cd"/>
                      </a:solidFill>
                    </a:lnB>
                    <a:solidFill>
                      <a:srgbClr val="a7bfde"/>
                    </a:solidFill>
                  </a:tcPr>
                </a:tc>
              </a:tr>
              <a:tr h="6796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7ba0cd"/>
                      </a:solidFill>
                    </a:lnL>
                    <a:lnR w="5760">
                      <a:solidFill>
                        <a:srgbClr val="7ba0cd"/>
                      </a:solidFill>
                    </a:lnR>
                    <a:lnT w="5760">
                      <a:solidFill>
                        <a:srgbClr val="7ba0cd"/>
                      </a:solidFill>
                    </a:lnT>
                    <a:lnB w="5760">
                      <a:solidFill>
                        <a:srgbClr val="7ba0cd"/>
                      </a:solidFill>
                    </a:lnB>
                    <a:solidFill>
                      <a:srgbClr val="d3dfe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 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7ba0cd"/>
                      </a:solidFill>
                    </a:lnL>
                    <a:lnR w="5760">
                      <a:solidFill>
                        <a:srgbClr val="7ba0cd"/>
                      </a:solidFill>
                    </a:lnR>
                    <a:lnT w="5760">
                      <a:solidFill>
                        <a:srgbClr val="7ba0cd"/>
                      </a:solidFill>
                    </a:lnT>
                    <a:lnB w="5760">
                      <a:solidFill>
                        <a:srgbClr val="7ba0cd"/>
                      </a:solidFill>
                    </a:lnB>
                    <a:solidFill>
                      <a:srgbClr val="d3dfee"/>
                    </a:solidFill>
                  </a:tcPr>
                </a:tc>
              </a:tr>
              <a:tr h="6793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7ba0cd"/>
                      </a:solidFill>
                    </a:lnL>
                    <a:lnR w="5760">
                      <a:solidFill>
                        <a:srgbClr val="7ba0cd"/>
                      </a:solidFill>
                    </a:lnR>
                    <a:lnT w="5760">
                      <a:solidFill>
                        <a:srgbClr val="7ba0cd"/>
                      </a:solidFill>
                    </a:lnT>
                    <a:lnB w="5760">
                      <a:solidFill>
                        <a:srgbClr val="7ba0cd"/>
                      </a:solidFill>
                    </a:lnB>
                    <a:solidFill>
                      <a:srgbClr val="a7bfd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 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7ba0cd"/>
                      </a:solidFill>
                    </a:lnL>
                    <a:lnR w="5760">
                      <a:solidFill>
                        <a:srgbClr val="7ba0cd"/>
                      </a:solidFill>
                    </a:lnR>
                    <a:lnT w="5760">
                      <a:solidFill>
                        <a:srgbClr val="7ba0cd"/>
                      </a:solidFill>
                    </a:lnT>
                    <a:lnB w="5760">
                      <a:solidFill>
                        <a:srgbClr val="7ba0cd"/>
                      </a:solidFill>
                    </a:lnB>
                    <a:solidFill>
                      <a:srgbClr val="a7bfd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0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Pripravovaný Národný projekt deinštitucionalizácie náhradnej starostlivost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Harmonogram realizácie projektu: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2012- 2015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Hlavný cieľ: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Deinštitucionalizácia  náhradnej starostlivosti vytváraním a rozvíjaním opatrení podporujúcich život deti v prirodzenom a náhradnom rodinnom prostredí a pokračovanie  v nahrádzaní inštitucionálnej náhradnej starostlivosti komunitnými formam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24" descr="hlavicka power pointu"/>
          <p:cNvPicPr/>
          <p:nvPr/>
        </p:nvPicPr>
        <p:blipFill>
          <a:blip r:embed="rId1"/>
          <a:stretch/>
        </p:blipFill>
        <p:spPr>
          <a:xfrm>
            <a:off x="395280" y="260280"/>
            <a:ext cx="5043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0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Špecifické ciele N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kvalitnenie vykonávania 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opatrení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ociálnoprávnej ochrany detí a sociálnej kurately 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v prirodzenom rodinnom prostredí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na predchádzanie umiestňovania detí do inštitúci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Podpora a uľahčenie plnenia účelu 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náhradnej rodinnej starostlivosti a náhradnej osobnej starostliv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Implementácia princípov 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deinštitucionalizácie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poskytovania starostlivosti v detských domovo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Komplexná podpora 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profesionálnych rodí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Zvyšovanie odbornosti a prehlbovanie zručností </a:t>
            </a: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zamestnancov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orgánov sociálnoprávnej ochrany detí a sociálnej kurately a detských domovo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24" descr="hlavicka power pointu"/>
          <p:cNvPicPr/>
          <p:nvPr/>
        </p:nvPicPr>
        <p:blipFill>
          <a:blip r:embed="rId1"/>
          <a:stretch/>
        </p:blipFill>
        <p:spPr>
          <a:xfrm>
            <a:off x="395280" y="260280"/>
            <a:ext cx="5043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0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3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Okruhy pripravovaných aktiví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3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 algn="just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Model manažmentu sanácie rodiny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, vytvorenie 92 pracovných miest rodinných asistentov na úradoch PSVR a vzdelávanie zamestnancov  úradov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 algn="just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odpora náhradných rodín a overenie podpory pestúnskej starostlivosti pre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ťažko umiestniteľné deti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 algn="just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odpora tvorby a implementácie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transformačných a deinštitucionalizačných plánov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detských domovov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24" descr="hlavicka power pointu"/>
          <p:cNvPicPr/>
          <p:nvPr/>
        </p:nvPicPr>
        <p:blipFill>
          <a:blip r:embed="rId1"/>
          <a:stretch/>
        </p:blipFill>
        <p:spPr>
          <a:xfrm>
            <a:off x="395280" y="260280"/>
            <a:ext cx="5043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0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524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Zvýšenie udržateľnosti a podpora špecializácie profesionálnych rodín vytvorením 23 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centier podpory profesionálnych rodič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524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Humanizácia a skvalitnenie poskytovania starostlivosti o deti a mladých dospelých  vrátane vzdelávanie pre odborný tím detských domov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524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Metódy a formy práce s deťmi a mladými dospelými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24" descr="hlavicka power pointu"/>
          <p:cNvPicPr/>
          <p:nvPr/>
        </p:nvPicPr>
        <p:blipFill>
          <a:blip r:embed="rId1"/>
          <a:stretch/>
        </p:blipFill>
        <p:spPr>
          <a:xfrm>
            <a:off x="395280" y="260280"/>
            <a:ext cx="5043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0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 u="sng">
                <a:solidFill>
                  <a:srgbClr val="000000"/>
                </a:solidFill>
                <a:uFillTx/>
                <a:latin typeface="Arial"/>
              </a:rPr>
              <a:t>Legislatí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Slovenská republika dôsledne dbá na dodržiavanie práv dieťaťa a zabezpečenie ochrany dieťaťa nevyhnutnej pre jeho blaho a rešpektujúcej jeho najlepší záujem podľa medzinárodného dohovoru -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Dohovor o právach dieťať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roblematika sociálnoprávnej ochrany detí je upravená v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zákone č.305/2005 Z.z. o sociálnoprávnej ochrane detí a o sociálnej kuratele, v zákone č. 36/2005 Z.z. o rod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24" descr="hlavicka power pointu"/>
          <p:cNvPicPr/>
          <p:nvPr/>
        </p:nvPicPr>
        <p:blipFill>
          <a:blip r:embed="rId1"/>
          <a:stretch/>
        </p:blipFill>
        <p:spPr>
          <a:xfrm>
            <a:off x="395280" y="260280"/>
            <a:ext cx="5043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4" descr="hlavicka power pointu"/>
          <p:cNvPicPr/>
          <p:nvPr/>
        </p:nvPicPr>
        <p:blipFill>
          <a:blip r:embed="rId1"/>
          <a:stretch/>
        </p:blipFill>
        <p:spPr>
          <a:xfrm>
            <a:off x="179280" y="189000"/>
            <a:ext cx="8785440" cy="1525680"/>
          </a:xfrm>
          <a:prstGeom prst="rect">
            <a:avLst/>
          </a:prstGeom>
          <a:ln w="0">
            <a:noFill/>
          </a:ln>
        </p:spPr>
      </p:pic>
      <p:pic>
        <p:nvPicPr>
          <p:cNvPr id="186" name="Diagram 5" descr=""/>
          <p:cNvPicPr/>
          <p:nvPr/>
        </p:nvPicPr>
        <p:blipFill>
          <a:blip r:embed="rId2"/>
          <a:stretch/>
        </p:blipFill>
        <p:spPr>
          <a:xfrm>
            <a:off x="407880" y="1700280"/>
            <a:ext cx="8467920" cy="51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4" descr="hlavicka power pointu"/>
          <p:cNvPicPr/>
          <p:nvPr/>
        </p:nvPicPr>
        <p:blipFill>
          <a:blip r:embed="rId1"/>
          <a:stretch/>
        </p:blipFill>
        <p:spPr>
          <a:xfrm>
            <a:off x="179280" y="189000"/>
            <a:ext cx="8785440" cy="1525680"/>
          </a:xfrm>
          <a:prstGeom prst="rect">
            <a:avLst/>
          </a:prstGeom>
          <a:ln w="0">
            <a:noFill/>
          </a:ln>
        </p:spPr>
      </p:pic>
      <p:pic>
        <p:nvPicPr>
          <p:cNvPr id="188" name="Diagram 3" descr=""/>
          <p:cNvPicPr/>
          <p:nvPr/>
        </p:nvPicPr>
        <p:blipFill>
          <a:blip r:embed="rId2"/>
          <a:stretch/>
        </p:blipFill>
        <p:spPr>
          <a:xfrm>
            <a:off x="176040" y="1841400"/>
            <a:ext cx="8699760" cy="473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4" descr="hlavicka power pointu"/>
          <p:cNvPicPr/>
          <p:nvPr/>
        </p:nvPicPr>
        <p:blipFill>
          <a:blip r:embed="rId1"/>
          <a:stretch/>
        </p:blipFill>
        <p:spPr>
          <a:xfrm>
            <a:off x="179280" y="189000"/>
            <a:ext cx="8785440" cy="1525680"/>
          </a:xfrm>
          <a:prstGeom prst="rect">
            <a:avLst/>
          </a:prstGeom>
          <a:ln w="0">
            <a:noFill/>
          </a:ln>
        </p:spPr>
      </p:pic>
      <p:pic>
        <p:nvPicPr>
          <p:cNvPr id="190" name="Diagram 3" descr=""/>
          <p:cNvPicPr/>
          <p:nvPr/>
        </p:nvPicPr>
        <p:blipFill>
          <a:blip r:embed="rId2"/>
          <a:stretch/>
        </p:blipFill>
        <p:spPr>
          <a:xfrm>
            <a:off x="165240" y="1841400"/>
            <a:ext cx="8710560" cy="473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0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24" descr="hlavicka power pointu"/>
          <p:cNvPicPr/>
          <p:nvPr/>
        </p:nvPicPr>
        <p:blipFill>
          <a:blip r:embed="rId1"/>
          <a:stretch/>
        </p:blipFill>
        <p:spPr>
          <a:xfrm>
            <a:off x="395280" y="260280"/>
            <a:ext cx="5043600" cy="114300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2" descr="http://www.enjoyslovakiatours.com/wp-content/uploads/219-plte-orava.jpg"/>
          <p:cNvPicPr/>
          <p:nvPr/>
        </p:nvPicPr>
        <p:blipFill>
          <a:blip r:embed="rId2"/>
          <a:stretch/>
        </p:blipFill>
        <p:spPr>
          <a:xfrm>
            <a:off x="357120" y="214200"/>
            <a:ext cx="7920000" cy="633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0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Ďakujem za pozornos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24" descr="hlavicka power pointu"/>
          <p:cNvPicPr/>
          <p:nvPr/>
        </p:nvPicPr>
        <p:blipFill>
          <a:blip r:embed="rId1"/>
          <a:stretch/>
        </p:blipFill>
        <p:spPr>
          <a:xfrm>
            <a:off x="395280" y="260280"/>
            <a:ext cx="5043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0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 u="sng">
                <a:solidFill>
                  <a:srgbClr val="000000"/>
                </a:solidFill>
                <a:uFillTx/>
                <a:latin typeface="Arial"/>
              </a:rPr>
              <a:t>Základné pojm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Sociálnoprávna ochran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je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súbor opatrení na zabezpečen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a) ochrany dieťaťa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b) výchovy a všestranného vývinu dieťaťa v jeho prirodzenom rodinnom prostredí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c) náhradného prostredia dieťaťu, ktoré nemôže by vychovávané vo vlastnej rod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24" descr="hlavicka power pointu"/>
          <p:cNvPicPr/>
          <p:nvPr/>
        </p:nvPicPr>
        <p:blipFill>
          <a:blip r:embed="rId1"/>
          <a:stretch/>
        </p:blipFill>
        <p:spPr>
          <a:xfrm>
            <a:off x="395280" y="260280"/>
            <a:ext cx="5043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0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●   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Sociálna kuratel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je súbor opatrení na odstránenie, zmiernenie a zamedzenie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rehlbovania alebo opakovania porúch psychického vývinu, fyzického vývin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a sociálneho vývinu dieťaťa a plnoletej fyzickej osoby a poskytovanie pomoci v závislosti od závažnosti poruchy a situácie, v ktorej sa nachádza dieťa alebo plnolet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fyzická osob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24" descr="hlavicka power pointu"/>
          <p:cNvPicPr/>
          <p:nvPr/>
        </p:nvPicPr>
        <p:blipFill>
          <a:blip r:embed="rId1"/>
          <a:stretch/>
        </p:blipFill>
        <p:spPr>
          <a:xfrm>
            <a:off x="395280" y="260280"/>
            <a:ext cx="5043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0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Ciele  v oblasti sociálnoprávnej ochrany detí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rozvíjať a skvalitňovať výkon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opatrení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odporujúcich život detí v rod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rioritne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v prirodzenom rodinnom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prostred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ak to nie je možné v 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náhradnom rodinnom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prostred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91920" indent="-23400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ak je potrebné dočasné umiestnenie dieťaťa   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v detskom domove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, uprednostňovať rodinné formy starostlivosti pred inštitucionálnou starostlivosťo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24" descr="hlavicka power pointu"/>
          <p:cNvPicPr/>
          <p:nvPr/>
        </p:nvPicPr>
        <p:blipFill>
          <a:blip r:embed="rId1"/>
          <a:stretch/>
        </p:blipFill>
        <p:spPr>
          <a:xfrm>
            <a:off x="395280" y="260280"/>
            <a:ext cx="5043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7T10:04:21Z</dcterms:created>
  <dc:creator>UPSVAR</dc:creator>
  <dc:description/>
  <dc:language>en-US</dc:language>
  <cp:lastModifiedBy>sbertova</cp:lastModifiedBy>
  <dcterms:modified xsi:type="dcterms:W3CDTF">2012-12-12T14:43:29Z</dcterms:modified>
  <cp:revision>203</cp:revision>
  <dc:subject/>
  <dc:title>Národný projekt č. XIV  Cielené odborné vzdelávanie zamestnancov úradov práce, sociálnych vecí a rodiny na úsekoch sociálnych vecí a rodiny</dc:title>
</cp:coreProperties>
</file>