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57E-9879-4534-9B42-9573A47CF1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F90E-AFAE-48DF-9432-C14F6DCEC2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BF5-A61A-4F34-9AE5-47F6B44A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022-E84E-4DFD-B524-50576715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4F6-E751-451F-969C-F3551C39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545-65C2-4822-8DB0-145EE7C4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052-2A07-4A18-9D34-8031499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189-C4A4-4994-B9B1-EB9CAD5D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9AE-DC1F-4298-B77A-7B6E09B7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BFD-2B8C-4C2A-B099-0F995674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638-FBEF-469B-B38F-1106D616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CC0-2D2D-41EA-A835-F0CA243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B97-107F-4FB3-AD06-65BE9401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83A-799F-4834-ACA3-20C63E1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5A0-A77D-453E-9DB5-44406F02CA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279576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logo IOP + EU + text - 1"/>
          <p:cNvPicPr/>
          <p:nvPr/>
        </p:nvPicPr>
        <p:blipFill>
          <a:blip r:embed="rId1"/>
          <a:stretch/>
        </p:blipFill>
        <p:spPr>
          <a:xfrm>
            <a:off x="152280" y="228600"/>
            <a:ext cx="5059440" cy="56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438624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1" descr="logoMPSV-m-sm"/>
          <p:cNvPicPr/>
          <p:nvPr/>
        </p:nvPicPr>
        <p:blipFill>
          <a:blip r:embed="rId2"/>
          <a:stretch/>
        </p:blipFill>
        <p:spPr>
          <a:xfrm>
            <a:off x="8381880" y="228600"/>
            <a:ext cx="5288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343080" y="2865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0:49:32Z</dcterms:created>
  <dc:creator>prihonskai</dc:creator>
  <dc:description/>
  <dc:language>en-US</dc:language>
  <cp:lastModifiedBy>Kostelníková Ludmila</cp:lastModifiedBy>
  <dcterms:modified xsi:type="dcterms:W3CDTF">2013-08-01T09:05:51Z</dcterms:modified>
  <cp:revision>2</cp:revision>
  <dc:subject/>
  <dc:title>Prezentace aplikace PowerPoint</dc:title>
</cp:coreProperties>
</file>