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497-215D-4276-9B85-9534A812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1B6-F181-4565-95B4-2C59C45E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B88-47E9-4FD3-A3A0-DC79EBD4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B377-95AD-491F-B20F-310BF6B3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190-F247-4A13-AFA2-B3CC91FD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E87-F9E6-4F5C-8373-F83D7F63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71C-FABB-4FA8-88D5-3BCE94CB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727-405D-4010-A99F-BD8F312A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8E3-D0E2-4BB0-A4AB-A44BFD07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E92-C2EB-4EEF-8DC9-16E512BF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168-D1F6-4879-A134-F2C3162C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BF1-E1D9-4867-84F9-321F3574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60B2-D3A1-43CF-B896-9BD691AC5E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1" descr=""/>
          <p:cNvPicPr/>
          <p:nvPr/>
        </p:nvPicPr>
        <p:blipFill>
          <a:blip r:embed="rId1"/>
          <a:stretch/>
        </p:blipFill>
        <p:spPr>
          <a:xfrm>
            <a:off x="3924360" y="174600"/>
            <a:ext cx="5145120" cy="646200"/>
          </a:xfrm>
          <a:prstGeom prst="rect">
            <a:avLst/>
          </a:prstGeom>
          <a:ln w="0">
            <a:noFill/>
          </a:ln>
        </p:spPr>
      </p:pic>
      <p:pic>
        <p:nvPicPr>
          <p:cNvPr id="42" name="Obrázek 2" descr=""/>
          <p:cNvPicPr/>
          <p:nvPr/>
        </p:nvPicPr>
        <p:blipFill>
          <a:blip r:embed="rId2"/>
          <a:stretch/>
        </p:blipFill>
        <p:spPr>
          <a:xfrm>
            <a:off x="95400" y="174600"/>
            <a:ext cx="21002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07:51:24Z</dcterms:created>
  <dc:creator>prihonskai</dc:creator>
  <dc:description/>
  <dc:language>en-US</dc:language>
  <cp:lastModifiedBy>Kostelníková Ludmila</cp:lastModifiedBy>
  <dcterms:modified xsi:type="dcterms:W3CDTF">2013-08-01T09:04:27Z</dcterms:modified>
  <cp:revision>4</cp:revision>
  <dc:subject/>
  <dc:title>Prezentace aplikace PowerPoint</dc:title>
</cp:coreProperties>
</file>