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375-6007-4B15-A0C1-DAD249F1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C77-5729-4058-B2EA-6E6CA742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C69-4576-4A53-95D6-6980B523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F1E-593A-4D5D-B309-EDB65EBB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3CE-F6E2-4E7C-8598-06103A12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CF3-6D7B-4519-9677-BE9416FC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5D2-DB77-41F7-A4DD-B4691A96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C133-282B-4524-9385-1DBA05FC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A05-0BAD-4AF4-B958-C4490C3B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74B9-9347-44E1-BFDB-FFF231CC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BF06-33EA-4D64-8948-EDE9E802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A96E-6432-4B99-B28B-B7DB8351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9B93-DB1A-454E-9081-31D385B3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D0BD-96B9-4D68-817F-3B627501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138D-6F1C-414E-A815-C0754AFA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0EB9-5870-4884-A678-7CCF33D8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6908-BB42-409E-8D33-45EA0C24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23D1-B911-4C11-AA72-9C2F1BCB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4519-A0CA-4CE9-96E8-13B2E183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315-BAE6-4078-AC80-29AFC4C2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B097-B21A-4462-B8B3-CA2FC1A8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AA53-CA99-4CD5-8295-47866379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3B51-67CF-45E9-A142-18D5A98C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E96CE-D7D8-4783-9347-B8D94264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0F610-7691-46F8-A342-A35B7865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CEA86-9A23-4356-A5C5-63C8E954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4E988-ACF1-469B-9EB7-AD4EF16A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CF7BF-EDDF-4018-A162-3154D05A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8E63-2F67-4343-9D83-4DF15B8A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BE2C6-D3B0-4D49-840E-6B098B60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F2D-1A0E-4A52-A1C1-4D2EFF08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9E1B8-7196-46E4-8D0E-C40B9173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770A1-4EE7-4696-ACDD-EC9246B8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950D1-67EC-46D7-BF7F-78A4B2EE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186DC-BECA-4080-A0B5-2B2F169D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2DD1-70AB-4729-8182-FE14123E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7C9F2-8410-4C1F-BCF6-A1FF7ADB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504A6-F424-4C15-BAB1-052E61BF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262AA-0A1B-4AB1-A8FB-2B119A0F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8BFE6-0141-4B0D-AB04-586C4504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919C2-5B15-4964-9F9C-C6584479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072-7045-4073-A1D0-6FFF409A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E85E8-FA0C-46CA-BE53-5A0BAB82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C6349-90AE-41B6-BE8C-D22C21A9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C70F4-BDD0-484C-BB6A-E9770087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311D4-077B-41DC-BC55-29323376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0B7C3-4287-4622-9542-204021D2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1699B-B167-4845-AB66-983FE062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E1D48-7818-4213-8B21-C841E47B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173BB-FD62-4F77-8DB5-9F0A559B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4283B-ECE9-4423-A3CC-9FCB8514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03637-35DD-423A-8AFE-1A67253B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CEE-EBF5-437F-9F6F-529534A7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F84AF-3035-4712-8879-3A7BE325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FDEF2-D8D0-447A-BBA0-284C901D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46B7D-EF71-493F-BED4-0B24399D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FCEF2-CE5B-4AF3-AE0F-0BEED64B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3DED9-F4D8-464E-81F1-45395F88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1451C-5D7E-4ADD-BB00-C3561E2A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C59D2-0B05-4121-AA8E-EE149DBA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4CE5-2EC6-4C2A-9478-A5FFE99A4C9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AB6A-47C3-41B6-A25C-702F564A8F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B122-2C7B-45D8-9333-821009B460CF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839D-73C7-414D-8127-B9F63752BB5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6ECD-889D-48B8-A767-DFF651ABD6CE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99C0-8B3D-4E91-B2B7-D5415EFFF80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4632-6254-4DC9-A924-062F596F259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1AB8-288B-42D3-B4E3-DF229B83AA3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4853-4A5C-410D-BD1B-5CA9993DC7E9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A9C4-8606-47D2-813D-3A0B776C94F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rtal.mpsv.cz/sz/zahr_zam" TargetMode="External"/><Relationship Id="rId2" Type="http://schemas.openxmlformats.org/officeDocument/2006/relationships/hyperlink" Target="http://www.portal.mpsv.cz/sz/zahr_zam/prociz" TargetMode="External"/><Relationship Id="rId3" Type="http://schemas.openxmlformats.org/officeDocument/2006/relationships/hyperlink" Target="http://www.portal.mpsv.cz/sz/zahr_zam/zelka" TargetMode="External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olicie.cz/sluzba-cizinecke-policie.aspx" TargetMode="External"/><Relationship Id="rId2" Type="http://schemas.openxmlformats.org/officeDocument/2006/relationships/hyperlink" Target="http://www.policie.cz/clanek/kontakty-na-reditelstvisluzby-a-jednotliva-oblastni-reditelstvi.aspx" TargetMode="External"/><Relationship Id="rId3" Type="http://schemas.openxmlformats.org/officeDocument/2006/relationships/hyperlink" Target="mailto:infoscpp@mvcr.cz" TargetMode="External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vcr.cz/azyl-migrace-a-integrace.aspx" TargetMode="External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zv.cz/jnp/cz/o_ministerstvu/adresar_diplomatickych_misi/ceske_urady_v_zahranici/index.html" TargetMode="External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rtal.mpsv.cz/sz/zahr_zam" TargetMode="External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rtal.mpsv.cz/sz" TargetMode="External"/><Relationship Id="rId2" Type="http://schemas.openxmlformats.org/officeDocument/2006/relationships/hyperlink" Target="http://www.statnisprava.cz/" TargetMode="External"/><Relationship Id="rId3" Type="http://schemas.openxmlformats.org/officeDocument/2006/relationships/hyperlink" Target="http://www.suip.cz/" TargetMode="External"/><Relationship Id="rId4" Type="http://schemas.openxmlformats.org/officeDocument/2006/relationships/hyperlink" Target="http://www.portal.mpsv.cz/sz/zamest/zpr_prace" TargetMode="External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ip.cz/informacni-materialy/pracovnepravni-vztahy/" TargetMode="External"/><Relationship Id="rId2" Type="http://schemas.openxmlformats.org/officeDocument/2006/relationships/hyperlink" Target="http://www.mpsv.cz/" TargetMode="External"/><Relationship Id="rId3" Type="http://schemas.openxmlformats.org/officeDocument/2006/relationships/hyperlink" Target="http://www.spocitej.cz/" TargetMode="External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292640"/>
            <a:ext cx="58579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ociální tlumočení ve styku s cizinci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administrativní činnos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¨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Altangerel 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portal.mpsv.cz/sz/zahr_z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informace o podmínkách zaměstnávání cizinců v Č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portal.mpsv.cz/sz/zahr_zam/proci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databáze volných pracovních míst z úřadů prá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www.portal.mpsv.cz/sz/zahr_zam/zel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zelené kar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portal.mpsv.cz/sz/zahr_zam/modka (modré kar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ochrance.cz (veřejný ochránce práv (ombudsman) - nezávislý státní orgán, zabývá se ochranou osob před jednáním úřadů, které je v rozporu se zákonem, pomáhá obětem diskrimina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iz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ziskové organizace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právní poradenství, podle možností i právní zastupování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Občanské poradny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bezplatné poradenství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Zaměstnání a podnikání v Č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úřady a organiz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ůležité záko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formace a internetové odkaz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Verdana"/>
              </a:rPr>
              <a:t>Úřady a organiz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1915920"/>
            <a:ext cx="77439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řad 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ziskové organizace (právní poradenství, podle možností i právní zastupován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čanské poradny (bezplatné poradenstv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inisterstvo průmyslu a obcho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nostenský úř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inanční úř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42560" y="1988640"/>
            <a:ext cx="77439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kresní správa sociálního zabezpečení (OSSZ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acoviště Ministerstva vnitra (OA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GLE – vzdělávání a poradenství pro cizince v oblasti podnik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Zdravotnictví a sociální zabezpečení v Č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úřad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ůležité záko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formace a internetové odkaz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Úřady a organiza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42560" y="1773360"/>
            <a:ext cx="7743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inisterstvo zdravotnic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rajský úřad – Odbor sociálních věci a zdravotnic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řad práce – odbor státní sociální podp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 dávky státní sociální podpory (rodičovský příspěvek a dalš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kresní správa sociálního zabezpečení (OSSZ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důchodové pojištění, důch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nemocenské pojištění, „mateřská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eská správa sociálního zabezpe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řídí a kontroluje činnost OSSZ a rozhoduje o nároku na důchody, jejích výši a výplatě, vyplácí důcho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ciální odbor obecního nebo městského úřadu/magistrá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sociální služby a pomoc v hmotné nouz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inisterstvo práce a sociálních vě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990033"/>
                </a:solidFill>
                <a:latin typeface="Verdana"/>
              </a:rPr>
              <a:t>Důležité zákon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organizaci a provádění sociálního zabezpečení (Zákon č. 582/1991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důchodovém pojištěni (Zákon č. 155/1995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státní sociální podpoře (Zákon č. 117/1995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pomoci v hmotné nouzi (Zákon č. 111/2006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sociálních službách (Zákon č. 108/2006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42560" y="1773360"/>
            <a:ext cx="7743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cssz.cz/cz/mezinarodni-smlouvy/smlouvy-uzavrene-c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seznam zemí, které uzavřely s ČR mezinárodní smlouvu o sociálním zabezpečen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portal.mpsv.cz/soc/poradce (sociální poradce na internetu vám pomůže odhadnout, jestli máte nárok na nějakou dávku nebo příspěvek, poradí, jak řešit tíživou sociální situac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Pobytový zákon pro cizince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úřady a organiz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ůležité záko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formace a internetové odkaz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42560" y="1714320"/>
            <a:ext cx="77439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niporadce.mpsv.c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(zde najdete aktuální informace ze zákonů a rady, jak řešit různé životní situ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cssz.cz/cz/tiskopisy/duchodove-pojisteni.htm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seznam všech formul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řů v elektronick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mě – důchodov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ojištěn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forms.mpsv.cz/sspforms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(formuláře - dávky státní sociální podpory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549360"/>
            <a:ext cx="6972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Policie České republiky – Služba cizinecké polici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1773360"/>
            <a:ext cx="7743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nformace o podmínkách vstupu a pobytu cizinců v Č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policie.cz/sluzba-cizinecke-policie.aspx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kontakty: </a:t>
            </a:r>
            <a:r>
              <a:rPr b="0" lang="cs-CZ" sz="23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policie.cz/clanek/kontakty-na-reditelstvisluzby-a-jednotliva-oblastni-reditelstvi.aspx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Informační linka pro pobyt cizinců na území ČR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- pondělí – čtvrtek 9.00 –15.30, pátek 9.00 -14.0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- telefon: +420 974 841 356, +420 974 841 357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cs-CZ" sz="23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infoscpp@mvcr.cz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Ministerstvo vnitra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988640"/>
            <a:ext cx="77439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nformace o vstupu a pobytu cizinců v ČR, informace o trvalém pobytu, azylu a dalš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mvcr.cz/azyl-migrace-a-integrace.asp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Adresa: Nad Štolou 3, poštovní schránka 21, 170 34 Praha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Telefon: +420 974 811 1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Ministerstvo zahraničních věcí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844280"/>
            <a:ext cx="77439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nformace o vízech a povoleních k pobytu pro cizi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formace ze zastupitelských úřadů ČR v zahranič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mzv.cz/jnp/cz/o_ministerstvu/adresar_diplomatickych_misi/ceske_urady_v_zahranici/index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mzv.c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dresa: Loretánské nám. 101/5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18 00 Praha 1 – Hradč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33"/>
                </a:solidFill>
                <a:latin typeface="Verdana"/>
              </a:rPr>
              <a:t>Ministerstvo práce a sociálních vě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nformace o podmínkách zaměstnávání cizinců v ČR a hledání volných pracovních míst v ČR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portal.mpsv.cz/sz/zahr_z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mpsv.c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dresa: Na Poříčním právu 1, 128 01 Praha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elefon: +420 221 921 1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-mail: posta@mpsv.c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1915920"/>
            <a:ext cx="774396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Úřady práce (podle místa bydliště) a oblastní inspektorát 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portal.mpsv.cz/s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statnisprava.c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www.suip.c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nformace o agenturách 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4"/>
              </a:rPr>
              <a:t>www.portal.mpsv.cz/sz/zamest/zpr_p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620640"/>
            <a:ext cx="69721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Důležité zákon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699920"/>
            <a:ext cx="77439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Zákon o pobytu cizinců (Zakon č.326/1999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Zákon o zaměstnanosti (Zakon č.435/2004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Zakonik prace (Zakon č. 262/2006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Antidiskriminační zákon (Zákon č.189/2009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990033"/>
                </a:solidFill>
                <a:latin typeface="Verdana"/>
              </a:rPr>
              <a:t>Informace a internetové odkaz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all centrum služeb zaměstnanosti – poradenstvi: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fon: 844 844 8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www.suip.cz (statni úřad inspekce prác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suip.cz/informacni-materialy/pracovnepravni-vztahy/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(informace o pracovním poměru a agenturním zaměstnávání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mpsv.cz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(v sekci „Práce a právo“ najdete informace ze zákoníku prác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www.spocitej.cz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(zde si můžete sami vypočítat výši čisté mzdy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7:16Z</dcterms:modified>
  <cp:revision>335</cp:revision>
  <dc:subject/>
  <dc:title>Snímek 1</dc:title>
</cp:coreProperties>
</file>