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CCC1-4308-4B1E-A522-68145B628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516F-01C2-4BBA-AB05-AADB5A85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F7A3-42B9-4213-99AE-38E429AB9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8536-39EF-4E5B-A78C-EA2B68615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D0DD-54FF-4D42-AD08-E4DC3A0E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90EC-DF5B-413E-A913-061E2FED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42D0-8C65-4DBA-A830-14E246BD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B118-933B-4DFE-81B0-73541C0D7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BE0D-9C2A-452A-BFA4-6BE713DD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E834-A05D-4FF6-9B4D-FE1C8A75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E51C-C63D-4FC5-AAB5-28F7879A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C934-71B8-4108-83AB-9BDC5DD5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AAA1-2B2B-497F-8373-6042C623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8AD0-87DF-4E65-9403-DF74AC7C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0D2C-0CC9-46C5-BDAB-099B545C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531F-2D74-4882-91E2-EA3148B9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AB3D-616B-415B-B026-2D73F292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DC49-4904-425B-B710-994DC924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DA84-BB6C-4434-91AD-DBE0A122E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B972-B727-41ED-9E67-1F07FB53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4C6B-59D1-4C7A-9230-1C57D9175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9BF33-ECD3-45E0-A498-CEE2BF0BD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E47C1-CF80-4CAA-8DBC-2AA09078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ED793-0A37-4288-AF2E-7FA8EAF1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02704-A9A8-45F2-B9EE-95616718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E219A-0362-460B-9DDB-1A8DF952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BA9A4-D465-406C-8A7D-A06F193A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83C94-1CB8-45D2-9501-E5BA5A9C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A3FB3-03C5-4E8F-88F2-E32D4ED2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7F082-2323-428B-8887-46748152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AB84-CDA3-40B3-B598-3B9786B0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8C08D-0550-434C-904E-2F11208B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37955-791F-4420-8121-C2B53D5D7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131F3-D29D-4441-98DD-883D1D81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AC6E4-DF85-4692-A06D-701CD5A4B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2089F-A889-49F9-A0A3-1CBC7A5E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5BECC-49DA-4E1F-9E91-5736C5E4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0BDCF-472C-4894-AAF5-3F001B30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6C194-DF55-40D1-909C-12A90489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1A766-C0C4-4E00-988F-F901FF63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FBD3B-E434-42D1-8FD7-DA1BA68E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BC95-9E26-4896-9B18-6FD0ECE5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4A3C1-42B0-4D26-A74D-3FE9DEDA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AB99A-1844-4DC8-9807-314BD52D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A6512-DE22-4237-A48E-9997223D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BC128-18B1-43D1-B71F-84386C0E6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7D231-8114-4290-B56E-620BD5496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CE287-4051-4B39-AB56-3A6470C38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56BB2-F595-4E27-88AD-4D316858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3214D-A061-4B17-B63F-A683E1EF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A602A-7646-45D3-A18C-199C7BE2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93515-8DC2-4662-82F8-AA972123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A386-5C12-4857-AF42-CD9B55F0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6143C-F3B6-4FDA-96EB-8A64B2F6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029A8-4E62-4045-AA58-8056196D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B0961-8F73-4092-87AD-412A5E0E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99EB9-BB10-4B6D-B147-306F4406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99B8C-DA13-44FE-BBA0-598203A4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351A0-729E-4933-9244-7AB241772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B5DCA-E6DF-410D-B9E8-83DA6C3A8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4180-6115-4FE0-8EC6-B1B52C20A77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2E76-9207-4AD4-92F0-FBD13B7A53F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CA52-E622-463D-A59A-CAA0126EC78C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AEA7-05EE-4EF4-BE1F-3CA3F8E6238F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9CE5-D821-439F-B7E3-4FD6DDC74FEF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FBC0-CAD7-459F-8339-199591DE1F7F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kitka_meta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Obrázek 18" descr="logoMPSV-c-sm.jpg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6E91-40A6-4A89-BD74-9B6FBD8C6DA0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7121-EE5E-4334-A7E3-5D80C041F0BD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3" descr="logo_meta_1_tmavší_FIN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kitka_meta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kitka_meta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kitka_meta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Obrázek 19" descr="logoMPSV-c-sm.jpg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2516-464F-411D-B6AF-D9F3A0AF9A0A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6DF5-3039-47A2-818A-A1C252F7F611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zech.cz/cz/62148-zivnostenske-podnikani" TargetMode="External"/><Relationship Id="rId2" Type="http://schemas.openxmlformats.org/officeDocument/2006/relationships/hyperlink" Target="http://domavcr.cz/" TargetMode="External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928960" y="4365360"/>
            <a:ext cx="585792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,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ociální tlumočení ve styku s cizinci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povinnosti podnikatele vůči úřadům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1" lang="cs-CZ" sz="2200" spc="-1" strike="noStrike">
                <a:solidFill>
                  <a:srgbClr val="000000"/>
                </a:solidFill>
                <a:latin typeface="Verdana"/>
              </a:rPr>
              <a:t>Altangerel 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1042560" y="1915920"/>
            <a:ext cx="77439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Měsíční zálohy na daň – když vaše výsledná daň přesáhne částku 30 000 Kč, budete muset platit také zálohy na daň z příjmů fyzických osob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Zdravotní pojišťovna (veřejná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kud máte trvalý pobyt a přístup k VZP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1) Na začátku vašeho podnikání – musíte ohlásit zahájení samostatné výdělečné činnosti a přihlásit se k účasti na pojištění – do 8 dnů od zahájení činnosti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042560" y="1915920"/>
            <a:ext cx="77439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aždý měsíc – platit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minimální zálohy – pojistné na zdravotní pojištění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. Zálohy jsou splatné od 1. do 8. dne následujícího měsíce. Výše minimální měsíční zálohy je stanovena na každý rok. Od ledna 2011 je 1.670 Kč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3)Jednou za rok musíte vyplnit a odevzdat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„Přehled o příjmech a výdajích OSVČ“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(= roční vyúčtování) – nejlépe do 31. 3. (následujícího roku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Během podnikání musíte hlásit na úřady všechny důležité změny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Finanční úřad – do 15 dn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SSZ – do 8 dnů následujícího měsí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dravotní pojišťovna – do 8 dn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1042560" y="2060640"/>
            <a:ext cx="77439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Formulář: Přehled o příjmech a výdajích OSVČ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 Na základě tohoto dokumentu se vypočítá (podle výše zisku = rozdíl mezi příjmy a výdaji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da byly zaplacené zálohy na pojistné dostatečné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da máte povinnost doplatit pojistné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da budete mít následující rok zálohy vyšší / stejné / nebo nižš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0033"/>
                </a:solidFill>
                <a:latin typeface="Verdana"/>
              </a:rPr>
              <a:t>Daň z přijmů fyzickych oso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042560" y="1773360"/>
            <a:ext cx="77439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Verdana"/>
              </a:rPr>
              <a:t>Cizinci, kteří na území ČR, mají stejná daňová práva a povinnosti jako občané České republiky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. Pokud je tedy cizinec daňovým rezidentem (plátce daně) České republiky, znamená to, že má v ČR neomezenou daňovou povinnost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Verdana"/>
              </a:rPr>
              <a:t>Daňovými rezidenty ČR jsou ti cizinci, kteří mají na území České republiky bydliště nebo se zde obvykle zdržují více než 183 dnů během zdaňovacího roku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. Naopak cizinec-nerezident se na území ČR obvykle nezdržuje a zpravidla zde pobývá jen přechodně, například za účelem léčení nebo studia apod., a stálé bydliště má v jiném státě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042560" y="1773360"/>
            <a:ext cx="77439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Jsou to peníze, které se vypočítají z vašeho zisku (= rozdíl mezi příjmy a výdaji) a které musíte odvádět státu.</a:t>
            </a:r>
            <a:r>
              <a:rPr b="1" lang="cs-CZ" sz="2300" spc="-1" strike="noStrike">
                <a:solidFill>
                  <a:srgbClr val="000000"/>
                </a:solidFill>
                <a:latin typeface="Verdana"/>
              </a:rPr>
              <a:t> Výše daně: 15 % (rok 2011)</a:t>
            </a: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Verdana"/>
              </a:rPr>
              <a:t>Vypočet</a:t>
            </a: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- příjmy − výdaje = základ daně − (odečteme) odčitatelné položky (například úroky ze stavebního spořeni, dary apod.) = upravený základ daně × 15 % = daň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Od daně ještě odečteme zaplacené zálohy a slevy na dani (na poplatníka, na vyživovaného manžela/ manželku nebo dítě, případně další slevy) a výsledná částka je daň, kterou zaplatít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Verdana"/>
              </a:rPr>
              <a:t>Ú</a:t>
            </a:r>
            <a:r>
              <a:rPr b="1" lang="en-US" sz="3200" spc="-1" strike="noStrike">
                <a:solidFill>
                  <a:srgbClr val="990033"/>
                </a:solidFill>
                <a:latin typeface="Verdana"/>
              </a:rPr>
              <a:t>četn</a:t>
            </a:r>
            <a:r>
              <a:rPr b="1" lang="cs-CZ" sz="3200" spc="-1" strike="noStrike">
                <a:solidFill>
                  <a:srgbClr val="990033"/>
                </a:solidFill>
                <a:latin typeface="Verdana"/>
              </a:rPr>
              <a:t>í</a:t>
            </a:r>
            <a:r>
              <a:rPr b="1" lang="en-US" sz="3200" spc="-1" strike="noStrike">
                <a:solidFill>
                  <a:srgbClr val="990033"/>
                </a:solidFill>
                <a:latin typeface="Verdana"/>
              </a:rPr>
              <a:t> a daňov</a:t>
            </a:r>
            <a:r>
              <a:rPr b="1" lang="cs-CZ" sz="3200" spc="-1" strike="noStrike">
                <a:solidFill>
                  <a:srgbClr val="990033"/>
                </a:solidFill>
                <a:latin typeface="Verdana"/>
              </a:rPr>
              <a:t>é</a:t>
            </a:r>
            <a:r>
              <a:rPr b="1" lang="en-US" sz="3200" spc="-1" strike="noStrike">
                <a:solidFill>
                  <a:srgbClr val="990033"/>
                </a:solidFill>
                <a:latin typeface="Verdana"/>
              </a:rPr>
              <a:t> dokla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042560" y="1844640"/>
            <a:ext cx="774396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ednou z povinnosti podnikatelů je vystavovávání různých dokumentů (dokladů). Jsou to zejména ty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faktu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íjmový pokladní dokl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ýdajový pokladní dokl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aragon (účtenk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odací list a dalš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Tyto doklady si vždy schovejt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042560" y="1773360"/>
            <a:ext cx="77439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Faktura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– musíte ji vystavit, když je váš příjem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vyšší než 10 000 Kč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a když platba proběhla bankovním převod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Příjmový pokladní doklad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– vystavíte, když váš příjem bude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nižší nebo roven 10 000 Kč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a platba byla v hotovost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Jaké přesně informace (náležitosti) musí být na těchto dokladech, si můžete zjistit v zákonech (zákon o účetnictví, obchodní zákoník a zákon o dani z přidané hodnoty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Zdroje informa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b8803"/>
                </a:solidFill>
                <a:uFillTx/>
                <a:latin typeface="Verdana"/>
                <a:hlinkClick r:id="rId1"/>
              </a:rPr>
              <a:t>http://www.czech.cz/cz/62148-zivnostenske-podnikan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b8803"/>
                </a:solidFill>
                <a:uFillTx/>
                <a:latin typeface="Verdana"/>
                <a:hlinkClick r:id="rId2"/>
              </a:rPr>
              <a:t>http://domavcr.cz/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Učebnice pro cizince - Vaše šance jít do práce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Slovíčka k témat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042560" y="1844640"/>
            <a:ext cx="77439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Daň z příjmů fyzických osob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- хувь хүний орлогын татва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Daňová evidence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- татварын бүртгэ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Daňové přiznaní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- татварын мэдүүлэ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Dodavatel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 - нийлүүлэгч, хангаг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Faktura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 - пада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1042560" y="1844640"/>
            <a:ext cx="77439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Odběratel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 - хэрэглэгч, захиалаг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Penále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 - гэрээний торгуу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Pokladní příjmový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/výdajový doklad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- кассын орлогын / зарлагын барим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Přehled o příjmech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a výdají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- орлогын / зарлагын тухай той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500" spc="-1" strike="noStrike">
                <a:solidFill>
                  <a:srgbClr val="000000"/>
                </a:solidFill>
                <a:latin typeface="Verdana"/>
              </a:rPr>
              <a:t>Příjem</a:t>
            </a: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 – орлог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500" spc="-1" strike="noStrike">
                <a:solidFill>
                  <a:srgbClr val="000000"/>
                </a:solidFill>
                <a:latin typeface="Verdana"/>
              </a:rPr>
              <a:t>Sleva na dani</a:t>
            </a: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mn-Cyrl-MN" sz="2500" spc="-1" strike="noStrike">
                <a:solidFill>
                  <a:srgbClr val="000000"/>
                </a:solidFill>
                <a:latin typeface="Verdana"/>
              </a:rPr>
              <a:t>na poplatníka </a:t>
            </a: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- татвар төлөгчийн хөнгөл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500" spc="-1" strike="noStrike">
                <a:solidFill>
                  <a:srgbClr val="000000"/>
                </a:solidFill>
                <a:latin typeface="Verdana"/>
              </a:rPr>
              <a:t>Účetnictví</a:t>
            </a: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 - нятлан бодох, санхүүгийн ажи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500" spc="-1" strike="noStrike">
                <a:solidFill>
                  <a:srgbClr val="000000"/>
                </a:solidFill>
                <a:latin typeface="Verdana"/>
              </a:rPr>
              <a:t>Výdaj</a:t>
            </a: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 - зарлаг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500" spc="-1" strike="noStrike">
                <a:solidFill>
                  <a:srgbClr val="000000"/>
                </a:solidFill>
                <a:latin typeface="Verdana"/>
              </a:rPr>
              <a:t>Výdaje procentem</a:t>
            </a: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mn-Cyrl-MN" sz="2500" spc="-1" strike="noStrike">
                <a:solidFill>
                  <a:srgbClr val="000000"/>
                </a:solidFill>
                <a:latin typeface="Verdana"/>
              </a:rPr>
              <a:t>z příjmů  </a:t>
            </a: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-орлогоос хасагдаx зарлагын хувь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1042560" y="1989000"/>
            <a:ext cx="774396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600" spc="-1" strike="noStrike">
                <a:solidFill>
                  <a:srgbClr val="000000"/>
                </a:solidFill>
                <a:latin typeface="Verdana"/>
              </a:rPr>
              <a:t>Vyživovaný manžel nebo manželka, dítě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 do 26 let</a:t>
            </a:r>
            <a:r>
              <a:rPr b="1" lang="mn-Cyrl-MN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- өрхийн орлогогүй эхнэр, нөхөр , 26 насны хүүхэд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600" spc="-1" strike="noStrike">
                <a:solidFill>
                  <a:srgbClr val="000000"/>
                </a:solidFill>
                <a:latin typeface="Verdana"/>
              </a:rPr>
              <a:t>Zálohy na pojistné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даатгалын урьдчилгаа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Daň z přidané hodnoty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 (zkratka DPH)-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нэмэгдсэн өртгийн албан татвар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НӨТ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990033"/>
                </a:solidFill>
                <a:latin typeface="Verdana"/>
              </a:rPr>
              <a:t>Povinnosti podnikatele – živnostenské podnik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1042560" y="2133360"/>
            <a:ext cx="77439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egistruji se na úřady </a:t>
            </a:r>
            <a:r>
              <a:rPr b="0" lang="cs-CZ" sz="3000" spc="-1" strike="noStrike">
                <a:solidFill>
                  <a:srgbClr val="000000"/>
                </a:solidFill>
                <a:latin typeface="Viner Hand ITC"/>
              </a:rPr>
              <a:t>&gt;&gt;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znamuji důležité změny na úřadech </a:t>
            </a:r>
            <a:r>
              <a:rPr b="0" lang="cs-CZ" sz="3000" spc="-1" strike="noStrike">
                <a:solidFill>
                  <a:srgbClr val="000000"/>
                </a:solidFill>
                <a:latin typeface="Viner Hand ITC"/>
              </a:rPr>
              <a:t>&gt;&gt;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latím pravidelně povinné zálohy na pojištění </a:t>
            </a:r>
            <a:r>
              <a:rPr b="0" lang="cs-CZ" sz="3000" spc="-1" strike="noStrike">
                <a:solidFill>
                  <a:srgbClr val="000000"/>
                </a:solidFill>
                <a:latin typeface="Viner Hand ITC"/>
              </a:rPr>
              <a:t>&gt;&gt;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ystavuji/přijímám faktury, pokladní doklady </a:t>
            </a:r>
            <a:r>
              <a:rPr b="0" lang="cs-CZ" sz="3000" spc="-1" strike="noStrike">
                <a:solidFill>
                  <a:srgbClr val="000000"/>
                </a:solidFill>
                <a:latin typeface="Viner Hand ITC"/>
              </a:rPr>
              <a:t>&gt;&gt;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dnou za rok podávám daňové přiznání a platí daně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Verdana"/>
              </a:rPr>
              <a:t>POVINNOSTI VŮČI </a:t>
            </a:r>
            <a:r>
              <a:rPr b="0" lang="cs-CZ" sz="3200" spc="-1" strike="noStrike">
                <a:solidFill>
                  <a:srgbClr val="990033"/>
                </a:solidFill>
                <a:latin typeface="Verdana"/>
              </a:rPr>
              <a:t>Ú</a:t>
            </a:r>
            <a:r>
              <a:rPr b="0" lang="en-US" sz="3200" spc="-1" strike="noStrike">
                <a:solidFill>
                  <a:srgbClr val="990033"/>
                </a:solidFill>
                <a:latin typeface="Verdana"/>
              </a:rPr>
              <a:t>ŘADŮM </a:t>
            </a: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(V PRVN</a:t>
            </a:r>
            <a:r>
              <a:rPr b="0" lang="cs-CZ" sz="2800" spc="-1" strike="noStrike">
                <a:solidFill>
                  <a:srgbClr val="990033"/>
                </a:solidFill>
                <a:latin typeface="Verdana"/>
              </a:rPr>
              <a:t>Í</a:t>
            </a: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M ROCE PODNIK</a:t>
            </a:r>
            <a:r>
              <a:rPr b="0" lang="cs-CZ" sz="2800" spc="-1" strike="noStrike">
                <a:solidFill>
                  <a:srgbClr val="990033"/>
                </a:solidFill>
                <a:latin typeface="Verdana"/>
              </a:rPr>
              <a:t>Á</a:t>
            </a: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N</a:t>
            </a:r>
            <a:r>
              <a:rPr b="0" lang="cs-CZ" sz="2800" spc="-1" strike="noStrike">
                <a:solidFill>
                  <a:srgbClr val="990033"/>
                </a:solidFill>
                <a:latin typeface="Verdana"/>
              </a:rPr>
              <a:t>Í</a:t>
            </a: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1042560" y="1773000"/>
            <a:ext cx="77439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Okresní správa sociálního zabezpečení (OSSZ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1) Na začátku vašeho podnikání (po ohlášení živnosti na živnostenském úřadu) musíte na tomto úřadu ohlásit zahájeni samostatné výdělečné činnosti – přihlásit se musíte do 8. dne následujícího měsíce po měsíci, v němž zahájíte činno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2) Na začátku vašeho podnikání – povinně musíte podat přihlášku OSVČ k účasti na důchodovém pojištění, dobrovolně potom přihlášku OSVČ k účasti na nemocenském pojištěn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1042560" y="1844280"/>
            <a:ext cx="77439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)Každý měsíc platíte minimální zálohy na sociální pojištění (důchodové, nemocenské) – zálohy jsou splatné od 1. do 20. dne následujícího měsíce. Výše minimální měsíční zálohy je stanovena na každý rok. Do  31.3.2011 byla min. záloha 1720,- , ale od 1.04.2011 min. záloha na sociální pojištění zvýšila na 1807,-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4) Jednou za rok musíte vyplnit a odevzdat formulář „Přehled o příjmech a výdajích OSVČ“ (= roční vyúčtování) – nejlépe do 31. 3. následujícího roku (nejpozději do 30. 4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1042560" y="1773360"/>
            <a:ext cx="77439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Finanční úřad (místně příslušný podle sídla podnikání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) Na začátku vašeho podnikání – registrujete se jako daňový subjekt (vybíráte si daně, ke kterým se chcete registrovat. Vždy se musíte registrovat k dani z příjmů fyzických osob.) – do 30 dnů od ohlášení živnosti získáte daňové identifikační číslo (DIČ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2) Jednou za rok – musíte vyplnit a podat daňové přiznání – do 31. 3. (následujícího roku). Formulář „Přiznání k dani z příjmů fyzických osob“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7:55Z</dcterms:modified>
  <cp:revision>306</cp:revision>
  <dc:subject/>
  <dc:title>Snímek 1</dc:title>
</cp:coreProperties>
</file>