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DF72-36FB-4ABB-9B9B-066026896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0B63-BA03-4E74-BB81-90FBD46EA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0554-FD68-4281-8239-8EBAE061B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351-F92E-485C-B05B-4D50DC0B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338-0C6F-43F5-8BC6-96B61B46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24A-448B-468B-AED6-A4FD8898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469-C9C9-41B8-9D42-52CFA707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FB8-8429-44E8-BDA4-24B1460A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D96-4B75-4831-B0E2-87DDEAF0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0F8-26B8-4D5B-9E46-ADB887D3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038F-BFEF-4C7D-AEF5-0A8FC66C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4FE-DE0E-4822-9821-F869371C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C063-824F-4468-9575-4614AADF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AA4F-3CB8-4A69-B14A-44CABD61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7CB5-33EB-4EEB-9FB7-D2958489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DD7C-1F43-4E40-9CDF-C52BA0FC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7426-2175-4BD3-890B-446B04A9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BE9E-92B8-4E86-BAEF-44BEBDA5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D001-966F-4154-BDA8-C0D4F4B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F444-A88B-49D7-84B8-EF2BDCAC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5AE7-3B2C-4741-89C8-D8B35389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6454-0453-48CB-85EC-5B139F4B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EDD-EA06-4DE3-9629-26870E7C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EB63-8D97-441A-AA7D-74A9F21D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0495-F20C-41BD-BCEE-B051D877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D89B-48A3-4448-B6C2-3F669F71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BE99-0874-4A35-957C-3184EA27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3B3E2-6DB8-4D21-96F7-19BC5C07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EDA52-567F-4233-ACBE-69FA576D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3BB4-A308-4BAC-AEC2-A65865E2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2BF4-B4E3-4E69-B525-8C32F4C9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B754-EC0C-41DB-A5C0-75C5AEC9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090A-5366-4926-8BD5-C7E60AB2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435-B70C-405F-875A-0A9B273D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E9F2F-12B8-48BE-840A-805E84CE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BA79-895F-435D-AB65-00CA363C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D8D7E-27D0-4C8C-B01B-B1E49445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F74F-B068-4FB5-9EEF-C728BB3A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EBBC-C69A-4A88-9B1F-7CA15B8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DB68-009F-447E-8208-96262013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4FC2-59DF-4B6F-A0FE-7966FC98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3EEDE-7F0D-4476-B8BB-541D03DB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57E35-FAED-4865-9638-4FD65CBB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68115-918E-4DBE-9344-F218E4B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D9B-3A4B-459E-8524-323DF0F4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B6EBD-F42D-4BDF-AB99-573F671F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9301-8E0F-40F8-A675-9F537A44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E1C8-8EDD-43C6-96B4-567A13F5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0BF1A-9843-4112-B131-82042BD8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69B1-1159-411D-B81D-4DA3E5A3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4113B-2590-4FBC-947A-7CF03755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7BC94-2238-47BB-A57B-DE51FDAB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D27EC-CBD6-4022-AF22-E5F49E5B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D9BED-45C8-46D0-AD1E-3E9D1C0F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5D250-D17E-4573-8D95-DDA69B4F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113-66CD-4A4A-AE55-A1712E0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D657-0E0D-48B4-8AFD-A0454EE7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C511B-5213-42BC-A2C1-ACE36318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7794B-3985-4910-BCB5-AC7B749E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BA4D-8160-470F-820D-FC0F14A8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20FE7-A33B-478F-B0DC-145A136A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6DBB5-3992-433B-BFF3-4AB77B58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40FB-23FC-49B7-9B71-FEDE801E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376F-0B8D-4C12-B775-CE886FF669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497F-4D57-4527-BA9B-307F6396D5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8B96-B987-4B55-8F2D-D6BB38DE9B0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CEF6-0457-407B-B6BC-867C50E229F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90D3-B82C-4428-914C-039DC27AE0E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9207-AF08-45AF-ADF5-60B6F908A11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3E9F-B4FB-41D2-A024-002A00B8590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8937-EC0B-4290-811F-E05B8A81A88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16E7-E69E-46AA-9A54-1B6348B4100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E789-E816-485C-AE69-FB286251764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icpraha.org/" TargetMode="External"/><Relationship Id="rId2" Type="http://schemas.openxmlformats.org/officeDocument/2006/relationships/hyperlink" Target="http://www.cizinci.cz/" TargetMode="External"/><Relationship Id="rId3" Type="http://schemas.openxmlformats.org/officeDocument/2006/relationships/hyperlink" Target="http://www.domavcr.cz/" TargetMode="External"/><Relationship Id="rId4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928960" y="4076640"/>
            <a:ext cx="58579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"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zdravotní pojišt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ltangerel 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ám bylo uděleno vízum k pobytu nad 90 dnů za účelem strpění pobytu na území ČR nebo vydáno povolení k dlouhodobému pobytu za účelem strpění pobytu na území ČR – vztahuje se však pouze na případy konkrétně stanovené zákonem o pobytu cizinc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mn-Cyrl-MN" sz="3000" spc="-1" strike="noStrike">
                <a:solidFill>
                  <a:srgbClr val="990033"/>
                </a:solidFill>
                <a:latin typeface="Verdana"/>
              </a:rPr>
              <a:t>Эрүүл мэндийн даатгал сонгох</a:t>
            </a:r>
            <a:r>
              <a:rPr b="0" lang="mn-Cyrl-MN" sz="32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3200"/>
            </a:br>
            <a:r>
              <a:rPr b="0" lang="cs-CZ" sz="3000" spc="-1" strike="noStrike">
                <a:solidFill>
                  <a:srgbClr val="990033"/>
                </a:solidFill>
                <a:latin typeface="Verdana"/>
              </a:rPr>
              <a:t>Výběr zdravotní pojišťovny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вээ та дээрхи нөхцөлүүдийн ал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эгийг нь бүрдүүлсэн бол НЭМД-т хамаарагда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ас гадна мөн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араахи улсын байгууллагуудын эрүүл мэндийн даатгалыг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нгон авах эрхтэй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stliže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lpňujete podmink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na které se vztahuje veřejné zdravotní pojištění, máte právo na výbě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dravotní pojišťovn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42560" y="1628640"/>
            <a:ext cx="7743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Všeobecná zdravotní pojišťovna (1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Vojenská zdravotní pojišťovna (20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Česká národní zdrav. pojišťovna (20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Agel (22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aměstnanecká pojišťovna Škoda (209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Revírní bratrská pokladna (2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Média (22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Metal–Aliance (217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Ministerstva vnitra ČR (2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Oborová zdravotní pojišťovna (20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Česká průmyslová zdravotní pojišťovna (20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00000" y="1628640"/>
            <a:ext cx="7886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үх эрүүл мэндийн даатгалууд нь хуулийн дагуу адилхан эмчилгээ үзүүлнэ. Зарим нэг давуу тал болон хямдрал дээр өөр өөр байна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ын нутаг дэвсгэр дээр төрсөн хүүхдийн (гадаад иргэний) ээж нь хүүхдээ 8 хонгийн дотор эрүүл мэндийн даатгалын газарт мэдэгдэх үүрэгтэ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šechny zdravotní pojišťovny zajišťují podle zákona stejný rozsah zdravotní péče, liší se jen v nabídce některých výhod, slev a příspěvk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případě narození dítěte na území ČR, které se stává pojištěncem zdravotní pojišťovny, u které je pojištěna jeho matka (narození dítěte ste povinen oznámit této zdravotní pojišťovně do 8 dn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3000" spc="-1" strike="noStrike">
                <a:solidFill>
                  <a:srgbClr val="990033"/>
                </a:solidFill>
                <a:latin typeface="Verdana"/>
              </a:rPr>
              <a:t>Ямар үед НЭМД хүчингүй вэ?</a:t>
            </a:r>
            <a:br>
              <a:rPr sz="3000"/>
            </a:br>
            <a:r>
              <a:rPr b="0" lang="cs-CZ" sz="3000" spc="-1" strike="noStrike">
                <a:solidFill>
                  <a:srgbClr val="990033"/>
                </a:solidFill>
                <a:latin typeface="Verdana"/>
              </a:rPr>
              <a:t>Kdy veřejné zdrav.pojišťovny zaniká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71280" y="1714680"/>
            <a:ext cx="78152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йнгийн оршин суух зөршөөрөлгүй үед БНЧУ-д ажлын байраа алдах тэр өдрөө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ын нутагт байнгийн оршин су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рхээ алд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лон улсын хамгаалалтын (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zyl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рогнол эсвэл нөхөн хамгаалалт –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plňková ochrana)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сэлтийн процесс зогссон бас татгалзсан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д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лээлгийн зорилоготой 90 хоногоос дээш эсвэл урт хүгацааны виз хүчингүй эсвэл цуцласан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атгуулагч нас барах юмуу нас барснаар зарлах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nem, kdy osoba bez trvalého pobytu na území ČR přestala být zaměstnance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rušením trvalého pobytu na území ČR, zastavením řízení nebo zamítnutím žádosti o mezinárodní ochran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dnětím nebo zánikem mezinárodní ochran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rušením nebo skončením platnosti víza k pobytu nad 90 dnů za účelem strpění pobytu na území ČR nebo povolení k dlouhodobému pobytu za účelem strpění pobytu na území Č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mrtím nebo prohlášením cizince za mrtvéh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Zdravotní pojišt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71640" y="1628280"/>
            <a:ext cx="7743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ний эрх ба эрх чөлөөний тунхаглалын 31-р хэсгийн дагуу хүн бүр эрүүл мэндээ хамгаалуулах эрхтэ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мнэлгийн тусламж нь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рүүл мэндийн даатгалын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үндсэн дээр олгогд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900" spc="-1" strike="noStrike">
                <a:solidFill>
                  <a:srgbClr val="990033"/>
                </a:solidFill>
                <a:latin typeface="Verdana"/>
              </a:rPr>
              <a:t>НЭМД</a:t>
            </a:r>
            <a:r>
              <a:rPr b="1" lang="cs-CZ" sz="2900" spc="-1" strike="noStrike">
                <a:solidFill>
                  <a:srgbClr val="990033"/>
                </a:solidFill>
                <a:latin typeface="Verdana"/>
              </a:rPr>
              <a:t>-</a:t>
            </a:r>
            <a:r>
              <a:rPr b="1" lang="en-US" sz="2900" spc="-1" strike="noStrike">
                <a:solidFill>
                  <a:srgbClr val="990033"/>
                </a:solidFill>
                <a:latin typeface="Verdana"/>
              </a:rPr>
              <a:t>ын даатгал төлөгчид</a:t>
            </a:r>
            <a:br>
              <a:rPr sz="2800"/>
            </a:b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látc</a:t>
            </a: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 pojistného</a:t>
            </a: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 na 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zdravotní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pojiště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900000" y="1773000"/>
            <a:ext cx="7886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АЖИЛ ОЛГОГЧ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ажилтныг хөдөлмөрийн харьцаа үүсгэж ажилд ороход энэ тухай ажил олгогч нь 8 хоног дотор зохих эрүүл мэндийн даатгалын газарт мэдэгдэх ёст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 ажил олгогч даатгалын зохих хэсгийг ажилтны цалингаас нь (13,5%) суутгаж даатгалыг харъяа даатгалын байгууллагад шилжүүлнэ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 даатгалын хэсгийн 2/3 ажил олгогч өөрийн фондноос, 1/3 ажилтны цалингаас нийт даатгалын хэмжээг боддо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ZAMĚSTNAVATEL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i nástupu zaměstnance do zaměstnaneckého poměru musí o této skutečnosti zaměstnavatel nejpozději do 8 dnů informovat příslušnou zdravotní pojišťovnu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pojistné za zaměstnance odvádí zaměstnavatel, příslušnou částku mu sráží z platu (13,5%) a poukazuje příslušné pojišťovně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ást pojistného (2/3) platí zaměstnavatel ze svých fondů, část pojistného (1/3) odečítá z vaší mzd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971280" y="1714320"/>
            <a:ext cx="781524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říklad 1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Zaměstnanec v hlavním pracovním poměru pobírá mzdu ve výši 10 484 Kč. Je plátcem zdravotního pojištění. Jakou částkou se podílí na zdravotním pojištění zaměstnanec a zaměstnavat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Hrubý příjem zaměstnanc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vyměřovací základ pro výpočet pojistnéh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 484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Zaměstnavatel po zaokrouhlení odvede pojistné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0 484 * 13,5 %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 416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Zaměstnanci strhne z plat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 416 : 3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7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Zaměstnavatel uhradí ze svých prostředk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 416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72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944 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Анхаар!!!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эрвээ таны ажил олгогч (ажилийн газар,фирма, агентур)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рүүл мэндийн даатгалыг буруу төлөх эсвэл огт төлөхгүй байгаа мэт танд санагдаж байвал та эрүүл мэндийн даатгалыг төлсө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төлбөрийн хуудасыг ажил олгогчоос нэхэмжлэх эрхтэй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ZOR!!!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estli,že máte podezření, že za vás zaměstnavatel (firma, agentura) neplatí správně zdravotní pojištění, můžete si vyžádat potvrzení příslušné zdravotní pojišťovny o zaplaceném pojistné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ДААТГУУЛАГЧ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уулагч байнгийн ажилгүй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гэрээт, хувиараа, цагийн ажил хийж тогтмол биш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орлоготой, төр даатгалыг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төлдөггүй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өхцөлт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уулийн заалтын дагуу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уулагч өөрөө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алаа төлнө. Эрүүл мэндийн даатгалын газар сар болгон хуурамж тушаана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OJIŠTĚNCI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pojistné si platíte sám/sama, pokud za vás neplatí pojistné stát ani zaměstnavatel nebo nemáte určitou hranici příjmu , např. když pracujete na dohodu o provedení práce, nepravidelnou výpomoc, příležitostné prác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26560" y="1714320"/>
            <a:ext cx="7959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ТӨР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ийтийн эрүүл мэндийн даатгалын зарим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оролцогчдын даатгалыг төлөгч нь төр байна. Үүн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тэжээгчгүй хүүхдүүд (26 хүртлэх насны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жирэмсний ба амаржсаны амралттай  эхчүүд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Чех улсын тэтгэврийн даатгалаас тэтгэвэр авагчи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цэг эхийн тэтгэмж авч хүүхэд асарч буй хүмүүс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хөдөлмөрийн товчоонд бүртгэлтэй байгаа ажил хайгч хүмүү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STÁ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nezaopatřené děti (do 26 let věk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oživatele důchodů z důchodového pojištění Č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říjemce rodičovského příspěvk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matky na mateřské a rodičovské dovole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uchazeče o zaměstnání (kteří jsou zaregistrovaní na úřadu práce) a dalš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900" spc="-1" strike="noStrike">
                <a:solidFill>
                  <a:srgbClr val="990033"/>
                </a:solidFill>
                <a:latin typeface="Verdana"/>
              </a:rPr>
              <a:t>Ямар үед даатгал төлөхгүй вэ?</a:t>
            </a:r>
            <a:br>
              <a:rPr sz="2900"/>
            </a:br>
            <a:r>
              <a:rPr b="0" lang="cs-CZ" sz="2900" spc="-1" strike="noStrike">
                <a:solidFill>
                  <a:srgbClr val="990033"/>
                </a:solidFill>
                <a:latin typeface="Verdana"/>
              </a:rPr>
              <a:t>Kdy nejsem povinen platit pojistné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рэв та 6 сараас дээш гадаад улсад оршин су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 тухайн газраа эрүүл мэндийн даатгалд хамаарагдахаар бол Чех дэх даатгалын газарт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бичгэн мэдэгдэл өгөө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рүүл мэндийн даатгалаа төлөх хэрэггүй. Харин гадаадаас ирсэн үедээ Чех дэ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ь даатгалын газартаа гадаадад даатгалд хамаарагдаж байсан баримтаа үзүүлэхгүй бол Ч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д байхгүй байсан сарынхаа тоогоор нөхөн төлбөр төлн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042560" y="1699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Nejste povinen platit pojistné, když pobýváte v cizině </a:t>
            </a: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déle než 6 měsíců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, pokud jste v cizině zdravotně pojištěn, a písemně jste o tom informoval vaši zdravotní pojišťovnu v ČR. Po tuto dobu, až do opětovného přihlášení, nemáte nárok na úhradu zdravotní péče z veřejného zdravotního pojištění. Po návratu musíte předložit doklad o zdravotním pojištění v cizině a jeho délce. Pokud takový doklad nepředložíte, budete muset příslušné zdravotní pojišťovně doplatit pojistné zpětně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9721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Худалдааны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(гэрээний) эрүүл мэндийн даатгал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Komerční (smluvní) zdrav.pojišt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00000" y="1557000"/>
            <a:ext cx="7848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3 сараас дээш оршин суух эрхтэй б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гадаадын иргэд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эрвээ та НЭМД-т хамаарагдах нөхцлийг бүрдүүлээгүй бол БНЧУ-ын худалдааны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алд хамаарагдах үүрэгтэй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Pojišťovna VZP , a.s. (dále PVZ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Slavia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 Viktoria Volksbanken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Maxima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Uniqua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le článku 31 Listiny základních práv a svobod má každý právo na ochranu zdrav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avotní péče se zpravidla poskytuje na základě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zdravotního pojištěn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zinc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teří maj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obyt na území ČR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ší než 3 měsíce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ud nesplňujete podmínky pro účast ve veřejném zdravotním pojištění, máte povinnost uzavřít komerční zdravotní pojištění, které mají oprávnění poskytovat toto pojištění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Худалдааны (гэрээний) даатгалын төрлүүд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: </a:t>
            </a:r>
            <a:br>
              <a:rPr sz="32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Typy komerčního pojištění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00000" y="1700280"/>
            <a:ext cx="7886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өвхөн шаардлагатай ба хойшлуулшгүй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эмчилгээ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мчийн үзлэгт орох хэрэггүй, 1 өдрөөс 3 жилийн хугацаатай гэрээ байгуулж болно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хамгийн бага даатгалы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хугацаа нь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н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ээ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хоног бай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г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жилийн даатгалын төлбөр 5000–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000,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зарим гэрээний даатгал Шенгений нутаг дэвсгэрт хүчинтэй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42560" y="1915920"/>
            <a:ext cx="7743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эг хүнд ноогдох эмчилгээний төлбөр 1 200 000,-, хэрвээ 2 000 000,- хүртэл өсгөвөл даатгалын жилийн хураамж бас өснө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!!!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Гэрэ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йхээсээ өмнө даатгалы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отоод жур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заалты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айт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далах хэрэгтэ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 NUTNÁ A NEODKLADNÁ (AKUTNÍ) PÉČE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- základn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ní potřeba lékařské vyšetření, může se sjednat na dobu od jednoho dne až do 3 let. Pojištění se sjednává na jednotlivé dny, přičemž minimální pojistná doba obvykle činí tři d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jistné je u jednotlivých pojišťoven různé, pohybuje se mezi 5000 – 8000,- Kč roč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rytí do výše 1 200 000,- Kč lze navýšit až na 2 000 000,-, ale platíte vyšší pojist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latí pro území ČR a území ostatních schengenských stá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ůkladně prostudujte pojistné podmínky, neboť tato pojištění mají mnoho výjimek a ome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Урт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хугацааны гэрээт даатг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ал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иж бүрэн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нэхүү даатгалыг зөвхө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„ Zdravotní pojištění cizinců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(ZPC)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гэсэн нэрэн доор PVZP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2010.6.1-ээс Slavia pojišťovna хийдэг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3 сараас дээш оршин суух эрхтэ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нэ төрлийн гэрээт даатгалын нөxөн олговорын хэмжээ нь ихэнхдээ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оношлогоо эмчилгээ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амбулаторийн ба хэвтэж эмчлүүлэх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мний мөнгө ба эмнэлгийн хэрэгслүүд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жирэмслэл болон төрөлт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мнэлгийн байгууллагад хүрэх шаардлагаар гарсан замын зардалтай холбоотой зарлагыг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амарна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900000" y="1628640"/>
            <a:ext cx="7886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атгалыг 6-аас 24 сар хүртэл хугацаагаар хийж болно. Даатгуулсан бүх хугацааны мөнгийг урьдчилж бэлэн мөнгөөр төлн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иж бүрэн даатгалын төлбөр нь  даатгуулачийн нас хүйснээс хамаарч өөр өөр байна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атгалын гэрээг 0-70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ооронд наста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үнийг, эмчийн анхан шатны үзлэгт оруулсны үндсэн дээр хийнэ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Анхаар! даатгалын газар даатгал хийх албагүй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900000" y="1628280"/>
            <a:ext cx="7886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MPLEXNÍ PÉČE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oto pojištění poskytuje pouze PVZP (od 1. června 2010 i Slavia pojišťovna) pod názvem „Zdravotní pojištění cizinců“ (ZPC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ajišťuje zdravotní péči v rozsahu, který je širší než u pojištění nutné a neodkladné péče (pokrývá např. diagnostickou, léčebnou,ambulantní a ústavní péči, těhotenství a porod, výdaje spojené s dopravou potřebnou k dosažení zdravotnického zařízení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 určeno pro cizince pobývající na území ČR po dobu delší než 3 měsí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jištění může být sjednáno na období od šesti měsíců až do tří let a pojištěná osoba může být ve věku od 0 do 70 let/Pozor! Pojišťovna pojistit nemusí!/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ena komplexního pojištění je podstatně dražší a odvíjí se od pohlaví a věk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zemní platnost – ČR a ostatní schengenské stá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эв та ямар нэгэн шалтгаанаар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эрүүл мэндийн даатгалд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амрагдаагүй т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иолдол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мч болон эрүүл мэндийн байгуулага эмчилгээний төлбөрийг бэлнээр аль эсвэл төлбөрийг ,, гэрээний үни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дагуу хийхийг шаард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өгөөд энэ нь нилээдгүй өндөр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мжээтэй байж бол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юм. Үүнээс гадна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рүүл мэндийн даатгалд хамаарагдаагүй тохиолдолд БНЧУ-д оршин суух эрх ч хүчингүй боло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болзошгүй байдаг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00000" y="1628280"/>
            <a:ext cx="7886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Хэрэв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рүүл мэндийн даатгалд хамрагдаагү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рүүл мэндийн даатгалаа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өлөгддөггүй эмнэлгийн тусламж үзүүлэх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хиолдол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эмнэлгийн тусламж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үнэ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төлбөртэ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případě, že osoba není účastna zdravotního pojištění, případně se jedná o zdravotní péči, která není hrazena ze zdravotního pojištění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oskytuje se zdravotní péče za úhradu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042560" y="1557000"/>
            <a:ext cx="7743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z nějakého důvodu nemáte zdravotní pojištění, bude po vás lékař nebo léčebné zařízení požadovat po jakémkoli vyšetření, ošetření nebo zákroku úhradu v hotovosti, nebo péči účtovat ve „smluvních“ cenách, které mohou dosahovat velmi vysokých část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romě toho nesplnění povinnosti mít zdravotní pojištění může být důvodem zrušení platnostivydaného oprávnění k pobytu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4000" spc="-1" strike="noStrike">
                <a:solidFill>
                  <a:srgbClr val="990033"/>
                </a:solidFill>
                <a:latin typeface="Verdana"/>
              </a:rPr>
              <a:t>Оюут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Засгийн газрын солилцооны хөтөлбөр - эрүүл мэндийн даатгалыг улсаас даа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Европын холбооны улсын оюутан солилцох хөтөлмө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гэрээгүй оюутан - оршин суух хуулийн дагуу эрүүл мэндийн даатгалаа оюутан өөрөө төлн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Studenti</a:t>
            </a:r>
            <a:r>
              <a:rPr b="1" i="1" lang="cs-CZ" sz="4000" spc="-1" strike="noStrike" u="sng">
                <a:solidFill>
                  <a:srgbClr val="990033"/>
                </a:solidFill>
                <a:uFillTx/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xistence mezivládní dohody – náklady na akutní léčení ze státního rozpoč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U a obecné dvoustranné smlouvy – stejné podmínky jako ostatní obča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smluvní cizina – podmínky dle zákona o pobytu cizinc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droje inform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cicpraha.org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cizinci.cz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domavcr.c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9721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000" spc="-1" strike="noStrike">
                <a:solidFill>
                  <a:srgbClr val="990033"/>
                </a:solidFill>
                <a:latin typeface="Verdana"/>
              </a:rPr>
              <a:t>Эрүүл мэндийн даатгалын төрлүүд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3200"/>
            </a:br>
            <a:r>
              <a:rPr b="0" lang="cs-CZ" sz="3000" spc="-1" strike="noStrike">
                <a:solidFill>
                  <a:srgbClr val="990033"/>
                </a:solidFill>
                <a:latin typeface="Verdana"/>
              </a:rPr>
              <a:t>Typy zdravotního pojištění</a:t>
            </a: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26560" y="1628640"/>
            <a:ext cx="7959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Чех улсад эрүүл мэндий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аатгалын хоёр төрөл байдаг: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нийтийн” заавал байх эрүүл мэндийн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даатгал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үүсэ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өхцө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ь хуулиар өгөгдсө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худалдаан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гэрээний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эрүүл мэндийн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даатгал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аатгалын гэрээ байгуулснаар үүсдэг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нгийн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90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үртэл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оно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иж бүрэ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 сараас 3 жил хүртэл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71280" y="1628640"/>
            <a:ext cx="7815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ČR existují dva typy zdravotního pojištění: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vinné veřejné zdravotní pojiště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é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zniká při splnění podmínek přímo z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ákon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komerční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mluvní) zdravotní pojištění, které vzniká uzavřením pojistné smlouv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základní (do 90 dnů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komplexní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d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ěsíců do tří le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14320" y="-360"/>
            <a:ext cx="6972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Verdana"/>
              </a:rPr>
              <a:t>Нийтийн эрүүл мэндийн даатгал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Verdana"/>
              </a:rPr>
              <a:t>Veřejné zdravotní pojišt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71280" y="1628280"/>
            <a:ext cx="78152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Ямар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нөхцөлд нийтийн эрүүл мэндийн даатгалд хамаарагдах ёстой вэ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БНЧУ-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 байнгий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оршин суу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зөвшөөрөлтэ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хэрвээ ажиллаж байгаа албан байгуулага эсвэл ажлын дарга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 албан ёсны байнгий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оршин суу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зөвшөөрөлтэй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бол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вээ олон улсын хамгаала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zyl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рогнол эсвэл нөхөн хамгаала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– doplňková ochrana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) хүссэ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мөн авсан б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вээ БНЧУ-д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үлээлгийн зорилоготой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90 хоногоос дээш эсвэл урт хүгацааны виз олгосон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DO JE ÚČASTNÍKEM VEŘEJNÉHO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DRAVOTNÍHO POJIŠTĚN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te trvalý pobyt na území České republik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te cizinec – zaměstnanec zaměstnavatele, který má sídlo nebo trvalý pobyt na území Č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te žadatel o mezinárodní ochranu (azyl nebo doplňková ochrana), nebo vám byl udělen azyl nebo doplňková ochrana v Č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9:16Z</dcterms:modified>
  <cp:revision>305</cp:revision>
  <dc:subject/>
  <dc:title>Snímek 1</dc:title>
</cp:coreProperties>
</file>