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6743-8B6F-4DD8-ACFD-EF4BF87C9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91A5-98A9-4FEC-B84C-580865D2F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3652-F616-4232-A2B5-91F9BBF20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4686-1864-421A-A592-F5A35E610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4F14-A23D-4210-803B-7D6387680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388E-9E02-4E32-91F5-24620C8C8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D9E6-7130-4F5B-8735-535C12506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B29F5-49BC-4D63-9F4D-B994D45C4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96BA-638A-4D43-8F32-0E6A4DAD1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08331-46A2-4B9A-8FD8-04BE136C0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BBC22-82C5-4DAE-8622-5BD6FAEEF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4DEF5-FC8D-4A44-8F58-F07C7D5F5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1B101-43C7-4FF3-B9BC-83A8848A5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0AE60-12AB-45E0-A391-7FA912ED3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EB060-1D31-4356-9150-4F21B3E2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92660-2198-4817-8439-2D0DF9B8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8A4E4-2265-427E-9AB7-72F1EF7A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A80FB-08F8-45B9-B06A-057E47E25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C0DA1-DB9B-41BE-8E42-0227EC848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45AD-94AA-4BFA-B449-6300EDED4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850C4-E663-4200-B293-E9AE74175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2E8C9-2E7D-4451-A4FC-6DD5B78C4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1EAE8-3531-491F-A30C-88E5DBEFB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79ACB-B2EC-43AA-AE9F-E3E40DB9D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B45B7-7686-4621-A72A-DBBD5B9A3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51BF9-502F-4E12-B5B0-40B68298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C68D1-75EC-44B6-9CD0-74D484A82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A0354-8E38-48FD-B1A8-DB1B4478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AFEE5-9315-437D-87BF-8E3EB1AA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C9FD1-495A-49DE-BE44-5827E1FB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F38F-34C0-44CA-8E2E-541C0145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596B4-BEE5-4F66-996C-41D8203FB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57DF8-8918-4A35-B245-AA3F79400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8F987-30D5-4D78-A8B4-AA60E20C9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A229E-1139-420F-8097-1EBE3FE63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F9685-E740-44B9-8A72-1E987D8A4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F64CB-85A3-4B47-B1EF-B5480514A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E8E28-FD0B-479C-83E9-DAD9F0E08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BED51-6E44-440B-AAD9-9122ED2C4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3D2CA-0C6B-4506-9E29-84C3FE794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BE0B7-2D75-4C51-9BC2-DA0B4062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D0FB-CC25-49E4-B75F-8ED0A2F9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C4A7D-CA2A-405C-93B2-282FBA4C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B9D3F-5A60-446B-8754-4F1FAFEB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8526F-9988-4F22-9460-91F0B9B3C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D893C-375A-4EF5-8344-AAC3A0305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BE1F7-93D0-4EBB-9409-8918BCA20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EE2A0-98AB-4EC8-906D-5D24845FF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87E93-7F7A-472D-9945-E79F4487C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85875-3E93-4FEB-AAEC-DC3105751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D28A1-3838-4D64-A75B-07CE6B72C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D43FD-C2F8-4239-B39D-7A969187F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74D7-798F-4C10-8EA5-0316CF9A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E0A18-1F28-4B4A-BB24-48AC6271C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25CFB-2E4C-4B6C-B7EB-C08EABD0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C63B9-0E70-4B4C-B481-8041C878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7DB2E-DEFE-4E73-9851-B022EB02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1CE17-2318-4F39-BAD8-C4EF38823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17EC7-D775-4499-BBA2-F33B41E29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FC029-5A57-471B-A771-569010660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15B56-AC7B-47F4-9429-475D4A41599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25258-BB70-43D9-AECE-7149DAE6A51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aoblený obdélník 21"/>
          <p:cNvSpPr/>
          <p:nvPr/>
        </p:nvSpPr>
        <p:spPr>
          <a:xfrm>
            <a:off x="2928960" y="3886200"/>
            <a:ext cx="58579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2" descr="logo_meta_1_tmavší_FIN"/>
          <p:cNvPicPr/>
          <p:nvPr/>
        </p:nvPicPr>
        <p:blipFill>
          <a:blip r:embed="rId5"/>
          <a:stretch/>
        </p:blipFill>
        <p:spPr>
          <a:xfrm>
            <a:off x="2916360" y="2109960"/>
            <a:ext cx="4392360" cy="1560240"/>
          </a:xfrm>
          <a:prstGeom prst="rect">
            <a:avLst/>
          </a:prstGeom>
          <a:ln w="0">
            <a:noFill/>
          </a:ln>
        </p:spPr>
      </p:pic>
      <p:pic>
        <p:nvPicPr>
          <p:cNvPr id="54" name="Obrázek 19" descr="logoMPSV-c-sm.jpg"/>
          <p:cNvPicPr/>
          <p:nvPr/>
        </p:nvPicPr>
        <p:blipFill>
          <a:blip r:embed="rId6"/>
          <a:stretch/>
        </p:blipFill>
        <p:spPr>
          <a:xfrm>
            <a:off x="7451640" y="115920"/>
            <a:ext cx="1427400" cy="14698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2" descr="logo_meta_1_tmavší_FIN"/>
          <p:cNvPicPr/>
          <p:nvPr/>
        </p:nvPicPr>
        <p:blipFill>
          <a:blip r:embed="rId3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kitka_meta"/>
          <p:cNvPicPr/>
          <p:nvPr/>
        </p:nvPicPr>
        <p:blipFill>
          <a:blip r:embed="rId4"/>
          <a:stretch/>
        </p:blipFill>
        <p:spPr>
          <a:xfrm>
            <a:off x="1390680" y="5700600"/>
            <a:ext cx="457200" cy="439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kitka_meta"/>
          <p:cNvPicPr/>
          <p:nvPr/>
        </p:nvPicPr>
        <p:blipFill>
          <a:blip r:embed="rId5"/>
          <a:stretch/>
        </p:blipFill>
        <p:spPr>
          <a:xfrm>
            <a:off x="1720800" y="5373720"/>
            <a:ext cx="347760" cy="334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kitka_meta"/>
          <p:cNvPicPr/>
          <p:nvPr/>
        </p:nvPicPr>
        <p:blipFill>
          <a:blip r:embed="rId6"/>
          <a:stretch/>
        </p:blipFill>
        <p:spPr>
          <a:xfrm>
            <a:off x="928800" y="4857840"/>
            <a:ext cx="792000" cy="760320"/>
          </a:xfrm>
          <a:prstGeom prst="rect">
            <a:avLst/>
          </a:prstGeom>
          <a:ln w="0">
            <a:noFill/>
          </a:ln>
        </p:spPr>
      </p:pic>
      <p:pic>
        <p:nvPicPr>
          <p:cNvPr id="107" name="Obrázek 20" descr="logoMPSV-c-sm.jpg"/>
          <p:cNvPicPr/>
          <p:nvPr/>
        </p:nvPicPr>
        <p:blipFill>
          <a:blip r:embed="rId7"/>
          <a:stretch/>
        </p:blipFill>
        <p:spPr>
          <a:xfrm>
            <a:off x="7308720" y="260280"/>
            <a:ext cx="1425600" cy="1470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kitka_meta"/>
          <p:cNvPicPr/>
          <p:nvPr/>
        </p:nvPicPr>
        <p:blipFill>
          <a:blip r:embed="rId3"/>
          <a:stretch/>
        </p:blipFill>
        <p:spPr>
          <a:xfrm>
            <a:off x="871560" y="4311720"/>
            <a:ext cx="639720" cy="614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kitka_meta"/>
          <p:cNvPicPr/>
          <p:nvPr/>
        </p:nvPicPr>
        <p:blipFill>
          <a:blip r:embed="rId4"/>
          <a:stretch/>
        </p:blipFill>
        <p:spPr>
          <a:xfrm>
            <a:off x="1000080" y="5072040"/>
            <a:ext cx="1143000" cy="1098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2" descr="logo_meta_1_tmavší_FIN"/>
          <p:cNvPicPr/>
          <p:nvPr/>
        </p:nvPicPr>
        <p:blipFill>
          <a:blip r:embed="rId5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59" name="Obrázek 19" descr="logoMPSV-c-sm.jpg"/>
          <p:cNvPicPr/>
          <p:nvPr/>
        </p:nvPicPr>
        <p:blipFill>
          <a:blip r:embed="rId6"/>
          <a:stretch/>
        </p:blipFill>
        <p:spPr>
          <a:xfrm>
            <a:off x="7524720" y="189000"/>
            <a:ext cx="1425600" cy="14684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711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14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F7DE5-53A8-4983-A11F-A3CAD8F86434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6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15841-803A-4009-A35B-37E9C8BE0B23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154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72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60961-57CD-4A57-B0B4-D45B23517561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9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4DB56-3AB0-45A4-8EFB-1C848343E79A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Obdélník 6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bdélník 7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4" descr="kitka_meta"/>
          <p:cNvPicPr/>
          <p:nvPr/>
        </p:nvPicPr>
        <p:blipFill>
          <a:blip r:embed="rId3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26" name="Obrázek 18" descr="logoMPSV-c-sm.jpg"/>
          <p:cNvPicPr/>
          <p:nvPr/>
        </p:nvPicPr>
        <p:blipFill>
          <a:blip r:embed="rId5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BDE76-979A-4C91-A19F-2BEA3254D5DE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2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400DA-9C35-4329-BC58-43FAAFD415DE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Obdélník 6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bdélník 7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23" descr="logo_meta_1_tmavší_FIN"/>
          <p:cNvPicPr/>
          <p:nvPr/>
        </p:nvPicPr>
        <p:blipFill>
          <a:blip r:embed="rId2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kitka_meta"/>
          <p:cNvPicPr/>
          <p:nvPr/>
        </p:nvPicPr>
        <p:blipFill>
          <a:blip r:embed="rId3"/>
          <a:stretch/>
        </p:blipFill>
        <p:spPr>
          <a:xfrm>
            <a:off x="8358120" y="785880"/>
            <a:ext cx="371520" cy="357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5" descr="kitka_meta"/>
          <p:cNvPicPr/>
          <p:nvPr/>
        </p:nvPicPr>
        <p:blipFill>
          <a:blip r:embed="rId4"/>
          <a:stretch/>
        </p:blipFill>
        <p:spPr>
          <a:xfrm>
            <a:off x="8715240" y="500040"/>
            <a:ext cx="282600" cy="2714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kitka_meta"/>
          <p:cNvPicPr/>
          <p:nvPr/>
        </p:nvPicPr>
        <p:blipFill>
          <a:blip r:embed="rId5"/>
          <a:stretch/>
        </p:blipFill>
        <p:spPr>
          <a:xfrm>
            <a:off x="8072280" y="63360"/>
            <a:ext cx="642960" cy="617760"/>
          </a:xfrm>
          <a:prstGeom prst="rect">
            <a:avLst/>
          </a:prstGeom>
          <a:ln w="0">
            <a:noFill/>
          </a:ln>
        </p:spPr>
      </p:pic>
      <p:pic>
        <p:nvPicPr>
          <p:cNvPr id="381" name="Obrázek 19" descr="logoMPSV-c-sm.jpg"/>
          <p:cNvPicPr/>
          <p:nvPr/>
        </p:nvPicPr>
        <p:blipFill>
          <a:blip r:embed="rId6"/>
          <a:stretch/>
        </p:blipFill>
        <p:spPr>
          <a:xfrm>
            <a:off x="0" y="5732640"/>
            <a:ext cx="1092240" cy="112536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7118C-8DD4-4FC9-AAAF-5DBFDC7B520F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5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55812-5C8E-410A-A7D9-BA83EBA0CBA3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Zaoblený obdélník 21"/>
          <p:cNvSpPr/>
          <p:nvPr/>
        </p:nvSpPr>
        <p:spPr>
          <a:xfrm>
            <a:off x="2928960" y="3214800"/>
            <a:ext cx="5857920" cy="24573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Nadpis 1"/>
          <p:cNvSpPr/>
          <p:nvPr/>
        </p:nvSpPr>
        <p:spPr>
          <a:xfrm>
            <a:off x="1643040" y="1500120"/>
            <a:ext cx="7286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990033"/>
                </a:solidFill>
                <a:latin typeface="Verdana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2" descr="logo_meta_1_tmavší_FIN"/>
          <p:cNvPicPr/>
          <p:nvPr/>
        </p:nvPicPr>
        <p:blipFill>
          <a:blip r:embed="rId5"/>
          <a:stretch/>
        </p:blipFill>
        <p:spPr>
          <a:xfrm>
            <a:off x="6635880" y="5877000"/>
            <a:ext cx="2160360" cy="766800"/>
          </a:xfrm>
          <a:prstGeom prst="rect">
            <a:avLst/>
          </a:prstGeom>
          <a:ln w="0">
            <a:noFill/>
          </a:ln>
        </p:spPr>
      </p:pic>
      <p:pic>
        <p:nvPicPr>
          <p:cNvPr id="437" name="Obrázek 20" descr="logoMPSV-c-sm.jpg"/>
          <p:cNvPicPr/>
          <p:nvPr/>
        </p:nvPicPr>
        <p:blipFill>
          <a:blip r:embed="rId6"/>
          <a:stretch/>
        </p:blipFill>
        <p:spPr>
          <a:xfrm>
            <a:off x="7596360" y="115920"/>
            <a:ext cx="1427040" cy="14698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portal.mpsv.cz/sz" TargetMode="External"/><Relationship Id="rId2" Type="http://schemas.openxmlformats.org/officeDocument/2006/relationships/hyperlink" Target="http://www.mpsv.cz/" TargetMode="External"/><Relationship Id="rId3" Type="http://schemas.openxmlformats.org/officeDocument/2006/relationships/hyperlink" Target="http://domavcr.cz/" TargetMode="External"/><Relationship Id="rId4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2928960" y="4365360"/>
            <a:ext cx="585792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,,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Sociální tlumočení ve styku s cizinci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podnikání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Altangerel 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1042560" y="2060640"/>
            <a:ext cx="774396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Cizinci, kteří nemají trvalý pobyt na území ČR, musí mít za účelem podnikání povolení k pobytu (dlouhodobé vízum nebo povolení k dlouhodobému pobytu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měnit účel pobytu z důvodu ztráta práci – moct požádat o změnu účelu pobytu na podnikání až po 2 letech pobytu v ČR. Žádost podá na pracoviště MV OAM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1042560" y="1915920"/>
            <a:ext cx="774396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4 druhy živností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olná – živnosti ohlašovací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ázaná - živnosti ohlašovací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řemeslná - živnosti ohlašovací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koncesovaná - živnosti koncesované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Volná živn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stačí splnit 3 základní podmín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1. věk minimálně 18 l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2. bezúhonn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3. způsobilost k právním výkonů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1042560" y="1699920"/>
            <a:ext cx="77439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Vázaná a řemeslná živn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tejné podmínky jako u volné živnosti a navíc musíte mít požadované vzdělání (kvalifikaci), případně praxi (pracovní zkušenosti). Konkrétní podmínky jsou popsané v příloze živnostenského zákon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Platná právní úprava rozeznává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živnosti ohlašovací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(ohlásit živnosti na živnostenskému úřadu a osvědčuje se vydáním výpisu z živnostenského rejstříku)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1042560" y="1699920"/>
            <a:ext cx="77439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živnosti koncesované,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u nichž je právo podnikat vázáno na souhlasné stanovisko věcně příslušného orgánu státní správy; vzniká udělením koncese a osvědčuje se vydáním výpisu z živnostenského rejstříku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Ohlášení nebo žádost o koncesi je možno podat osobně (písemně, elektronicky, resp. prostřednictvím kontaktního místa veřejné správy) u kteréhokoliv příslušného obecního živnostenského úřadu (obecním živnostenským úřadem je odbor obecního úřadu obcí s rozšířenou působností) nebo p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rostřednictvím služby Czech POI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714320" y="764640"/>
            <a:ext cx="697212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Verdana"/>
              </a:rPr>
              <a:t>Jak postupovat a co budete potřebovat pro ohlášení živnosti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1042560" y="1699920"/>
            <a:ext cx="774396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vyplněny „Jednotný registrační formulář“ nebo formulář „Ohlášení živnosti“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růkaz totožnosti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výpis z rejstříku trestů – ne starší než 3 měsíce, pokud příslušný stát takový doklad nevydá, stačí čestné prohlášení učiněné před notářem nebo úřadem státu, jehož jste občan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doklad o místu podnikání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doklad o zaplacení poplatku (1 000 Kč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ovoleni k pobytu na území ČR (dlouhodobé vízum nebo povolení k dlouhodobému pobytu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1042560" y="1988640"/>
            <a:ext cx="774396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U živnosti vázané a řemeslné (a také u   koncesované živnosti) navíc musíte doloži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doklad o své odborné způsobilosti (nebo odpovědného zástupce – to je někdo, kdo má praxi v oboru, ve kterém chcete podnikat, a zaručí se za vá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okud je nutné také prohlášení odpovědného zástup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Dokumenty musí byt úředně přeloženy d českého jazyk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1042560" y="1773360"/>
            <a:ext cx="77439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Živnostensky úřad je součástí městského úřadu nebo magistrátu. Živnostenský úřad do 5 dnů provede zápis do živnostenského rejstříku. Živnostenský úřad vám potom vydá výpis z živnostenského rejstříku – to je doklad o vaši podnikatelské činnosti (dříve to byl živnostensky list)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U ohlašovaných živností provede živnostenský úřad zápis do živnostenského rejstříku do 5 dnů ode dne doručení ohlášení a vydá podnikateli výpis, splní-li ohlašovatel podmínky stanovené zákonem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1042560" y="1844640"/>
            <a:ext cx="774396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U koncesované živnosti živnostenský úřad rozhodne o žádosti o koncesi zpravidla do 60 dnů ode dne doručení žádosti obecnímu živnostenskému úřadu, pokud jsou splněny všechny náležitosti a do 5 dnů ode dne nabytí právní moci rozhodnutí o udělení koncese provede zápis do živnostenského rejstříku a podnikateli vydá výpi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714320" y="475920"/>
            <a:ext cx="697212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Verdana"/>
              </a:rPr>
              <a:t>Registrace na další úřady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1042560" y="1844640"/>
            <a:ext cx="774396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Okresní správa sociálního zabezpečeni (OSSZ)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– přihlášení k důchodovému (povinně) a nemocenskému (dobrovolně) pojištění (= sociální pojištění). Přihlásit se musíte do osmého dne následujícího měsíce po měsíci, ve kterém jste začali podnika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Jaké formuláře budete vyplňovat na OSSZ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„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Oznámení o zahájení (opětovném zahájení) samostatné výdělečné činnosti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řihláška OSVČ k účasti na důchodovém pojištěni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řihláška k dobrovolné účasti na nemocenském pojištěni OSVČ“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1042560" y="1773360"/>
            <a:ext cx="77439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Finanční úřad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– přihlášení k daním, tento úřad vám přidělí DIČ (daňové identifikační číslo). Přihlásit se musíte do 30 dnů ode dne, kdy jste získali povoleni k podniká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dravotní pojišťovna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– veřejné zdravotní pojištění. Přihlásit se musíte do 8 dnů od zahájení podnikatelské činnost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Úřad práce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– hlášení volného pracovního místa. Tady se přihlásíte pouze v případě, že budete chtít někoho zaměstnat (= budete mít zaměstnance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Na všechny úřady musíte hlásit všechny důležité změny v průběhu podnikání!!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Slovíčka k témat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1042560" y="1915920"/>
            <a:ext cx="77439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Činnost hlavní  - үндсэн ажил ( гол орлого олж байгаа үндсэн ажил)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Činnost vedlejší -  зэргэлдээ үйл ажиллагаа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Finanční úřad - албан татбарын алба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Fyzická osoba - хувиараа хөдөлмөр эрхлэгч буй ху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ь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 этгээд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714320" y="764640"/>
            <a:ext cx="697212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Verdana"/>
              </a:rPr>
              <a:t>Živnostenské podnikání cizinců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okud chcete začít podnikat a změnit účel pobytu – například ztratíte práci, už nebudete mít povolení k pobytu za účelem zaměstnání, a proto musíte požádat o nové povolení k pobytu: můžete požádat o změnu účelu pobytu na podnikání až po 2 letech pobytu v ČR. Žádost podáte na pracoviště Ministerstva vnitra OAM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1042560" y="1844640"/>
            <a:ext cx="77439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Co  musíte doložit na pracovišti MV OAMP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Žádost povolení k pobytu za účelem podnikání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Doklad o zdravotním pojištění -musíte mít zařízené a zaplacené (najednou celé dopředu) zdravotní pojištění na celou dobu povolení k pobytu, pokud chcete požádat k dlouhodobé vízum nebo povolení k dlouhodobému pobytu za účelem podnikání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900000" y="1714320"/>
            <a:ext cx="78868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ýpis z živnostenského rejstříku a také doklad o tom, že nic nedlužíte na FÚ nebo OSSZ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rokázat stavenou výši příjmu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Verdana"/>
              </a:rPr>
              <a:t>Obchodní společnost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1042560" y="1844640"/>
            <a:ext cx="774396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Právní úprava obchodních společností je obsažena v zákoně č. 513/1991 Sb., obchodní zákoník, v platném znění. Obchodní společnosti jsou právnickými osobami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Cizinci musí mít za účelem podnikání prostřednictvím obchodní společnosti vydáno oprávnění k pobytu </a:t>
            </a:r>
            <a:r>
              <a:rPr b="1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za účelem účasti na právnické osobě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(při podání žádosti o vízum nad 90 dnů/povolení k dlouhodobému pobytu prokazuje cizinec účel pobytu výpisem z obchodního rejstříku). </a:t>
            </a:r>
            <a:r>
              <a:rPr b="1" lang="cs-CZ" sz="2500" spc="-1" strike="noStrike">
                <a:solidFill>
                  <a:srgbClr val="000000"/>
                </a:solidFill>
                <a:latin typeface="Verdana"/>
              </a:rPr>
              <a:t>Této oprávnění k pobytu se uděluje pouze členům statutárních orgánů právnické osoby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1042560" y="1915920"/>
            <a:ext cx="774396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Do obchodního rejstříku se zapisují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bchodní společnosti a družstva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ahraniční osoby podle § 21 odst. 4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fyzické osoby, které jsou podnikateli a mají bydliště v České republice a osoby podle § 21 odst. 5, které podnikají na území České republiky, pokud o zápis požádají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další osoby, stanoví-li povinnost jejich zápisu zvláštní právní předp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1042560" y="1988640"/>
            <a:ext cx="774396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bchodní rejstřík je každému přístupný veřejný seznam vedený krajským soudem (tzv. rejstříkový soud) podle sídla obchodní společnost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aždý má právo do něj nahlížet, pořizovat si z něho kopie a výpisy. Zapisují se do něj zákonem stanovené údaje o podnikatelíc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Zdroje informac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eb8803"/>
                </a:solidFill>
                <a:uFillTx/>
                <a:latin typeface="Verdana"/>
                <a:hlinkClick r:id="rId1"/>
              </a:rPr>
              <a:t>www.portal.mpsv.cz/sz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eb8803"/>
                </a:solidFill>
                <a:uFillTx/>
                <a:latin typeface="Verdana"/>
                <a:hlinkClick r:id="rId2"/>
              </a:rPr>
              <a:t>http://www.mpsv.cz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www.cizinci.cz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eb8803"/>
                </a:solidFill>
                <a:uFillTx/>
                <a:latin typeface="Verdana"/>
                <a:hlinkClick r:id="rId3"/>
              </a:rPr>
              <a:t>http://domavcr.cz/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Učebnice pro cizince - Vaše šance jít do práce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2935440" y="3213000"/>
            <a:ext cx="5822640" cy="24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1042560" y="2060640"/>
            <a:ext cx="774396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Jednotný registrační formulář - Нэгдсэн бүртгэлийн хуудас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Nebytové prostory -  худалдаа эрхлэх байр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Okresní správa sociálního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zabezpečeni (OSSZ) - Окресын нийгэмийн хангамжийн байгууллага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1042560" y="1844640"/>
            <a:ext cx="774396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Právnická osoba - хуулийн этгээд  (худалдааны компаниудыг төлөөлөж байгаа хуулийн этгээд)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Provozovna - бизнес хийж байгаа газар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Předmět (obor) činnosti - бизнес хийж байгаа үйл ажиллагааны тодорхой нэр заалт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1042560" y="1988640"/>
            <a:ext cx="774396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Výpis z živnostenského rejstříku - лицензээр аж ахуй эрхлэх газрын тодорхойлолт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Živnost vázaná - хязгаарласан хэлбэртэй арилжаа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Živnost řemeslná - гар үйлдвэрийн арилжа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1042560" y="1988640"/>
            <a:ext cx="774396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Živnost koncesovaná - зєвшєєрсєн, эрх олгосон (лиценз) арилжа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Živnost volná - чөлөөт арилжа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Živnostenské oprávnění - арилжаа (бизнес) зөвшөөрөл, бүрэн эрх олго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Živnostenský úřad - арилжааны (бизнес) албан газар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971640" y="2204640"/>
            <a:ext cx="774360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Živnostník = OSVČ = podnikate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Živnostenské podnikání </a:t>
            </a:r>
            <a:r>
              <a:rPr b="0" lang="cs-CZ" sz="2800" spc="-1" strike="noStrike">
                <a:solidFill>
                  <a:srgbClr val="000000"/>
                </a:solidFill>
                <a:latin typeface="Viner Hand ITC"/>
              </a:rPr>
              <a:t>&gt;&gt;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ohlášení živnosti – živnostenský úřad </a:t>
            </a:r>
            <a:r>
              <a:rPr b="0" lang="cs-CZ" sz="2800" spc="-1" strike="noStrike">
                <a:solidFill>
                  <a:srgbClr val="000000"/>
                </a:solidFill>
                <a:latin typeface="Viner Hand ITC"/>
              </a:rPr>
              <a:t>&gt;&gt;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živnostenské oprávnění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714320" y="836640"/>
            <a:ext cx="697212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Verdana"/>
              </a:rPr>
              <a:t>PODNIKÁNÍ V ČR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1042560" y="1844640"/>
            <a:ext cx="774396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Osoba, která samostatně vykonává výdělečnou činnost, tzn. podniká či provozuje jinou hospodářskou činnost, se označuje jako osoba samostatně výdělečně činná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Je několik možnosti jak podnika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1. jako fyzická osoba/OSVČ – nejčastěji živnostnici (živnostenské oprávněn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2. jako právnická osoba – obchodní společnosti (například s. r. o.) nebo družstv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990033"/>
                </a:solidFill>
                <a:latin typeface="Verdana"/>
              </a:rPr>
              <a:t> 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Verdana"/>
              </a:rPr>
              <a:t>Živnostenské podnikání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1042560" y="2204640"/>
            <a:ext cx="774396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Živnostenské podnikání v ČR upravuje zákon č. 455/1991 Sb., o živnostenském podnikání v platném znění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Cizinci s trvalým pobytem a azylanté tak mají v oblasti živnostenského podnikání stejné postavení jako občan Č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11:24Z</dcterms:created>
  <dc:creator>User</dc:creator>
  <dc:description/>
  <dc:language>en-US</dc:language>
  <cp:lastModifiedBy>Fridrichová Jitka Mgr. (MPSV)</cp:lastModifiedBy>
  <dcterms:modified xsi:type="dcterms:W3CDTF">2015-08-19T15:58:29Z</dcterms:modified>
  <cp:revision>283</cp:revision>
  <dc:subject/>
  <dc:title>Snímek 1</dc:title>
</cp:coreProperties>
</file>