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D07-2E05-48C1-B72D-3B347935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057-F395-4CF5-A6F4-F273567D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9D8-B57A-477E-889A-C8A66CC7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302-DE17-48AD-8DF1-4334AD1C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655-324D-4E03-9388-829763EB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DCD-117E-463A-BF01-6110D800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233-7457-48F8-A2B2-5ADB8E42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A39-ACE7-45CD-A999-879BCA61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582-20FA-4941-9447-9CAE767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F18-F72E-4B70-BE08-F8E6037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AC13-1133-41C2-83F2-7450D1E1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246F-68BF-479C-887E-60E9F6A2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2452-7EE6-4FE1-986B-BB1AE1C4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4595-9506-429C-AC70-B7DCDD5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F0E3-A7DB-439E-BCC3-A665BDC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7AE0-A6DA-4620-8DAC-7F994FF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7003-759D-4BA0-8D41-076EE31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5A1B-5F2F-46A9-B788-34CA4E99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DCC4-76D7-446E-85F2-F2097E86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72F-88E9-4A2F-A3B8-D2D5B0C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1C86-0C60-4546-9F13-B3B18F01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A28B-6044-46B5-9171-AEAA283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0008-0A1A-4E39-8731-511404E7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F536-A44F-4C4F-9C3D-9FBA4E31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3E30-0DC7-4C19-B72E-051403E0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AC64-F368-4A3B-AB42-CAD1482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5829-7B71-4840-97AA-C0A319C6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699F-6A21-4FD3-BD0C-427BE8CD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2F1A-D832-42DD-81DF-5270039F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E4A7-4F28-4C98-A7FB-519B0353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FDC-E717-4EDD-BD28-E4F32ED6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D2F5-66B0-4CF3-BC71-B24B8FCE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A680-BC44-46C3-A3DC-96D6CE63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7DC6-7EE3-45D4-B9C1-218CD132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4F2D-35CE-47FF-A425-3B75097B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74CC-4789-46BF-95F5-58E1DE2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7D84-095E-455D-800C-5C58E9B3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499F-F0BA-4066-A352-4D7B5E66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21F6-63B0-4869-AD64-D20B4C26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0BB7-628D-4040-A3B9-5F7E3301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1CD0-0F19-4A05-8CDA-7F1EC2B6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FB6-E733-470A-A801-0DF130E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FEC9-6A73-4682-89F7-F6AE03C5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FF93-79F9-476F-8242-D5CB73D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F4F2-92A8-4B9D-8CAB-C291662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C6DB-0415-4413-B328-7DCE425F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B4C2-3D12-4DB2-BA39-57FA1E4C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8F4B4-8934-48F2-B188-D76A4BDB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32B4F-B91A-4452-8B8E-8F47E21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A4F9-24B4-4987-8A82-01F55790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9F22-1C13-4EB7-9A15-F2E8ED08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77BC-6645-4D6F-B4EB-6CCA33A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F08-3537-47C8-A326-B40B0AC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F91E-4A6B-4C78-93B1-7BB81ABC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2C1B-4ADF-4048-B6B0-9DEE8599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0DB32-7467-4FF5-B955-234B8B5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E28F-C944-4DA9-90D2-4AF477B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D2A2D-997A-4FA3-BD05-91D96337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E9893-8349-4072-8192-2208B6C4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23912-04EF-425F-ABEE-965B4B42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AAD8-8750-415A-9CC2-308513553B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7F81-EE1D-4E91-9FA5-936371B046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582B-ED6B-4159-9742-411DD4F5E94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0DC1-7E1C-4953-AD8F-D917678539F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3288-5327-463B-8696-9449CE67D05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44BD-3B2A-4791-8317-B89396FE6C6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0F43-14C5-4C96-8B95-48174673FF2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326E-7A37-4FC9-99BE-0AB6D17DD61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3186-9C6B-4F26-8278-3724BA77749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1B8D-A7B2-461B-888F-C36DAC72114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508640"/>
            <a:ext cx="58579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bydlen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LTANGEREL Ochger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00000" y="1714320"/>
            <a:ext cx="78868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ypotéku poskytují banky, které si p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jí čerpání stanovují různé podmín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informace o hypotékách podá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tlivé bank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znam bank na hypoték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banky.ic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691920"/>
            <a:ext cx="69721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Stavební spoření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26560" y="1714680"/>
            <a:ext cx="7959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u z možností, jak získat finance na koupi, stavbu nebo rekonstrukci bytu či dom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oba, která má trvalý pobyt na území České republiky a má přidělené rodné čísl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ýhod stavebního spoření (státní podpory) tak mohou využít i cizinci s trvalým pobytem v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informace o stavebním spoření vá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á každá stavební spořitel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znamy stavebních spořitele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sfinance.cz/seznamy/stav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-sporitelny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Pojištění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ádný byt nebo dům nelze na 100% ochránit před možností vzniku požáru, před vytopením,vykradením, apod. Ke zmenšení následků těchto událostí je možné nechat si byt nebo dům pojistit. Bližší informace o pojištění je možné získat v jednotlivých pojišťovná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znam pojišťove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finance.cz/pojisteni/sez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y/pojistovny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2. Bydlení v náj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vní úprava nájmu bytu je rovněž obsažena v občanském zákoníku. Občanský zákoník umožňuje přenechat pronajatý byt nebo jeho část do podnájmu (na dobu určitou i neurčito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ájem bytu vzniká na základě nájemní smlouvy mezi pronajímatelem bytu a nájemc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ájemní smlouva musí být písemná a musí obsahovat minimálně následující údaje, jinak je neplatná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značení stran smlouv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pronajímatel a nájem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značení byt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adresa, číslo bytu,počet místností atd.) a jeho příslušenství (chodby, prádelny, sušárny, sklepy, balkony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ředmět nájm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o jaké prostory jde) a jeho účel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působ výpočtu nájemnéh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nebo jeho   výši nájmu, způsob a termín jeho platby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působ výpočtu úhrad za služb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spojené s užíváním bytu nebo jejich výši (za ústřední  vytápění, dodávku teplé vody, užívání výtahu, odvoz odpadků apod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obu trvání nájm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jedná-li se o smlouvu na dobou určitou)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Co je to vratná kauc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še kauce se standardně pohybuje v rozmezí jednoho až dvou měsíčních nájmů, tedy částky, kterou platíte měsíčně za pronáj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uce je vratná po skončení pronajímání bytu a nejsou-li žádné nedoplatky, vrátí vám ji majitel v plné výš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zapomeňte si schovat podepsa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o tom, v jaké výši jste kau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žili. V případě neshod se vám t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bude hod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ájem bytu může zaniknout několika způso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ísemnou dohodou uzavřenou mezi pronajímatelem a nájemcem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uplynutím doby, na kterou byl nájemní vztah sjednán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písemnou výpovědí – v této výpovědi musí být uvedena lhůta, do kdy má nájem skončit, a to nejméně tři měsíce tak, aby skončila ke konci kalendářního měsí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55280" y="1714320"/>
            <a:ext cx="80312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věď z nájmu bytu může dát nájemce (i bez uvedení důvodu) nebo pronajímatel. Pronajímatel může vypovědět nájem pouze z důvodů uvedených v občanském zákoníku. Nájem může vypovědět s přivolením i bez přivolení soud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990033"/>
                </a:solidFill>
                <a:latin typeface="Verdana"/>
              </a:rPr>
              <a:t>Slovíčka ke tématu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2+KK –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ал тогооны булантай  хоěр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+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устай гал тогоотой нэг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3+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устай гал тогоотой гурван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Osobní vlastnictví (OS, OV)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хувийн эзэмшлийн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Družstevní vlastnictví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хоршоолын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Nájemní smlouva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байр хөлслөх гэрээ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PSČ (poštovní směrovací číslo)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шуудангын чиглэлий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3.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Bydlení v družstevních byt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Každé bytové družstvo je zpravidla vlastníkem jednoho nebo více domů s byty, které přidělují svým členům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len, kterému byl byt přidělen, má právo na uzavření nájemní smlouvy s družstv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Při řešení otázek týkajících se obsahu nájemního vztahu k družstevním bytům  je třeba mít na zřeteli i stanovy družstva, na které občanský zákoník odkazuj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ihlášení k odběru energií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dalších služeb v bytě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odběr plynu – u dodavate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elektrické en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v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k odvozu komunálního odpad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Ztráta bydl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stliže při ztrátě bydlení nemohou pomoci příbuzní nebo přátelé, je dobré zkusit se obrátit na některou charitativní organizaci, která pomoc v takových případech nabíz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se do potíží dostane matka s dětmi, může se obrátit např. na azylové domy pro matky s dětmi, které jsou provozovány v některých měst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však třeba mít na paměti, 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šechny tyto domy nebo ubytov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bízejí ubytování jen na přechod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bu (v nouz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Terminolog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71280" y="1628280"/>
            <a:ext cx="7815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Fyzická osoba (FO)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 je pojem užívaný převážně v právu, kde je třeba odlišovat osoby v běžném slova smyslu (lidi) od jiných druhů osob, které právo za samostatný subjekt uznává ( např. podniká na základě živnostenského nebo jiného oprávnění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Právnická osoba (PO)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 je právní pojem, který se vedle pojmu fyzická osoba (člověk) používá pro označení jednoho ze dvou typů právních subjektů (způsobilost mít práva a povinnosti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nformační publikace pro cizince ČR – MVČR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s.wikipedia.org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cenyenergie.cz/plyn/clanky-1/odhlaseni-a-prihlaseni-odberu-plynu-krok-za-krokem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rientační čís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ялгах дуа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čtvrt (městská)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хороо, райо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elektři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тог, цахилга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majitel/majitelka bytu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эзэ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ájemník/nájemni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хөлслөг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ly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хий, гаа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onajmou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хөлслүүлэ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ústřední tope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төвийн халаал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nkasa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сарын тог, усны урьдчилсан хураам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rátná záloha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уцааж олгох барицааны мөнг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otvrzení o ubytová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бичи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movitos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үл хөдлөх хөрөнгө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ealitní kancelář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зуучилгаа бай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hypoteční úvěr na bydle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зээ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odo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усан хоол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olej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их сургуулийн оюутны дотуур байр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nterná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дунд сургуулийн дотуур байр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V ČR existuje několik forem bydlení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e vlastním bytě nebo dom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 náj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 družstevních byt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vláštní formy bydle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475920"/>
            <a:ext cx="69721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1.Bydlení ve vlastním bytě nebo domě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mínky nabývání nemovitostí cizinci v ČR upravuje devizový zákon č. 219/1995 Sb., v platném zně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uh oprávněných oso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devizového zákona je nabývání bytů a domů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cizinci omezen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Obecně mohou domy a byty nabýva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fyzické osoby s trvalým pobytem na území České republi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nebo právnické osoby se sídlem na území České republiky. Bližší podrobnosti obsahuje ustanovení § 17 devizového zá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upní smlouva mezi prodávajícím a kupujícím, která se řídí občanském zákoníkem (zákon č. 40/1964 Sb.). Smlouva musí být uzavřena písemně, jinak je neplatná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jitelem bytu nebo domu se stává okamžikem vkladu vlastnického práva do katastru nemovitostí ( nikoli tedy okamžikem podpisu kupní smlouvy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26560" y="1714680"/>
            <a:ext cx="7959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lý proces týkající se koupě bytu může trvat i několik měsíců. Je proto vhodné obrátit se na odborníka v oblasti nemovitosti, kterým může být právník, realitní makléř ap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nákup domu nebo bytu může využít hypoteční úvěr (informace podávají jednotlivé banky) nebo stavební spoření (informace podávají jednotlivé stavební spořiteln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Hypoteční úvěr - hypotéka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věr určený ke koupi nebo stavbě bytu nebo domu pro vlastní bydlení, popř. na jejich rekonstrukc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žadatelem o hypotéku může být jak fyzická, tak i právnická osob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lácení hypotéky bývá zajištěno zástavním právem k nemovitosti, a to i rozestavěné. Hypoteční úvěr může mít splatnost až 30 le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28Z</dcterms:modified>
  <cp:revision>171</cp:revision>
  <dc:subject/>
  <dc:title>Snímek 1</dc:title>
</cp:coreProperties>
</file>