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68E-03C1-4EB3-8B1C-BFCD47D8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011-2103-4B30-87A4-443B6602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34E-7E65-45CD-8627-86FEDEB3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C62-FB87-427B-82CD-6EC86C6B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6C6-7A0B-4004-919C-2FCF7A32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FC0-68D0-4574-9E0E-7E3922AA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599-FCF8-4962-9A99-6FBDDC4B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86AC-10E1-485F-9FEE-F6297BB4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2FE-9425-4DD7-A66E-E5AD874D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20C0-2271-4766-ACB4-C89B51E4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C696-B6D0-450B-8DB4-121F9537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60C2-5CBD-4710-87D5-9551D171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7E3E-064A-4086-A421-FB45BF04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AF71-EDB4-49CB-93BE-38593CD9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8D06-1120-4DB1-9A12-81A3835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B72C-C85C-4B2B-B469-6209878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C08-F867-4875-828C-5AD28DD9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D524-020A-4A92-A8BB-9717092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F37A-51D0-4472-A06A-D40F9538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558-460A-442F-AD45-55349E65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C51-7CD2-4239-BAAE-23A6F3FB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B4E1-AABD-4D79-9196-31C7ABF5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ED4E-EEB3-4E7F-9151-B66D9FA3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E764-D2FE-4765-93B2-D6D3ABC8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86EE-D8B9-4A64-9A00-F1061B50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27BA-086E-497B-8D26-C46A31EA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2827-69F3-4C3B-ABF7-72C8C7C4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EF81-A9E6-47EC-96AC-82D7BC21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397D-9F93-4BD6-83F2-9CDEB7C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10DD-6D43-4F11-88B5-7E2107C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F80-7B8D-46E0-911C-8C738862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7C09-4C4D-4A85-9F20-771F81C9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BBFB-55F8-4FC8-BF6F-08BFEEE6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8C9B-A217-49DF-80EF-69036F9C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BB81-2949-4FDD-B7DC-7DC310E9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2921-4011-48AB-BB5D-289B4275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18AB-21CF-4773-8429-34FD3035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7CDB-D47B-4BDD-B637-16C42EAB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EEC2-59DC-4B9E-A2E9-025FCB4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D4B3-940F-48CB-9C2F-B8271390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2408-D5C6-4CD1-987E-0C72C08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84E-0E91-4522-BB31-EA19C22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1F1C-ED94-4110-8490-827F645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81629-0DF0-45E5-A415-E61276A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C962-7ECF-46DA-9809-FB0D3FCD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2675-E018-45D3-ADFA-E0EDE212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E8F2-618E-435B-9A86-F7C96BA1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AFCD3-EDF4-4B7B-A0C6-34087355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2391-4809-441B-8CAA-4E0B3C4F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F9427-FDEF-4237-9592-ACA997B7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AEEA-D45D-43D5-BEB5-2F570AC8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9C31-5811-42E7-9303-92AB914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8D0-A1D3-41AC-8B83-778994F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A7184-3D0B-458B-91FC-20C8DA2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2736E-10BA-4D3E-B33E-5063A8DC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BC307-4B3C-4C20-A25B-15095CE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D103-60AA-409C-B720-B01BD17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70D8E-9FC9-4FAE-83BC-032B7398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4EDF-9058-47E5-90F5-C7C6D139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5498-9400-48AB-A67F-918D8691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BE24-78F2-4B61-9C8C-1B46FBC251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7886-2AA9-491E-8E14-5F8A392191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E7BF-1CC2-4E48-B2B9-F3DDEE35080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E879-B8D4-48C4-81AB-87658D75F55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D878-BED0-4D35-BFAA-966BFD2BAE5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A936-4FC3-4E4C-896D-884CE488DED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45EB-7A54-461A-9D37-326E1334292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6168-EA06-4B87-BE06-A313E3A1663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E5B2-5CBB-4C63-9098-E1642E5BCB6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271D-BB1F-4022-AC99-BC4A2D425CF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–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byty cizinců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Typy pobytu cizinců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844640"/>
            <a:ext cx="7858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čané EU a jejich rodinní příslušníci : přechodný x trvalý pobyt (viz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č. 326/1999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„zákon o pobytu cizinců“ – novela od 1.1. 201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čané z tzv. třetích zemí: přechodný x trvalý pobyt (viz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o pobytu cizinců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datelé o udělení mezinárodní ochrany x azylanti x osoby požívající doplňkové ochrany (zákon č. 325/1999  Sb. - „zákon o azylu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680"/>
            <a:ext cx="69721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Pobyt občanů tzv. třetích zemí na území ČR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00000" y="1773000"/>
            <a:ext cx="7886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řechodný poby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Krátkodobý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bez víz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průjezdní, letištní,výjezdní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do 90dnů (krátkodobé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Dlouhodobý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vízum zvláštní, diplomatické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nad 90dnů (dlouhodobé)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ovolení k dlouhodobému pobytu.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rvalý pobyt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povolení k trvalému poby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* status dlouhodobě pobývajícího rezidenta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zdělávání na státní škole je bezplatné, platíme pouze za stravování ve školní jídelně, za školní družiny, kroužky a na středních školách za ubytov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ní škola pro cizince zdarma, pokud studují v češtin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Školné se plat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uz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v soukromých školá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echodný poby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26560" y="1699920"/>
            <a:ext cx="7959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A) Krátkodobý poby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. bez víz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seznam tzv. třetích zemí bez vízové povinnosti (nařízení Rady č.539/2001 – tzv. „pozitivní seznam“) http://www.mvcr.cz/clanek/podminky-vstupu-a-pobytu-cizincu-na-uzemi-ceske-republiky-701621.aspx?q=Y2hudW09NQ%3d%3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s vízem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– seznam států, které mají vízovou povinnost viz. Nařízení Rady (ES) č. 539/2001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2300" spc="-1" strike="noStrike" u="sng">
                <a:solidFill>
                  <a:srgbClr val="000000"/>
                </a:solidFill>
                <a:uFillTx/>
                <a:latin typeface="Verdana"/>
              </a:rPr>
              <a:t>Krátkodobé vízum (vízum do 90 dnů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) 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– žádost se podává zpravidla na zastupitelském úřadu, nutné doložit účel pobytu, zpravidla </a:t>
            </a:r>
            <a:r>
              <a:rPr b="0" lang="cs-CZ" sz="2300" spc="-1" strike="noStrike" u="sng">
                <a:solidFill>
                  <a:srgbClr val="000000"/>
                </a:solidFill>
                <a:uFillTx/>
                <a:latin typeface="Verdana"/>
              </a:rPr>
              <a:t>Jednotné schengenské vízum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Žádost o prodloužení na území se podává na cizinecké polic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700280"/>
            <a:ext cx="77439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) Dlouhodobý poby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vízum k pobytu nad 90 dnů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(dlouhodobé vízum) žádost na zastupitelském úřadě místně příslušné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yp C+D i pro Schengenský prostor, typ D jen pro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hláška č.462/2008 Sb. Místní příslušnost zastupitelských úřadů - restri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ttp://www.mzv.cz/jnp/cz/informace_pro_cizince/mistni_prislusnost_zu_v_rizeni_o_vizum_a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628280"/>
            <a:ext cx="774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ozhoduje ministerstvo vnitra, povinnost doložit účel pobytu (§33 výjimk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Od 1.1. 2011 doba platnosti na 6 měsíců (§30 ods.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Účel podnikání – vždy povinné interview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§53 ods.4: ZÚ písemně informuje cizince o důvodech nepřípustnosti žádosti a vrátí správní poplatek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§56 ods.4: ministerstvo písemně cizince informuje o důvodech neudělení dlouhodobého víza a jeho právu podat žádost o nové posouzení důvodů neudělení DV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do 15 dnů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od doručení rozhodnut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2. povolení k dlouhodobému pobytu – žádá cizinec na území ČR pro pobyt delší než 6 měsíců navazující na dlouhodobé vízum (tzv. prodloužení pobyt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utné zachovat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l pobytu (§42 ods.1), rozhoduje MV, lhůta podání nejdříve 90 -nejpozději 14 dn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dlužování D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té již lze měnit účel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§4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měna účelu na podnikání až po 2 letech pobytu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7128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ýjimky: žádost o DP bez předchozího pobytu na vízum na ZÚ: účel společného soužití rodiny, studium, vědecký výzkum (§42, ods.3). http://www.mzv.cz/jnp/cz/informace_pro_cizince/mistni_prislusnost_zu_v_rizeni_o_vizum_a/index.htm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yhláška č.462/2008 Sb. Místní příslušnost zastupitelských úřadů – restrikc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Lhůta k vyřízení 60 dnů (společné soužití rodiny – 270 dnů ode dne podání žád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Novinka!!! žádost o nové povolení nutno podat osobně (§169 ods.14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Dlouhodobý pobyt typ „Zelené karty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d 1.1. 2009 zaveden systém zelených karet („2 in 1“ – povolení k pobytu a k zaměstnání dohromad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3 kategori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Š kvalifikace, klíčový personál, až 3 ro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inimálně SOU, až 2 ro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statní – bez kvalifikace, až 2 roky – bez možnosti prodlouž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entrální evidence volných pracovních míst pro držitele zelené karty </a:t>
            </a:r>
            <a:r>
              <a:rPr b="0" lang="cs-CZ" sz="2400" spc="-1" strike="noStrike">
                <a:solidFill>
                  <a:srgbClr val="ccccff"/>
                </a:solidFill>
                <a:latin typeface="Verdana"/>
              </a:rPr>
              <a:t>http://portal.mpsv.cz/sz/zahr_zam/zel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uze pro příslušníky 12 zemí </a:t>
            </a:r>
            <a:r>
              <a:rPr b="0" lang="cs-CZ" sz="2400" spc="-1" strike="noStrike">
                <a:solidFill>
                  <a:srgbClr val="ccccff"/>
                </a:solidFill>
                <a:latin typeface="Verdana"/>
              </a:rPr>
              <a:t>http://www.mvcr.cz/clanek/zelene-karty.aspx?q=Y2hudW09Ng%3D%3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 konce roku 2010 vydáno 51 karet (78% zamítnuto – důvod: neodpovídající vzdělání, nesplnění podmínek), 80% žadatelů z Ukraji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fektivita projektu spekulativ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71280" y="1844280"/>
            <a:ext cx="7815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Krátkodobý pobyt (krátkodobý vízum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do 90 dnů – typ C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огино хугацаагаар оршин суу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louhodobé vízum (nad 90 dnů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Удаан хугацаагаар оршин суу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Účel pobytu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Оршин суухын зорилого ( гэр бүлийн, оюутны гэх мэт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Trvalý pobyt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айнгын хугацаагаар оршин суу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Dlouhodobý pobyt typ „Modrá kart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71280" y="1714680"/>
            <a:ext cx="781524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vysoce kvalifikované migranty (ukončené VŠ vzdělání, nebo VoŠ min.doba studia 3 rok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Žádost se podává na ZÚ, i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dmínk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acovní smlouva na dobu min. 1 r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ýše hrubé roční mzdy min. 1,5 násobku průměrné hrubé roční mzdy stanovené vyhláškou MPS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ba platnosti max.2 roky, lze prodlouž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měna zaměstnavatele během prvních 2 let jen se souhlasem M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 5 letech pobytu v EU možnost získat trvalý pobyt/postavení dlouhodobě pobývající residenta v Evropském společenství, přičemž poslední 2 roky musí pobývat  jako držitel modré karty na území České republi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 doby 5 let se započítávají pobyty na modrou kartu z různých členských států Evropské unie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možněno sloučení rodiny ihn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droj informac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gr. Eva Dohnalová, InBáze BERKAT o.s – přednáška o pobytu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ww.mvcr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ww.cizinci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Letištní vízum (typ A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Нисэх онгоцны буудал дээр дамжин өнгөрөх в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ůjezdní vízum (typ B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Дамжин өнгөрөх виз - 5 хоногийн хүчинтэ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ízum typu C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Шенгений нутаг дэвсгэр дээр зорчих в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ízum typu D –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Зөвхөн БНЧУ-ын нутаг дэвсгэрт зорчих виз, 5 хоногийн Шенгений  дамжин өнгөрөх ви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oučení rodin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гэр бүлий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městnán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ажил эрхлэ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nikán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бизнес эрхлэ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tudium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 су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zkum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 эрдэм шинжилгээний ажил хий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bčanství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– Иргэнши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Povolení k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dlouhodobému/trvalému pobytu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огино / байнгын хугацааны оршин суухын зөвшөөр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ovolení k zaměstnán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Хөдөлмөр эрхлэх зөвшөөр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Úřad práce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Хөдөлмөрийн товчоо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izinecký zákon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Гадаад иргэдийн зохион байгуулах хуу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čany E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 Европын Холбооны иргэ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čany mimo E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státní příslušníky třetích zemí) – Европын Холбооны бус (гуравдагч орнуудын) иргэ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chegenský prostor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schegen) – Шенгений нутаг дэвсгэ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Volné pracovní místo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Ажилын сул орон т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Zdravotní pojišťovn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Эрүүл мэндийн даатг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stupitelský úřad ČR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БНЧУ-ын элчин сайдын я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jezdní příkaz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Гарч явах тушаа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VZ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(veřejné zdravotní pojišťovna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үх нийтийн эрүүл мэндийн даатга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Улсын бүртгэлтэй нийт 13 эрүүл мэндийн даатгалын газар байдгаас хамгийн өргөн дэлгэр тархсан эрүүл мэндийн даатгал нь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P (všeobecná zdravotní pojišťovn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ZP (všeobecná zdravotní pojišťovna) -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рөнхий эрүүл мэндийн даатга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өдөлмөр эрхлэх (ногоон эрүүл мэндийн карт), байнгын оршин суух зөвшөөрөлтөй (цэнхэр эрүүл мэндийн карт) үед энэ төрлийн даатгалд хамаарагд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Komerční zdravotní pojišťovn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арилжааны эрүүл мэндийн даатг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Cizinecká policie – oddělení pobytových agen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Гадаад иргэдийг хариуцсан цагдаагийн байгуула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Ministerstva vnitr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Дотоод я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dbor azylové a migrační politiky 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орогнол ба шилжин суурьших бодлогын хэлтэс (дотоод яамны цагаачилалын алб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8:19Z</dcterms:modified>
  <cp:revision>223</cp:revision>
  <dc:subject/>
  <dc:title>Snímek 1</dc:title>
</cp:coreProperties>
</file>