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8DA-EFF7-4295-81DA-89171018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0D7-68D3-42AE-97E1-A973AB93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B62-77EB-4476-B73B-53813FD4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A55-CC96-4327-9FE2-698FFE46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939-335B-4BFB-A2B7-44AEC6D9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F09-5B4A-4B2E-AA6F-417F05BF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8C4-A215-4515-BEA3-9838D583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268C-9C37-4149-8E33-6C3AD41F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8B6-9CD1-4427-B192-B88CAFF0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BEF8-3BBD-42A8-9762-07B0E9A2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03C1-10DC-43BA-AF1D-27C3DD92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6FDD-47D0-4E96-9F41-74EC7360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A5CB-D3CF-4AE0-B322-9B3AD84A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4897-60A7-447C-B134-F73A1EE8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4746-CE13-42F2-8935-90234CCF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8079-1206-4B3A-A512-0719053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FA93-B3B2-4B7E-9096-44B90902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68E3-845E-4FDE-A5F5-1B1BB524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85B7-87F1-49D9-9294-215E17CE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2C2-460F-4F7E-91FC-F932A2A4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C728-FB0C-44D6-AE6B-A03707AE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119C-7244-496E-9080-B72B0054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7968-DD2D-44A1-A42D-0B44F6BC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147F-8666-4021-B356-85100029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CD93-50EC-441C-A59F-0214C162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DEFE-A43C-4B78-B0F5-C106FEEB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D464-64AE-416B-B50C-5F514082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0C4C-ADF9-4100-913F-4BA48694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3C85-908B-4E66-B682-29AA976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F0D2-EBBE-4CD7-A5E2-4F787B39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DB7-96AE-4121-8B95-6B5FDA45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3C05-876A-44B1-83D2-48CEC725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8AE9-340E-4C3F-8885-459DF135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2F44-C125-45B5-AF52-5055D033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3B871-BA12-4CF5-A764-C25D120C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02F0-3573-48C0-A299-14A66A9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787BE-9534-4F32-A6C2-5E974EF6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D0F8-4DD8-48E8-80FE-BF9BF9B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8FCC-346B-44A0-AB9D-58D17B2D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1F42D-B72B-455D-BC84-73371AE6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B396-D934-4E44-9129-88B1C35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3C4-1ED1-4E5D-93C3-E52ADD0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3B88D-12A0-477A-A055-DFB1DB28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51E9-E0B1-4079-92C0-7E613C3A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CFE8-13C5-4106-87B7-D35DF40B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1C05-FB2C-497E-A2E3-ED2832D4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BA72-AB48-41A2-8490-56182630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47E05-751E-4D14-B94B-A4F34CDB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75BB2-0C58-4720-8852-3626FA34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E151-B659-4CDC-8C9D-9CE88011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CC87-78FC-4025-805C-38E6CA76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36380-383D-43EA-809A-C1537D3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39C-3C70-4FE6-BCD2-E9F76915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A4FA7-ED7B-4B13-AEBE-B4A723FF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86AA-4234-43B1-A3FD-934B8A1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CFF27-970F-40EC-85D0-AF7E6B4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B1DB-EE5D-46E8-8EC0-4CF34D4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2BF4-FF19-4BAC-AF64-DA993D71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93AA-DEBF-4731-9CE2-FA2458DD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B4232-6CC4-4781-8D13-2C17E304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6F2B-8B90-4CAE-A3D0-04880BC8BC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73F5-DDCC-433D-B923-6C5B9DF7CC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52F1-55E6-4A0D-B2A3-06BF8B78944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0BDF-25EB-433A-AAEE-4406ED721DE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316C-3664-441B-AE90-F463B486024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7351-3DC9-47AB-90FA-1D559A55234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7173-186F-404D-8D0E-B5EAF124BF4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489B-792D-4B37-8D7B-6E8AEA8CB83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14D-59A6-412D-94B8-4E7D25CD090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BD93-E19B-4DBB-9F26-67F3A1F9AA5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meta-os.cz/" TargetMode="External"/><Relationship Id="rId2" Type="http://schemas.openxmlformats.org/officeDocument/2006/relationships/hyperlink" Target="http://www.inkluzivniskola.cz/" TargetMode="External"/><Relationship Id="rId3" Type="http://schemas.openxmlformats.org/officeDocument/2006/relationships/hyperlink" Target="http://www.cizinci.cz/" TargetMode="External"/><Relationship Id="rId4" Type="http://schemas.openxmlformats.org/officeDocument/2006/relationships/hyperlink" Target="http://www.icm.cz/" TargetMode="External"/><Relationship Id="rId5" Type="http://schemas.openxmlformats.org/officeDocument/2006/relationships/hyperlink" Target="http://www.nvf.cz/" TargetMode="External"/><Relationship Id="rId6" Type="http://schemas.openxmlformats.org/officeDocument/2006/relationships/hyperlink" Target="http://www.zdroj.cz/vzdelani/materske-skoly/" TargetMode="External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436640"/>
            <a:ext cx="58579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- školství a vzděláv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LTANGEREL Ochger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915920"/>
            <a:ext cx="7743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teřská škola je určena pro dětí od 3 -6 let vě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předškolnímu vzdělávání se přednostně přijímají děti v posledním roce před zahájením povinné školní docház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 mateřské školy se děti přijímají na žádost rodičů (zákonných zástupců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ítě může být přijato k předškolnímu vzdělávání i v průběhu školního ro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Цэцэрлэгийн эрхлэгч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xүүхдийг цэцэрлэгт хүлээж авахыг шийдвэрлэнэ, зарим тохиолдолд хүүхдийг туршилтын хугацаагаар хүлээж авахаар тогтоодог бөгөөд энэ хугацаа 3 сар бай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чээлийн шинэ жилд хүүхдүүдийг хүлээж авах тухай өргөдөл гаргах газар, огноо ба хугацааг цэцэрлэгийн эрхлэгч тогтоо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26560" y="1773000"/>
            <a:ext cx="7959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Ředitel mateřské škol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hoduje o přijetí dítěte do mateřské školy, popřípadě o stanovení zkušebního pobytu dítěte, jehož délka nesmí přesáhnout 3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anoví místo, termín a dobu pro podání žádostí o přijetí dětí k předškolnímu vzdělávání pro následující školní r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628280"/>
            <a:ext cx="774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үхэд суурь боловсролд орохоос өмнө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хүүхдийн жигд биш хөгжлийн тэнцүүлэхэд туслах ба боловсролын тусгай хэрэгцээтэй хүүхдүүдэд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сургуулийн өмнөх боловсрол нь  сурган хүмүүжүүлэх тусгай халамж олго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školní vzdělávání napomáhá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yrovnávat nerovnoměrnosti vývoje dět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před vstupem do základního vzdělávání 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skytuje speciálně pedagogickou péči dětem se speciálními vzdělávacími potřeba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Цэцэрлэгийн боловсрол, ажиллах нөхцлүүд, хооллолт, эрүүл мэнд ба аюулгүйг анхаарч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йгаа байдал,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нэ хөлсийн тогтоомжий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ухай дэлгэрэнгүй мэдээллийг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ŠMT-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ийн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č. 14/2005 Sb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тоот тогтоол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č. 43/2006 Sb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гтоолд тусгагдсана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үхэд залуучуудад боловсрол олгох ба хүмүүжүүлэх газрын б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өвийн байр болон байр талбайн эрүүл ахуйн шаардлагуудын тухай 410/2005 тоо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гтоолоор зохицуулд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ližší podrobnosti o vzdělávání v mateřských školách, podmínkách provozu, stravování, o péči o zdraví a bezpečnost a o stanovení výše úplaty za předškolní vzdělávání, upravuje vyhláška MŠMT č.14/2005 Sb., o předškolním vzdělávání, ve znění vyhlášky č. 43/2006 S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láška 410/2005 o hygienických požadavcích na prostory a provoz zařízení a provozoven pro výchovu a vzdělávání dětí a mladistvý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Бүртгүүлэхэд шаардлагатай баримтууд :</a:t>
            </a:r>
            <a:br>
              <a:rPr sz="2400"/>
            </a:br>
            <a:r>
              <a:rPr b="0" lang="cs-CZ" sz="2400" spc="-1" strike="noStrike">
                <a:solidFill>
                  <a:srgbClr val="990033"/>
                </a:solidFill>
                <a:latin typeface="Verdana"/>
              </a:rPr>
              <a:t>Potřebné dokumenty při zápi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28800" y="1197000"/>
            <a:ext cx="7858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т орох хүсэлтийн өргөдө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үүхэддээ урьдчилан сэргийлэх болон хугацаат бакцин хийлгүүлсэн тухай барим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үүхдийн эмчийн дүгнэлт, эрүүл мэндий даатг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цэг эхийн (хуул ёсны төлөөлөгч) гадаад паспо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ийн эрхлэгчээс гадаад иргэдэд зориулсан нэмэлт мэдээлэлийг авч бол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ání žádostí od rodičů (zákonných zástupců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k potvrzení o povinném očkování dítě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tvrzení dětského lékaře o zdravotní způsobilosti dítěte (evidenční list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otožnosti průkazu rodiče a dítě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jistit si u ředitele materské školy, jestli jsou výjimky pro rodiče-cizi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Боловсролын төлбөр</a:t>
            </a:r>
            <a:br>
              <a:rPr sz="2800"/>
            </a:br>
            <a:r>
              <a:rPr b="0" lang="mn-Cyrl-MN" sz="2800" spc="-1" strike="noStrike">
                <a:solidFill>
                  <a:srgbClr val="990033"/>
                </a:solidFill>
                <a:latin typeface="Verdana"/>
              </a:rPr>
              <a:t>Úplata za předškolní vzdělávání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28800" y="162828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ийн боловсролын үнэ хөлсийг цэцэрлэгийн эрхлэгч тогтооно, 6 нас хүрсэн сүүлчийн жилд төлбөргүй байна(боловсролын хуулийн § 123 догол мөр 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т сард 500 – 800 Kč төлбөр төлнө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оолтойг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platu za předškolní vzdělávání stanovuje ředitel mateřské školy, poslední ročník, ve kterém dítě dovrší 6ti let věku, se poskytuje bezúplatně (§ 123, odst.2 školského záko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 děti cena školné se pohybuje mezi 500-800Kč s jídlem za měsí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333000"/>
            <a:ext cx="65293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үн бүр боловсрол эзэмших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эрхтэй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уулиар тогтоосон хугацаагаар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ургуульд суралцах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үүрэг болно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Үндсэн эрх ба эрх чөлөөний тухай тунхаглал бүлэг 33 догол мөр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 Každý má právo na vzdělání.  Školní docházka je povinná po dobu, kterou stanoví zák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čl. 33 odst. 1. Listiny základních práv a svob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8180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990033"/>
                </a:solidFill>
                <a:latin typeface="Verdana"/>
              </a:rPr>
              <a:t>Заавал эзэмших Ерөнхий боловсролын сургууль-ЕБ</a:t>
            </a:r>
            <a:br>
              <a:rPr sz="2400"/>
            </a:br>
            <a:r>
              <a:rPr b="0" lang="cs-CZ" sz="2400" spc="-1" strike="noStrike">
                <a:solidFill>
                  <a:srgbClr val="990033"/>
                </a:solidFill>
                <a:latin typeface="Verdana"/>
              </a:rPr>
              <a:t>Povinné a základní vzdělávání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Чех улсын нутаг дэвсгэрт амьдарч байгаа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бүх гадаадын иргэдийн хүүхдүү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ьд суралцах хуулиар тогтоосон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үүрэгтэй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 Энэхүү үүргийг биелүүлээгүй тохиолдолд хүүхдүүдийн хууль ёсны төлөөлөгчдөд хариуцлага хүлээлгэн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ěti všech cizinc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žijící na území ČR, mají ze zákona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vinnos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chodit do školy. Při porušování této povinnosti hrozí zákonným zástupcům dětí sank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928800" y="1268280"/>
            <a:ext cx="78580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Заавал эзэмших ЕБ -ын сургалт нь зургаан нас хүрснээс хойш 9 жил бай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авал эзэмших боловсрол нь суурь боловсролын үндэ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эрэв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Б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ргуульд орох бо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х улсын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нутаг дэвсгэрт оршин суух эрхтэйг харуулах шаардлагагү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улсы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Б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ргуул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нэ төлбөргү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увийн сургуулиудад суурь боловсрол (ЕБ) үнэ төлбөртэй олгогдож бол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vinné základní vzdělávání trvá 9 let, vztahuje se na děti po dosažení šestého roku věku, pokud jim není povolen odkl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vinné vzdělávání vede zpravidla k dosažení základního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ávo na bezplatné vzdělání v základních a středních školách je deklarováno v Listině základních práv a svob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soukromých školách lze vzdělávání poskytovat za úpla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14680" y="259920"/>
            <a:ext cx="66024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ЕБ 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c</a:t>
            </a:r>
            <a:r>
              <a:rPr b="1" lang="mn-Cyrl-MN" sz="3200" spc="-1" strike="noStrike">
                <a:solidFill>
                  <a:srgbClr val="990033"/>
                </a:solidFill>
                <a:latin typeface="Verdana"/>
              </a:rPr>
              <a:t>ургуулийн бүртгэл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Zápis do základní ško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28800" y="1628640"/>
            <a:ext cx="7858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үүхдүүдийг сургуульд түүний эцэг эх эсвэл бусад хууль ёсны төлөөлөгчид бүртгүүлдэ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Суурь сургуулийн </a:t>
            </a:r>
            <a:r>
              <a:rPr b="0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нэгдүгээр ангийн бүртгэл 1-р сарын 15-аас 2-р сарын 15-ныг хүртэл явагддаг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цэг эх хүүхдийн ЕБС-д суралцах хугацааг хойшлуулах талаар хүсэлт гаргах үед хүсэлтийн хүснэгт бөглөнө (1-р ангид бүртгүүлэх үед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Сургуулиаас завсардаж буй шалтгааныг нотлох эмчийн тодорхойлт хэрэгтэй - тодорхойлт  2 сараас хуучин байж болохгү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e školní docházce přihlašují dítě jeho rodiče nebo jiní zákonní zástup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Zápis do prvního ročníku základní školy probíhá od 15. ledna do 15. únor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diče nebo zákonné zástupce může požádat o odklad při nástupu do první třídy. Musí psát žádo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žádosti musí odkládat potvrzení o zdrav.stavu od lékaře – nesmí být starší než 2 měsíc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үхдийн төрсөний гэрчилгэ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цэг эхийн гадаад пасп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Xүүхдийн эрүүл мэндийн даатгалын баримтуу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өглөсөн бүртгэлийн хуудас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zápisní líste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ари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анги буюу 6-9 ангид хичээлийн жилийн явцад бүртгүүлж болно. Урьд жилийн дүнгийн хуудас хэрэгтэ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14320" y="0"/>
            <a:ext cx="6972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Бүртгэлд шаардлагатай баримтууд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: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Potřebné dokumenty při zápi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dinný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ůkaz totožnosti rodiče nebo zákonných zástup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y o zdravotní pojišťě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isní líst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ůběhu školního roku dítě může nastoupit do 6.-9. třídy. Ale mít vysvědčení dosažitelné tří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928800" y="1916280"/>
            <a:ext cx="785808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эгдүгээр шат нь 5 жил (1-5 анги хүртэл) бага а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оёрдугаар шат нь 4 жил (6-9 анги хүртэл) ахлах а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амжилттай төгсгөсний дараа нэг ба хоёрдугаар шатлалын хоорондох шилжилт нь шууд хийгдэхээс гадна,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доод шатны зургаа юмуу найман жилийн </a:t>
            </a: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гимназид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үргэлжлүүлэн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суралцаж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 болно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ЕБС нь 2 шатлалтай байна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r>
              <a:rPr b="0" lang="mn-Cyrl-MN" sz="32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ZŠ se člení na první a druhý stupe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900000" y="1844280"/>
            <a:ext cx="7886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vní stupeň trvá 5 let (od prvního ročníku do pátéh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uhý stupeň trvá čtyři roky (od šestého do devátého ročník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 úspěšném ukončení prvního stupně základní školy lze pokračovat v plnění povinné školní docházky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a nižším stupni šestiletého nebo osmiletého gymnázi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Г</a:t>
            </a: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имнази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Gymnáz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8 жилийн сургалттай гимнази 5-р анги төгссөн хүүхэд шалгалт өгөн элсэж болн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6 жилийн сургалттай гимназид 7-р анги төгсөө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4 жилийн сургалттай гимназид 9-р анги төгсөөд элсэнэ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гимназийн элсэлтийн шалгалтыг </a:t>
            </a:r>
            <a:r>
              <a:rPr b="1" lang="mn-Cyrl-MN" sz="2600" spc="-1" strike="noStrike" u="sng">
                <a:solidFill>
                  <a:srgbClr val="000000"/>
                </a:solidFill>
                <a:uFillTx/>
                <a:latin typeface="Verdana"/>
              </a:rPr>
              <a:t>чех хэл, математик, ерөнхий эрдмийн мэдлэгээр авдаг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60280"/>
            <a:ext cx="6972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990033"/>
                </a:solidFill>
                <a:latin typeface="Verdana"/>
              </a:rPr>
              <a:t>Че</a:t>
            </a:r>
            <a:r>
              <a:rPr b="1" lang="cs-CZ" sz="2600" spc="-1" strike="noStrike">
                <a:solidFill>
                  <a:srgbClr val="990033"/>
                </a:solidFill>
                <a:latin typeface="Verdana"/>
              </a:rPr>
              <a:t>x </a:t>
            </a:r>
            <a:r>
              <a:rPr b="1" lang="mn-Cyrl-MN" sz="2600" spc="-1" strike="noStrike">
                <a:solidFill>
                  <a:srgbClr val="990033"/>
                </a:solidFill>
                <a:latin typeface="Verdana"/>
              </a:rPr>
              <a:t>улсын</a:t>
            </a:r>
            <a:r>
              <a:rPr b="1" lang="en-US" sz="2600" spc="-1" strike="noStrike">
                <a:solidFill>
                  <a:srgbClr val="990033"/>
                </a:solidFill>
                <a:latin typeface="Verdana"/>
              </a:rPr>
              <a:t> боловсролын </a:t>
            </a:r>
            <a:r>
              <a:rPr b="1" lang="mn-Cyrl-MN" sz="2600" spc="-1" strike="noStrike">
                <a:solidFill>
                  <a:srgbClr val="990033"/>
                </a:solidFill>
                <a:latin typeface="Verdana"/>
              </a:rPr>
              <a:t>түвшингүүд</a:t>
            </a:r>
            <a:r>
              <a:rPr b="1" lang="cs-CZ" sz="2600" spc="-1" strike="noStrike">
                <a:solidFill>
                  <a:srgbClr val="990033"/>
                </a:solidFill>
                <a:latin typeface="Verdana"/>
              </a:rPr>
              <a:t>.</a:t>
            </a:r>
            <a:br>
              <a:rPr sz="2600"/>
            </a:b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Stupeň vzdělání Č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00000" y="1412640"/>
            <a:ext cx="78868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Их, дээд сургуу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21-26 věk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vysokoškolské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700" spc="-1" strike="noStrike">
                <a:solidFill>
                  <a:srgbClr val="000000"/>
                </a:solidFill>
                <a:latin typeface="Verdana"/>
              </a:rPr>
              <a:t>Мэргэжилийн дээд боловсрол</a:t>
            </a: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, 19-21vě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vyšší odborné vzdělání v konzervátoři a vyšší odborné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Дунд боловсрол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15-19 věk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střední vzdělání – s výučním listem a maturitní zkoušk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 osmiletého gymnázia se může přihlásit po ukončení 5. ročníku ZŠ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 šestiletého gymnázia se může přihlásit po ukončení 7. ročníku ZŠ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 čtyřletého gymnázia se může přihlásit po ukončení 9. ročníku ZŠ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jímačky na víceletého gymnázia jsou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českého jazyka, matematiky a všeobecné znalost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ze základních vzděláván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өгжилийн бэрхшээлтэй хүүхэдийн ерөнхий боловсролын сургуульд суралцах хугацаа нь нийт арван жил байдаг. Үүнээ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1-6 анги - нэгдүгээр ш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7-10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нги - хоёрдугаар ша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агчийг тусгай сургуульд явуулах үгүйг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мэргэжилийн эмч болон хүүхэдийн сэтгэл зүйч нар тодорхойлоно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 Хэзээ ч багш нарын болон хув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ний хүсэлтээр шийдэхгү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900000" y="1699920"/>
            <a:ext cx="7886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ladní vzdělávání pro žáky se zdravotním postižením, kteří se vzdělávají ve třídách nebo školách s upraveným vzdělávacím programem, může s předchozím souhlasem ministerstva trvat deset ročníků, ted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-6.ročník - první stupeň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7.-10.ročník -druhý stupe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P posuzuje žáka, jestli by měl chodit na speciální školu,nikoli rodiče nebo pedagogov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2007 оноос эхлэ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ерөнхий боловсролы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иуд өөрсдийн сургалтын программын дагуу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чээллэж байгаа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Улсаас батлагдсан агуулгыг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ургуулиуд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аавал сургах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ёстой сургах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вч ба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аавал сургахгүй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чээлүүд ч заадаг. Иймээс сургуулиуд хоорондоо тогтоосо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мжээнээс илүү хичээлийн хувьд ч хичээлийн хэлбэрийн хувьд ч ялгаатай байх үе тохиолдо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 roku 2007 se na základních školách povinně vyučuje podle vlastních školních vzdělávacích programů. Školy musí vyučovat povinný, státem garantovaný obsah, ale zpravidla vyučují i další, nepovinný obsah. Mezi školami tak mohou být odlišnosti v obsahu, který jde nad závazný rámec, a také ve formách výu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200" spc="-1" strike="noStrike">
                <a:solidFill>
                  <a:srgbClr val="990033"/>
                </a:solidFill>
                <a:latin typeface="Verdana"/>
              </a:rPr>
              <a:t>Дунд боловсрол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.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Střední vzděl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28800" y="1773000"/>
            <a:ext cx="78580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иуд нь сурагчдыг мэргэжлийн болон их дээд сургуульд бэлтгэдэ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ЕБ сургуулийг төгсгөх юмуу заавал суралцах ёстой үүргээ гүйцэтгэсний дараа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дунд сургууль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гимнази, мэргэжлийн дунд сургууль, мэргэжлийн тусгай дунд сургууль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) юмуу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консерваторид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 боловсрол эзэмшихээ үргэлжлүүлж бол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ní školy připravují žáky k dalšímu studiu nebo k výkonu povolání a pracovních činn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 ukončení základní školy nebo splnění povinné školní docházky lze pokračovat ve vzděláván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e střední škole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(gymnázium, střední odborná škola, střední odborné učiliště)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bo v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zervatoř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560" y="1557000"/>
            <a:ext cx="7959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Өдрийн, оройн юмуу хосолсон хэлбэрээр суралцаж бол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өгсөгч н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алтын программ ба мэргэжлээс шалтгаалж дунд боловсрол, мэргэжлийн үнэмлэх юмуу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ттестаттай дунд боловсрол эзэмшинэ;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аттестаттай төгсгөсөн дунд боловсрол нь дээд сургуульд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лсэж суралцах үндэс болдог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ургуулийн сонголт нь сурагчийн сурлагын амжилт, өөрийн сонирхолоо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хамаарн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zdělávání se uskutečňuje v denní, distanční, večerní nebo kombinované formě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olvent získá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le typu vzdělávacího programu a oboru vzdělání střední vzdělání, nebo střední vzdělání s výučním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em, nebo střední vzdělání s maturitní zkouškou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řední vzdělání s maturitní zkouškou je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ředpokladem k přijetí na vysokou škol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běr SŠ záleží na studenta a jeho prospěch ve základní ško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Дунд сургуулийн элсэлтийн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бүртгэл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Přihlášky na S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28800" y="1699920"/>
            <a:ext cx="7858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ьд элсүүлж сургах тухай тухайн дунд сургуулийн захирал элсэлтий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жиллагааны хүрээнд шийднэ. Дунд сургууль юмуу консерваторын элсэлтийн ажиллагааны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өхцлийг хуулиар тогтоосон байд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ийн нэгдүгээр курст орж суралцахад бүртгүүлсэн байх шаардлагата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аавал эзэмших ба суурь боловсрол – ЕБ, 6-15</a:t>
            </a:r>
            <a:br>
              <a:rPr sz="2800"/>
            </a:b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povinné a základní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Сургуулийн өмнөх боловсрол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3-6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ředškolní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Гэрийн асаргаа (боловсролын системээс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гадуурх асаргаа)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1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eče v rodině (peče mimo vzdělávací soustavu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 přijetí ke studiu na střední škole rozhoduje ředitel příslušné střední školy v rámci přijímacího řízení. Právní předpisy stanoví podmínky přijímacího řízení do středních škol a konzervatoř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přijetí do prvního ročníku vzdělávání ve střední škole je potřeba podat přihláš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ьд элсэж суралцах нэгдүгээр шатны элсэлтийн бүртгэлд § 6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ийн дагуу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гтоосон хугацаанд яамнаас батлагдсан маягт бөглөж насанд хүрсэн суралцах хүсэлтэ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н эсвэл түүний хууль ёсны төлөөлөгч нь тухайн сургуулийн захирал дээр бүртгүүлн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hlášky ke vzdělávání ve střední škole pro první kolo přijímacího řízení podává zletilý uchazeč nebo zákonný zástupce nezletilého uchazeče řediteli příslušné střední školy, a to na tiskopisu předepsaném ministerstvem a ve stanoveném termínu v § 60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0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928800" y="1844280"/>
            <a:ext cx="78580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Өдрийн ангийн хэлбэрээр суралцахыг хүсэгч нь элсэлтийн бүртгэлийн </a:t>
            </a:r>
            <a:r>
              <a:rPr b="0" lang="mn-Cyrl-MN" sz="2700" spc="-1" strike="noStrike" u="sng">
                <a:solidFill>
                  <a:srgbClr val="000000"/>
                </a:solidFill>
                <a:uFillTx/>
                <a:latin typeface="Verdana"/>
              </a:rPr>
              <a:t>эхний шатанд гурван сургуульд бүртгүүлж болно</a:t>
            </a: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Хүсэлт гаргагч нь өдрийн ангид суралцах бол бүртгүүлэх хуудсаа 3-р сарын 15-ныг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хүртэл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въяас шалгах шаардлагатай мэргэжил бол 11-р сарын 30-ныг хүртэ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 první kolo přijímacího řízení do denní formy vzdělávání může uchazeč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dat tři přihlášk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chazeč odevzdá přihlášku do denní formy vzdělávání řediteli střední školy do 15.břez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hlášky do oborů vzdělání s talentovou zkouškou do 30. listopa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сэлт гаргагч нь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өдрийнхөөс өөр хэлбэрээр суралцах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 3-р сарын 20-ныг хүртэл,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въяас шалгах шаардлагатай мэргэжил бол 11-р сарын 30-ныг хүртэл бүртгүүлэх хуудса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ьд өгн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chazeč, který se přihlásí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o jiné než denní formy vzděláván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odevzdá přihlášku řediteli střední školy do 20. března, v případě přihlášky do oborů vzdělání s talentovou zkouškou do 30. listopa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056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Дунд сургуулийн ангилал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Stupeň středního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Гимнази (Gymnázium)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mn-Cyrl-MN" sz="2300" spc="-1" strike="noStrike">
                <a:solidFill>
                  <a:srgbClr val="000000"/>
                </a:solidFill>
                <a:latin typeface="Verdana"/>
              </a:rPr>
              <a:t>ер нь ерөнхий эрдмийн чиглэлтэй бөгөөд юуны түрүүнд дээд сургуульд суралцахад бэлтгэнэ. найм, зургаа мөн дөрвөн жилийн гимнази. Төгссөн тохиолдолд дээд сургуульд элсэх бололцоотой, харин дээд сургуульд тэнцээгүй үед мэргэжил олгодоггүй. Maturita – аттестаттай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лийн дунд сургууль (SOŠ) ба мэргэжлийн тусгай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сургууль(SOU)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mn-Cyrl-MN" sz="2300" spc="-1" strike="noStrike">
                <a:solidFill>
                  <a:srgbClr val="000000"/>
                </a:solidFill>
                <a:latin typeface="Verdana"/>
              </a:rPr>
              <a:t> сурагчдад боловсрол олгохоос гадна бас ажиллах мэргэжил буюу мэргэжлийн ажлын ур чадвар эзэмшүүлж мөн дээд сургууль, мэргэжлийн дээд боловсролд бэлтгэнэ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ymnázi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e zaměřeno všeobecně a připravuje především k vysokoškolskému studiu. Studium je čtyřleté, šestileté, nebo osmileté. Do šestiletého a osmiletého gymnázia jsou přijímáni žáci, kteří ukončili první stupeň základní školy, do čtyřletého gymnázia jsou přijímáni žáci po ukončení devátého ročníku základní školy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řední odborné školy (SOŠ) a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střední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dborná učiliště (SOU)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poskytují žákům vedle stupně vzdělání také odbornou kvalifikaci pro výkon povolání nebo odborných pracovních činností a zajišťují i přípravu k vysokoškolskému a vyššímu odbornému vzdělávání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SOŠ ба SOU нь ойролцоогоор 240 мэргэжлээр мэргэжлийн боловсрол олгодог ба олгох боловсролын түвшин болон сургалтын хугацааных нь уртаар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2 жилийн мэргэжлийн сургалтаар </a:t>
            </a:r>
            <a:r>
              <a:rPr b="0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илийн үнэмлэхгүй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унд боловср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3 жилийн сургалтаар </a:t>
            </a:r>
            <a:r>
              <a:rPr b="0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лийн үнэмлэхтэй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унд боловсро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4 жилийн сургалтаар аттестаттай дунд боловсрол эзэмшдэ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Сургуулийн өмнөх боловсрол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Předškolní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557000"/>
            <a:ext cx="77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ийн өмнөх боловсрол нь улс, муж, суурин эсвэл хувийн удирдлагатай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 заавал биш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байх хэлбэрээр цэцэрлэгүүдэд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явагддаг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 Цэцэрлэгүүд нь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хувийн мөн компанийх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йж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х бөгөөд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эв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ŠMT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 сургуулиудын жагсаалтанд бүртгэгдсэн бол бүгдэд нь адил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всролын хууль үйлчлэн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826560" y="1628280"/>
            <a:ext cx="7959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dělávání v SOŠ a SOU se uskutečňuje v cca 240 oborech odborného vzdělávání, které lze dělit podle délky studia a stupně poskytovaného vzdělá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dvouletých oborech se dosahuje stupně středního vzdělání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tříletých oborech stupně středního vzdělání s výučním li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čtyřletých oborech stupně středního vzdělání s maturitní zkoušk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714320" y="131760"/>
            <a:ext cx="6972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42560" y="1700280"/>
            <a:ext cx="7743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лийн дээд боловсрол (VOŠ)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оюутны дунд боловсролоор эзэмшсэн мэдлэг ба чадварын хөгжүүлж гүнзгийрүүлэх бөгөөд ерөнхий болон мэргэжлийн боловсрол, хүнд асуудлаар ажиллах дадлагын бэлтгэл олго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VOŠ өдрийн ангийн хэлбэрээр мэргэжлийн дадлага ороод 3 жил, эрүүл мэндийн мэргэжлээр бол 3,5 жи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Aттестатын шалгалтаар (maturita) дунд боловсрол эзэмшсэн болон шаардлагатай нөхцлүүдийг хангасан тохиолдолд элсүүлж ав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560" y="1628280"/>
            <a:ext cx="7959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yšší odborné vzdělávání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ozvíjí a prohlubuje znalosti a dovednosti studenta získané ve středním vzdělávání a poskytuje všeobecné a odborné vzdělání a praktickou přípravu pro výkon náročných činnost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élka VOŠ v denní formě je 3 roky včetně odborné praxe, u zdravotnických oborů vzdělání až 3,5 roku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e vzdělávání ve vyšší odborné škole lze přijmout uchazeče, kteří získali střední vzdělání s maturitní zkouškou a kteří při přijímacím řízení splnili podmínky pro přijetí prokázáním vhodných schopností, vědomostí, zájmů a zdravotní způsobil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Их, дээд сургуул</a:t>
            </a: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ь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 u="sng">
                <a:solidFill>
                  <a:srgbClr val="000000"/>
                </a:solidFill>
                <a:uFillTx/>
                <a:latin typeface="Verdana"/>
              </a:rPr>
              <a:t>Гадаадын суурь, дунд ба мэргэжлийн дээд сургуулийн боловсролыг хүчинтэйд тооцох (нострификаци)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бичиг баримтыг мужийн боловсролын хэлтэст дараах хүсэлтээр өргөдөл гаргаж харуулж болно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гадаадын үнэмлэхийг Чех улсынхтай адил тэгш   гэж үзэж үнэмлэх олгох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гадаадын үнэмлэхийг Чех улсад хүлээн зөвшөөрөх тухай шийдвэр ("нострификаци"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971280" y="1714680"/>
            <a:ext cx="78152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Verdana"/>
              </a:rPr>
              <a:t>Uznávání zahraničního vzdělání na základních, středních a vyšších odborných školách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Doklad o dosažení základního, středního nebo vyššího odborného vzdělání v zahraničí lze předložit odboru školství příslušného krajského úřadu se žádostí 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vydání osvědčení o uznání rovnocennosti zahraničního vysvědčení v ČR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rozhodnutí o uznání platnosti zahraničního vysvědčení v ČR ("nostrifikaci"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Дээд сургууль (VŠ)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нийтийн, улсын (цэргийн ба цагдаагийн) ба хувийн гэж ангилда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Чех улсы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ийтийн дээд сургуульд чехээс өөр хэлээр суралцахыг хүсссэн гадаад иргэд нь сургалтаа өөрий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зардлаар төлөх ёс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Бүх сургуульд элсэлтийн шалгалтар элсүүлдэг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Их, дээд сургууль (VŠ) нь ихэвчлэн 3 шатлалтай байна. Үүнд: Бакалавр (сургалт нь 3-4 жил), үргэлжлэн Магистр (1-3 жил), Доктор (3 жи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Зөвхөн их, дээд сургуульд л шинжлэх ухааны зэрэг авах боломж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971280" y="1628640"/>
            <a:ext cx="7815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Vysoké školy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ČR se dělí na veřejné, státní (vojenské a policejní) a soukrom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izinci, kteří chtějí studovat na veřejné vysoké škole v ČR v jiném než českém jazyce, si musejí své studium hradit z vlastních prostřed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všechny vysoké školy se koná přijímací říz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akalář (3-4), magistr (1-3), Ph.D (3ro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soká škola je jediná instituce, která má právo 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udělovat akademické titul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Үгсийн орчуулага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42560" y="1557000"/>
            <a:ext cx="7743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teřsk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škol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цэцэрлэ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kla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суурь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сургуу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 vyuče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үнэмлэхтэ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 maturitou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аттестатт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ře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дунд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сургуу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vyšš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odbor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é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дээ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upeň vzděl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боловсролын түвш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2. stupeň z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kla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škol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ахлах анг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1. stupeň z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kla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škol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бага анг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kr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e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studi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богиносгосон сургал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avby SOU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мэргэжлийн тусгай дунд сургуулийн мэргэжил дээшлүүлэ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OU (maturita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vyuče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тусгай дунд сургууль (аттестат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мэргэжлийн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үнэмлэх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OŠ (maturita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дунд сургууль (аттеста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ym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ium (maturit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гимнази (аттеста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VOŠ (absolutorium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дээд сургууль (сургууль дүүргэсэн тухай бичиг барим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é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če v rodině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p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če mimo vzdě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c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ustavu) – гэрийн асаргаа (боловсролын системээсгадуурх асарга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školní vzdělávání je organizováno jako nepovinné v mateřských školách zřizovaných státem, krajem, obcí nebo soukromým zřizovatelem. Mateřské školy mohou být i soukromé nebo firemní, pro které rovněž platí školský zákon, pokud jsou vedeny v rejstříku škol MŠM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Zdroje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meta-os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inkluzivniskola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cizinci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4"/>
              </a:rPr>
              <a:t>www.icm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5"/>
              </a:rPr>
              <a:t>www.nvf.c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6"/>
              </a:rPr>
              <a:t>http://www.zdroj.cz/vzdelani/materske-skoly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680" y="259920"/>
            <a:ext cx="66736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8440" y="1268280"/>
            <a:ext cx="7746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000" spc="-1" strike="noStrike">
                <a:solidFill>
                  <a:srgbClr val="000000"/>
                </a:solidFill>
                <a:latin typeface="Verdana"/>
              </a:rPr>
              <a:t>Сургуулийн өмнөх боловсрол н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Ирээдүйн боловсролын үндэсийг тавьж xувь хүний өсөлтийг дэмжинэ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юун санаа болон бие бялдарын хөгжилийн үндэ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арилцааны соё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Aмьдралын үнэ цэнийн ба хүмүүсийн    хоорондын харилцааны үндсийг эзэмшихэд нөлөөлн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dškolní vzdělávání podporuj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voj osobnosti dítěte předškolního vě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ílí se na jeho zdravém citovém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umovém a tělesném rozvoji a na osvojení základních pravidel chování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ladních životních hodnot a mezilidských vztah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680" y="89640"/>
            <a:ext cx="5881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28800" y="1196640"/>
            <a:ext cx="7858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Цэцэрлэг 3 – 6 настай хүүхдүүдэд зориулагдс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Цэцэрлэг нь сургуулийн өмнөх насны буюу 5-6 настай хүүхдүүдийг түрүүлж авда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Xүүхдүүдийг эцэг эхийн (хуул ёсны төлөөлөгч) хүсэлтээр цэцэрлэг хүлээж авд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үхэд хичээлийн жилийн явцад ч цэцэрлэгт орж бол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9:29Z</dcterms:modified>
  <cp:revision>206</cp:revision>
  <dc:subject/>
  <dc:title>Snímek 1</dc:title>
</cp:coreProperties>
</file>