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EF19-B5C8-42DC-801E-CCB5A8D0C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CD2A-C183-46E8-B1DD-1880824D5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3081-9F71-4264-9B26-262253642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D82-794A-441F-AF94-DFE2B916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1E7-E006-4F49-9884-D0B59305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893-8825-428A-8D03-210F6050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A58-8D06-4B91-9F2D-DFC609F7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6E1-510C-481E-83ED-B3730F93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321-3F55-482E-955D-36470E80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93A-CA6B-49A6-A554-BA45DE42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06F-A19B-42CE-B508-61AC37753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ED1-06BA-4A03-B6E4-7715676F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F772-AA60-4C2D-8899-9A128BD6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E3EE-0F54-422B-9AD9-EB16A452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3F63-654A-4226-998E-BA2963A2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E677-E441-4D36-91FF-DA8B3380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E8A7-5E3E-49B7-9EC4-0789E209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48BB-1C3A-4C81-B17F-50EF20CB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D6BB-8773-4181-B2F7-D81376D8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8DF8-3F66-4C22-8D74-22B928F9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9D4B-C6E6-4FB3-9C92-A94F925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6FA1-78B6-4C8A-8EF7-E6F1C7E3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E38-3057-4C2A-886C-5608E99E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1B1-A52B-4C3F-82C6-80C8EF98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B82E-FCA7-44C4-B039-2D8B66B9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BB11-DDDF-4183-B9DC-4976D1DD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DF8F3-6DF7-4CF4-9AC5-FF330CEA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B38B-9836-4FE9-85E6-F9ED5F5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C08E-104C-4BC6-8BCA-FC551DBD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8A0BF-86E7-4BA2-90CB-181E5CF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B9686-60D7-4793-B61F-ABC7DBF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366FA-6D25-4039-9AE8-908915CE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1A162-1C6C-4EA3-82C6-97EEFD3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0B40-B3C4-4FE3-9215-A70B4A8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F8C8-FE1E-4493-A246-D6170C83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BE16-189C-4C4C-B5DB-3A36E534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0AB81-9DDE-417A-BB66-7E285640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C104-47DA-4DE7-808A-DC885007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A8C2C-CB35-4B27-A274-461FF20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4591-24F8-4139-9CC2-BD516DA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B71F8-5346-40D3-AC20-99667BA5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560A-7BEF-4604-B51F-EAD678A4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C3028-C717-42BA-9EB7-5C88049A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08B7-5E5D-412E-983B-09839ACE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261C-976B-4EE9-A2C1-9D3BD2A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FA207-0C85-4FCA-A7CA-E7D8FEE5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9A27-5AC7-47A1-9D36-3B339D9F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D375-F761-4373-AAE5-68332D7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EBFD-2A90-4537-AEE1-15B44574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8F1A-A17D-4D46-96E4-3D6F70A2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8F14D-66C3-4F4A-BE15-731EC3E0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6DB7-ED62-43DA-94BA-BC86D749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D2B81-594E-4369-ADE7-9E2391DB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BC6D-CFB7-4F6E-9EB5-BB6CA8E2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EE179-0D11-4FED-84F9-A907CED8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8ED1-D26B-45C5-98BD-53DFF042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219D-8974-4F45-BBB0-A67B13B9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2B610-B2F1-45D5-874C-2B8CCC9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D1776-5B25-4BDD-96E0-0FA2B722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00EB2-0D2F-4F1B-9F16-8E318656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2C21-A516-42D0-BCC1-2F6EDD69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B969-15FA-4949-B883-D72699B5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670F0-08A1-4339-A4F9-976435D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7591-0E55-4A6E-9818-0687EE341F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383A-4B5C-431D-BAF5-D8051A492B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63D7-E131-4F93-B722-F4CF1FEEBB0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F3D9-A564-43CC-BCCA-A5BADD4EA30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5E25-070A-492E-972E-F3664A9EA98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7E38-D736-4754-A454-57125DE69E0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9080-49E6-4AB6-B849-44D55DD646D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1DB1-7174-4734-B619-B06B83A6117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485D-C30F-4E75-B0FF-7C392E6B544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48DB-A552-44EC-8D2E-4AD33D434E7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lumočnická not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 slo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uje – 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coval – prac-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bude pracovat – x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ude pracovat – b-pr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pracuje – xpra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krétní cvi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656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ěkuji Vám za pozor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042560" y="624960"/>
            <a:ext cx="7715160" cy="51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Zástupný symbol pro zápatí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oč si děl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lze spoléhat na paměť, brzká únava pamě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epší soustředění na obsah sdělení, protože zapisujeme čísla, jména, 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ní nutné tolik přerušovat tlumočení, umožňuje klientovi se lépe vyjádř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sdělovat čísla, jména a další fakta ve stejném pořadí jako u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Umožňuje ověřit pravdivost výpově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mají obsahovat poznámk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čís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ždy jmén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olitelně fakta, popisy a detailní informace, které Vaši paměť zatěžuj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říkl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V roce 1999 245 členů mé skupiny odjelo do pěti různých zemí. Většině z nich bylo mezi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a 25 lety, i když mezi nimi bylo i zhruba třicet sedmdesátník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99 – 5 z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45 --------&gt; 20-25r &lt; (30=70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Ideální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utnost si vybudovat vlastní systé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nám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or nepoužívá se těsnopis, ani jiná písma podobného typ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iný příklad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AS, MÍS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OVES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datečná inform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jektiv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not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 začátku roku 2007 jsem se přestěhoval do hlavního města, kde jsem žil potom dva roky v malém by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07  já          hl. m.   2r m. byt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Šipka doprava 5"/>
          <p:cNvSpPr/>
          <p:nvPr/>
        </p:nvSpPr>
        <p:spPr>
          <a:xfrm>
            <a:off x="2700360" y="33577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Diagonální postup shora d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yšlenky oddělit čarou, věty vykřičn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ůležité můžeme podtrhno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dškrtáváme odtlumočen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soká konsekutiva až 10 minu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33300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Ukázka symbo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L = lid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 = pení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 = poli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lc  = polic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2O = voda, vod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zí-vz = mezinárodní vzta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nz-b = bankovní účet v b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l-s-o= politická strana opoz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asociacem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16Z</dcterms:modified>
  <cp:revision>111</cp:revision>
  <dc:subject/>
  <dc:title>Snímek 1</dc:title>
</cp:coreProperties>
</file>