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F1F-05E6-42FE-B985-1F60AFA5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1EF-4FCE-4C42-9548-D410A28A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AD0-EA47-4801-A22D-67F97F5F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D2D2-F79F-4EB4-8F1B-3BC5774F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234-A3B7-46A9-874E-FECA3358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E541-5954-4618-991C-3A276A44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9F1-9A82-4EE2-98C2-D29163D0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6117-F1AA-4E15-8663-B67DF689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FE1-F8F2-483F-B80B-7C2492DF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2AD4-60DD-48B6-BE02-C0196E3B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EDA8-9740-4C3E-8490-7DAB1850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95DB-4308-47D7-A162-C4E83BBC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9C06-E074-4CBC-B646-5E0A7FB3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DDF6-670B-4704-80C0-E95C9439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91D2-B3A9-433F-9532-0FE6B849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8D77-DB8A-4C9D-9F3E-6FE5B570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1175-77FB-4EC2-8DB9-076344AB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4E23-7AD3-4140-89D5-560B856F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7E8C-74E3-46C6-8525-958D9169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6F1-AFE8-4476-BE6D-F48D4675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0F10-3F78-40C8-BFE5-7FDA53A9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0CD16-ABCD-41C1-B60C-44505B8D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CD15E-493A-4C63-9808-B0DE18AF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C7C1D-629B-496B-989D-2BF5CB5F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A07C2-4CCB-4DA3-A484-A0FB70F8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944AA-57B8-4AF8-9B84-C51BC7AB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28D1F-934B-47F4-A0A0-0011A780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8CFE7-6DED-4BD2-97B6-58E1DAF6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E453-9DBC-424A-ABC3-BDB6067A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E1850-868F-4BBF-A94B-9E3ACA41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19EB-F406-4922-BEA9-C5DD23E3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05B25-3B81-4B0E-8855-D3D7FB23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19AEC-BC21-4BE6-BE39-91DA9FE2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F261A-BBFA-4207-A16C-265B739D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55387-F271-4D58-9A27-898714F3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00FA5-F17E-43A3-B9BF-0E152175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6E2AA-CF66-481A-A5AE-9E64B4D9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D0C28-0AC2-45A1-9558-84124255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A6492-5423-4D63-A8A0-3707EAB5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68A39-B9BB-4DC0-9D4B-9282772C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86640-8C9E-4ECE-944B-874FDCCA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E52-5062-4A9A-A0F7-18445C9C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2C423-33A4-44A7-BD01-E34DA424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575DD-F520-481E-8AD1-AD78995A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121F9-8EBB-4A41-AB89-81C16F70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5CF69-3DCA-430C-B4EC-DD32F513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7ECF7-7564-4F21-B96C-F7A21491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8095C-C34D-4EA1-9F40-B27BBDBC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16EAF-CDF0-410D-BFDA-B5D8805F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D2107-CAD4-477A-B5C8-BC48D6C4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6FD92-B8C0-46D9-A8A5-B708970B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A0188-EBD8-4893-9FF3-BEFD50D8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6651-D381-4498-990F-0FBB04C5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D3BD4-255B-4F35-B6CC-1B036835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6F49E-0C98-4979-BC87-0A7E1A20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1F10E-FF81-4A31-9A39-9598A7E6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EFBE5-2D88-453A-81E8-A421AB6B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14C70-E5C7-4B3F-9DCD-C8B3A47D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0544E-E7B1-49EA-92BD-728D3262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515EB-77DF-48D9-B25A-9812E9DB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66F7-E789-49EB-80B0-DCE39AFCABC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BC52-38BD-41B8-9FE5-4B1E1E3595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2D9C-7F26-40AE-B752-A0E6D9EBFFFD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862D-36AF-4AD8-B2A7-ABE7609C3DC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CBA4-C4C3-46AD-9A36-2E69A4EBEFA1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D819-CF61-4308-BE1E-EE2676FE106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F1BD-9DC5-4BA9-B104-E51A3FF4DAEF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FB5E-93DC-4715-8B3C-EF2255BC1DD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829C-4F88-4440-8550-CC3FCAA9D59A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93D1-A898-4048-ABF1-F195717233B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771280" y="3789000"/>
            <a:ext cx="6264360" cy="18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munikativní doved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hDr. Jitka Cvejnov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386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Strategie řešení konflikt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ýhra x prohra (konkuren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yhýbání se konflik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způsobení 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operace – společné řešení problém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mpromis  hled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24204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Formy řešení konflikt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. Útěk                        8. Reaktivní jedn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. Rezignace                9. Projek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3. Přesun konfliktu      10. Somatiz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4. Kompenzace           11. Racionaliz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5. Sublim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6. Potlač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7. Regre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Asertivi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Schopnost říci 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Umění požádat o laskav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Vznést svůj oprávněný požadave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Vyjádřit kladné a záporné emo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. Začínat, udržovat a končit konverza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457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Zásady asertivity – I. čá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928800" y="1714320"/>
            <a:ext cx="785808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š právo sám posuzovat své vlastní chování, myšlenky a emo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š právo nenabízet žádné výmluvy či omluv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š právo posoudit, jak můžeš řešit problémy ostatních lid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š právo změnit svůj náz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š právo dělat chyby a být za ně odpovědn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Zásady asertivity – II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áš právo říct,  že neví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áš právo být nebýt oblíbený všem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áš právo udělat nelogická rozhodnut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áš právo říct já nerozumí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áš právo nejednat asertivně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echniky aser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ažená gramofonov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tevřené dveř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ebeotevř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olné inform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jetí chy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egativní dotazová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elektivní igno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jatelný komprom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676944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Odpověď na praktické otázk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928800" y="1557000"/>
            <a:ext cx="785808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Špatně jste pochopil mluvčího a zjistíte to pozdě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erozumíte, co mluvčí řekl (Tlumočník nerozumí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luvčímu rozumíte, ale nechápete obsa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luvčí se obrací na vás místo, aby mluvili s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luvčí mluví nevhodně (vulgarism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luvčí se uráží vzájemně, nebo jeden mluvčí uráž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azyk mluvčího je primitivní, gramaticky nesprávn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luvčí mluví nesouvis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luvčí pláč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12944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Stres a potřeba psychohygie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lashback – analýza emo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res – emoční re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enos emoce na se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yhoř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Některé psychohygienické techni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760" indent="-5727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Předpoklady tlumoč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edpoklady komunikativních doved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Bezpečné ovládnutí fonologického systému (zvukové stránky jazy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automatizování jazykových prostřed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olné využívání jazykových prostředků ke komunikačním cílům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Obtíž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928800" y="1484280"/>
            <a:ext cx="7858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ady řeči (šišlání, koktavost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azykově psychologické – omezenost jaz. prostředků – větší námah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ualita obsahu a for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sobnostní psychologické – ostych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trach z chyb, rigidita myš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4.   Čistě jazykové obtíže – interference s mateřským jazyk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24204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Základní typy komunik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trapersonální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terpersonální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kupinová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Institucionální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Organizační (byrokratická)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eřejná komunik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ediální komunika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386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Kódy v rámci komunik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Jazykový kó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ynsémantické kódy – intonace, slovní a větný přízvuk,  tempo řeči, hlasová kvalita, pauz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utosémantické kódy – oční kontakt, úsměv, gesta, vzdálenost (75 cm – 1 m), postoj při komunikaci, pohyby při komunikaci, doteky, vůně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18920" y="333360"/>
            <a:ext cx="684036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Tématická struktura dialo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lavní téma – základní přípr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ílčí téma – postupné rozvíjení hlavního tém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Vedlejší téma  ‒ odbočení od tém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Konverzační vzor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Griceovy maxi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incipy koope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xim kvantity: Sděl informace tak akorá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xim kvality: Říkej prav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xim relevantnosti: Mluv k vě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axim způsobu: Mluv jasně a správ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990033"/>
                </a:solidFill>
                <a:latin typeface="Verdana"/>
              </a:rPr>
              <a:t>Leechovy maximy zdvořil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Tak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„Mohl bych vás na okamžik přerušit?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Velkorysos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„Posaďte se a já to zařídím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Ocenění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„Paní A byla výborná a i pan B byl – hm – zajímavý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kromnos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„Jsem to ale hlupák! To by se vám jistě nestalo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ouhlas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A:“To se mi nelíbí.“ – B: „Jistě. Ale přece jen...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oucit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: „Měl jste jistě velkou starost.“</a:t>
            </a:r>
            <a:r>
              <a:rPr b="0" lang="cs-CZ" sz="2400" spc="-1" strike="noStrike" u="sng" baseline="30000">
                <a:solidFill>
                  <a:srgbClr val="eb8803"/>
                </a:solidFill>
                <a:uFillTx/>
                <a:latin typeface="Verdana"/>
                <a:hlinkClick r:id="rId1" action="ppaction://hlinksldjump"/>
              </a:rPr>
              <a:t>[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Konflik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●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Vzniká z rozdíl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Dynamický prvek společenského vývo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Negativní důsledky konfliktu – nejistota, strach, agr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3 druhy konflik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Konflikt kladných s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Konflikt záporných s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  <a:ea typeface="Arial"/>
              </a:rPr>
              <a:t>Konflikt kladné a záporné sí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2:49Z</dcterms:modified>
  <cp:revision>106</cp:revision>
  <dc:subject/>
  <dc:title>Snímek 1</dc:title>
</cp:coreProperties>
</file>