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0E0A-1355-4F0D-A706-C07639624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72E7-8413-461C-919D-87001AD4E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C76F-101E-49F5-9D13-D63DBA20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533F-EF43-4FC0-A6B7-1981DB45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A00-15F8-48A6-A87B-B6635496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C5D2-1C50-4819-BD7C-263C9C09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0AF-C680-4446-B7B3-C6F92CD8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132-BA91-4F1F-8995-6773E14F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B6A-FC5B-48FF-AAE0-A493423A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1106-3B61-4D38-B159-D398E673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D6B1-46E6-40E9-AFD7-288A9C25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E868-FD32-468F-85EB-A66F4B37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D080-6DBD-4AD8-8F8D-C8B38EE1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E862-BC76-466F-94E3-78853319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C91C-3827-4C73-A430-B88FD585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FEC3-0A5D-46F6-AE2D-9EB99394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B176-1B06-4833-8A60-60924493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2228-3C2F-4DCA-8647-AEAA1D85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0916-1255-4843-A52B-C22DC3B6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BC07-981E-4809-9428-21B67399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84CF-2F2E-497F-847A-A3EB0C94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AA78-13F8-482A-8A32-FEED4FE7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A8A3-ECAC-469C-98A6-4458CC76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7BAEE-096E-44DE-90C2-EFD20758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EE108-D101-4400-9D82-262A97EA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13105-92C9-4643-84B0-F0653DF1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A8C31-5EBC-4D1A-A434-1FDDCA4D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F3523-2740-40A3-B546-7FA80C87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44554-5486-4EF2-95A6-5D8CB6F2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2D1EF-1E14-44C3-99CF-5FD8EBFC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A9072-9DCC-477A-8A38-60860FE4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9A394-EB23-4866-A548-F09C97A0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62F-7BA5-4846-95C9-06DD52FC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632A5-CF2F-4D83-96E4-EAFE62F2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DB854-E65A-480F-8C79-601027B6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0491B-EFC4-4070-9C01-6214D224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078B4-2B07-4993-B112-F88470D5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32BEF-AE0D-474B-B045-28830706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A1F4E-875E-424E-9A3D-AF84D0B4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07F7B-D0AF-439F-AC2F-C83F53AA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FB4D7-FB83-40B4-9B0A-5178CB2D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E2CDB-8EAD-4E33-B568-25123F19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C27AD-F070-4988-AC8D-6ECCAB80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BEC-6BE3-4548-8B1D-EFB2B20A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15673-4CFC-4A7B-8CD0-3805A695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92718-A571-4D14-BEAE-0E4CCC71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5E575-405B-49A5-B904-E843FB92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A6C31-15C2-4994-8B67-AB59107D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0E11C-9A7D-4921-98C7-F3D483DC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03F73-C45E-4098-8171-3BA3F7B2E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6382D-69EC-44F5-8FC9-F8F3B6F7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87352-7E3A-4BC7-A0B6-52137204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7DF8A-6707-4861-B3C5-B44DD205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4FF2D-A630-4136-8611-E575439B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B1EE-E219-4CE0-86F9-C2FB7EF4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E0B5D-D81F-4EA4-BD22-49D19794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0E825-4BB6-4B9B-B82E-BD6A0876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97CFC-6636-4EE3-980D-11694EF7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0E825-7A83-46D6-98BC-44560D07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041B9-2E0E-44A0-90AC-5CC34F6C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FC1BF-8DEB-47E4-BA54-64C995F9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95CDF-BE9C-4014-B2D0-8B3E5A80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21E0-B094-4DF5-AFF1-F8290B7AFF5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37B5-62CA-45F9-A0FC-8E31C3899A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E80C-C685-43D0-B8A8-6C3A139CE2E5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90B9-A500-4D94-A015-67E9334758FA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792E-8174-446C-AB78-E0C7CD89267F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CE3D-5C08-427D-B414-EC9C2CB446E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2F31-4495-4717-BE99-CE120ED9C357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878B-A61A-4033-BC04-4C53507084A3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4307-C02C-406B-A89A-AE1F78A51F39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88E8-EBFC-47FB-BAF9-56E4C6D87E61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Úvod do tlumoč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itka Cvejnov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541440" y="1571760"/>
            <a:ext cx="821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Kdo může v ČR tlumoči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olná živnost dle živnostenského záko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kon č. 455/1991 o živnostenském podnik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Situace,v nichž je přibrán tlumočník, se vyskytují jak v oblasti civilního práva (dopravní a jiné nehody, občanskoprávní spory, nejčastěji v otázkách plateb) tak v oblasti práva trestního (krádeže, vloupání, podvody, převaděčství aj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Rozdíl soudní tlumočník x přibraný tlumočník</a:t>
            </a: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Povinnosti tlumočník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latba daní, sociálního a zdravotního pojiště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latba DPH – příjem, práce pro každého zahraničního klient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i Slovensk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Pracovní jazyk tlumoční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zyk A – mateřský jazy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zyk B – pracovní jazy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zyk C – pasivní znalost jazy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trategie tlumoče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Časový posu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dvojená pozornost – dominan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gnózování výpovědi – gramatické, sémantické, pragmatick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Ekonomie – obsahová, gramatick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áce s konkrétním tex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Techniky tlumoče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nsekutivní tlumoč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imultánní tlumoč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huchot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provodné tlumoč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umariz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slovné tlumoč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lumočení z list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Aktivní posle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vičení na aktivní posle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právějte každý, co jste dělal/a vče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nalýza vyprávě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truktura vyprávě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eprodukce vyprávě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Pamě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rátkodobá pamě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louhodobá pamě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vičení na krátkodobou pamě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Cvičení na dlouhodobou pamě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826560" y="1628640"/>
            <a:ext cx="793116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ěkuji Vám za pozorno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0:43Z</dcterms:modified>
  <cp:revision>101</cp:revision>
  <dc:subject/>
  <dc:title>Snímek 1</dc:title>
</cp:coreProperties>
</file>