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5EE3-0BDF-4C7A-9333-735EE627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FF1-8099-486B-BC5D-1BF05CF9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EE9-074C-452B-A5B7-EBFAB178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2C05-31AE-4C7D-914C-09FB17B3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6A0-82A9-4579-B76C-6AF9E043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2F71-FA79-4E4F-A97B-ECCBC9DE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181-D39E-4AEE-9B99-2BAF60CF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A776-39CA-4D96-AE76-8F08CB27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F0D1-67F8-46EA-95E9-8FB97A11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C695-F2CC-4EA4-AE73-7F6FC7E6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B254-719F-4944-A871-A98E6391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4352-B39E-4AD8-B563-EA1F9D74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F7BB-B8E2-43F0-BE9A-CC82D652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93F5-3974-491D-8501-798C30DA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BCEF-4710-4F6D-B1AD-EB6FB8E3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DDB0-39A7-4C97-821F-BB53DE42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ACCF-145C-4266-8B2F-32D0DDEE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238B-E620-4F88-925F-6D74FF49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D769-1F9F-438D-AA1D-45E75D40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9EA-0BB6-4B49-A5E3-2AF4C7D5D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EDBD-274A-4043-90B3-F0C44CC9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D597A-0A08-4754-9EDA-4EBA953E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2C861-37FA-4320-B241-7C8B5EE6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98CEB-5AFD-4A91-9AED-8E36C425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42DFE-26BE-4464-8603-378A329D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2BCF9-E7FC-49F9-A5AD-10493085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1DC69-5DAA-4959-9C3D-18A43C69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B4AA8-864B-44DC-A222-32050D79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99413-DE3E-48E8-BC78-626A9FC9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44144-2AA0-4AC3-830A-563B6589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005-4344-45A3-AE48-DF6B85C9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BF09A-B02D-4180-ABDA-F30BA897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73CB2-ACC8-4DB7-B423-3DC60C61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4D23A-9A9C-4BC1-A0D8-6C53123B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DBD35-3172-41BF-91BA-AC183261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E7394-609B-4037-9D9A-DAC2AE26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5B7E1-A756-494B-8058-671F49D3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E413C-0FEE-4B58-A83D-7F61FADF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3B7BF-1373-462C-844F-41130002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B5B0B-8C6D-49B4-81A4-4B4FC30B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312F3-600C-4384-88FD-5320B8EC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A45-2430-4F1B-94D2-A15718B0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CCCDD-B8A9-4D4D-8539-647DADCA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E9122-A289-40DD-92B0-F203EB18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420C1-90AA-443D-9EF5-ABF6A602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BEEE8-66BE-41CD-8BF3-A13CD530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5A9CF-BA42-478B-895B-6933E59C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4DF8F-8BB7-489D-9ECB-2235EA3E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634D7-5647-481B-AF37-45084C44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2817B-F5CB-4AF9-95D8-D9A54959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A2676-51E9-4488-88BE-F18548CC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81CF5-3E00-4C53-B8A3-8D196477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774-76CE-4CE9-A396-2C549F9E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9F8D0-EE42-4082-A4ED-99BEB68F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34C11-E71F-4590-863B-2C5CEB9D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F1A05-CBB8-4829-9B0E-7BB2D1BD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64EEA-4119-4638-BF2E-7EAF80E6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5C25B-F853-4E41-BE5E-DD6BD79A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317C6-7CD3-43EA-926F-B5AC5952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D7A9B-E97B-405C-8426-309EA992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5DF0-1E82-4094-8C54-FDAB04311C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C039-564C-44D2-9CB0-D260909EAB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6688-F161-4721-B93B-0ED36B26BD26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4421-14C4-4ECB-B996-FFE7BFCB3E2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062D-D7F5-49F3-8805-F048EA8CFAD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F108-FCE0-4DA6-90D9-5D12C49222A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80C8-CE71-44B6-BA62-5DBF7CE4B441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E9F5-99A1-4EBE-861A-629DB392ECF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C0EA-3591-47FD-87EA-AC139C2F2074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BED1-F156-4C39-B66B-626330EC52E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Kulturní specifik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hDr. Jitka Cvejnov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Fráze a idio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svojení si základních fráz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vedení tématu, ukončení téma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áce s idiomy při překlád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Červený  jako ra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 poctivostí nejdál dojde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ti gustu žádný dišputá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liník se přestěhoval do Humpol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Co je to význam slov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lova v jednom jazyku nemusejí odpovídat slovům v jiném jazy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aždá jazyková skupina vidí „skutečnost“ různým způsobem (barvy, vůně, ale i abstraktní pojm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znam slova se buduje většinou kontextem, významy neexistují izolova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lova mohou mít různý význam slovníkový, ale jiný v různých kontext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Příklad hledání význam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ětný příkla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dyž jsem prchla z díry, jela jsem za sestřičkou. Jela jsem tam stopem. Cesta byla fakt hrozná. Ty vogo, měla jsem v kalhote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můžeme říci větu jinak? Jak můžeme zůstat jazykově neutrální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Emoční reakce na význ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ětný příkla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ednu jsem mu střelil, no a co? Tobě bych taky střelil, kdybych mohl. A tobě, holčičko (</a:t>
            </a:r>
            <a:r>
              <a:rPr b="0" i="1" lang="cs-CZ" sz="2800" spc="-1" strike="noStrike">
                <a:solidFill>
                  <a:srgbClr val="000000"/>
                </a:solidFill>
                <a:latin typeface="Verdana"/>
              </a:rPr>
              <a:t>obrací se k tlumočnici)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akonec ta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k správně přeložit a potlačit emoční reakci na význa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Co jsou kulturní specifik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 jsou kulturní specifik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se člověk musí musí naučit, aby se stal platným členem své společnost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sám většinou nevytváří, nýbrž přejímá od jiných lid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je spíše kolektivním a často anonymním, dílem mnoha generac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se udržuje tím, že se o to lidé starají a pečují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dané společenství spojuje a zároveň odlišuje od jiný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Kulturní specifi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lumočník musí vždy vědět, že každý člověk má svou vlastní „kulturu“ danou jeho osobní a rodinnou historií a danou jeho příslušností k určitému společenství (komunitě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zyk je prostředkem, jak se tato kulturní specifičnost projevu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zyk má zároveň také vlastní specifi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Jazyková kulturní specifika v češti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Tykání x vykání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slovení oso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žívání titul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ladení otázek v češtin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žádáme v češtin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k navrhujeme v češtin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Mluvená a psaná češti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 češtině je velký rozdíl mezi mluveným a psaným jazyk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istorické příči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pisovná a standardní češt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tandardní a obecná češt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Regionální rozrůznění češti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becná češt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Čechy a Morava, menší specifika východní a jižní Čec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ředomoravské diale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Brno, Han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chodomoravské dialekty (jv. Morav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veromoravské pohraničí (Ostravsk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lezská nářečí (Opavsk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ociální varianty češti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azyk profesní - lékaři, právní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lang – vojáci, horní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rgot – snaha o utajení význ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rněnský hantec, ostravská chacharšt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kové skupiny – jazyk mladých líd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hlaví –jazyk ž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tyly spisovného jazy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kticky odborn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ědeck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pulárně naučn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dministrativ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(formuláře, žádosti, zápis, životopi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ublicistick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Pravidla společenského styk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zdravy, upoutání pozornos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avázání kontakt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idla podávání rukou v češtin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idla představ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Rozlou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lahopř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Kondol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3:02Z</dcterms:modified>
  <cp:revision>116</cp:revision>
  <dc:subject/>
  <dc:title>Snímek 1</dc:title>
</cp:coreProperties>
</file>