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1198-BB31-4E08-A20A-6DED682D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FB37-2C9C-4C83-88C6-168AAE40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CADE-F24E-4CFE-A04B-51E9BC8ED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4674-03D4-43C2-8291-7952630B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1A1A-5895-485E-BC1F-8061B6E6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B936-8928-4A30-A6C4-3DAC63BD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A922-9C42-4268-8266-3242D39B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6AFF-9D8C-4C9C-845E-A5E80D004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D8F0-CAA5-4A52-B582-C190C042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0B55-9464-4A77-9AE0-C98DF2C7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0CC9-B301-408A-B73D-1274EB18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43CC-BB12-446C-9C09-638C9202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F0C0-76ED-4C86-989C-8CDC8894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C58C-CFA2-4395-977C-6B0E6969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47FC-3BC1-481C-9699-C959EDB0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F744-63A8-4019-A3BF-F177A398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5F58-5F63-4112-8A90-9641E46A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6C75-602B-4250-A2D0-F1120953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34D5-D562-48F9-89EA-53059AAD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F137-E924-4218-94FA-66EE079D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27C4-6D9A-4599-AF64-E6ABC9E8E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17C28-41D8-4EF8-A130-8216AF8C6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D0F2E-C9E4-4098-BD17-04FC66B3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941D9-CAD7-4A7F-AC9A-8D988DA3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8FC5A-AE38-4521-BED7-E3C385E3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5D7D4-4837-437A-A2AC-0DCA2828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3A6DC-2005-4BBF-8408-8857FDE6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12D47-9F64-4B11-8317-A9897D1B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A450B-426A-41DF-8F9F-416224CA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0FAE8-7825-4F8F-99BF-28D57D2E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DF9D-0366-494D-B210-10724743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608D5-BC81-43C7-B447-3BC96138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C08AF-2F72-4C12-BD08-2904DAF7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968BF-78C1-4AD5-B07D-3A5C920CE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8F8A9-2CA7-4980-98D7-9FD472D4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56062-F54E-4641-BAB6-635D5067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4F3A9-5FA5-41A5-9C28-1CD5732D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2660C-3B9E-42F5-B3E3-4137C056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883B5-59B3-4986-B0F7-A508F1A9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1FC19-2119-4964-8990-BC35E77C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CD58B-5AED-49C6-8FEE-C6C8BD44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461A-0B17-46EF-ADAE-086DC907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89624-56EC-4C00-8268-FB0D29DB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43B0D-2C62-40E6-90A4-E356CC29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7EAE6-51B5-4246-A09C-9A727A00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78DA2-2743-401A-A0CB-C24DD6F8A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59882-9EA9-453C-AA1A-B91A4A4A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ECDAC-524F-41DD-AABA-9D6D16AE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CFCE6-D190-42FA-8551-4C1962DD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2C4BC-C4FC-4200-868B-7309D115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93451-1300-4C42-B3A4-E484A90D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D136F-5B65-4199-A2FA-60211F48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EC6B-54BC-43EB-B69F-D032B7E0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CA2B9-5606-4E19-8CA2-E34F8316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B9FC2-529A-4198-A3EA-CDF1739A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9FBC6-50EC-4E64-BD05-6E5157FC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71502-A70C-45A0-9FA0-1A8C97BD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89C6C-8FE1-4E1F-9868-C5516FD1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7E6F1-362B-4212-B439-45EB448D0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51255-A235-4565-B754-645B645C1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DCF0-9C30-4663-A433-16F019F4CE4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9DD9-E5AD-44FA-AAA7-D2AB9838FEB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4954-AAB9-4768-8E4F-79B0CD485EC2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6E3A-132F-41AA-A712-8F62885B4C85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D18C-E93F-4444-BD81-54CB33E4B136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9C42-87A8-4296-A682-EB18A616DBBF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kitka_meta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Obrázek 18" descr="logoMPSV-c-sm.jpg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6235-6237-4A33-833B-3C686C6FE1D9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1797-02C7-424D-8480-07A0555D8A32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3" descr="logo_meta_1_tmavší_FIN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tka_meta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kitka_meta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kitka_meta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19" descr="logoMPSV-c-sm.jpg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1400-DCAE-47FD-9182-C809A4B2D7FC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D618-CDE4-41A8-BD99-AD31D6F737EF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Etika a etiketa  tlumočení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hDr. Jitka Cvejnov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Odpovědnost tlumočník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ijatý úkol musí odpovíd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eho jazykovým znalo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eho stávajícím fyzickým a psychickým schopno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eho kvalifika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eho příprav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Odmítnutí úkol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A. Pokud má pracovat pro členy své rodiny nebo osoby blízké nebo kde existuje zjevný konflikt zájm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B. Prostředí fyzicky nebo psychicky nepřijatelné (důl, lešení, pitevna …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. Prostředí nepřijatelné z morálně-etických důvodů (erotická link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.  Nedostatečná jazyková vybavenost v oboru a nedostatečný čas na příprav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Jazyková přesno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928800" y="1714320"/>
            <a:ext cx="785808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lumočník netlumočí doslova, tlumočení je analýza smyslu, doslovný překlad se používá ve zvláštní situaci s upozornění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ři tlumočení by měla interpretace textu trvat 2/3 doby trvání původního tex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lumočník se musí naučit techniky, které umožní interpretovat dostatečně přesně obsah text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esmí ale hádat významy sl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á právo si ověřit význam slova, pokud si není jist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Neutrali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lumočník nemění způsob vyjádř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lumočník nic nepřidává, ani nic nezkracu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ení odpovědný za obsah slov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tázky neutrality jsou velmi složité, zejména  v komunitním tlumoč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ácvik neutrality trvá dlouho a komplikovan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onkrétní cvičení k dodržení neutrality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Nestranno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lumočník nepracuje pro osoby blízk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lumočník nemůže při tlumočení uplatňovat své osobní politické, náboženské, společenské názo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lumočník neprojevuje sympatie nebo antipatie ke komunikačnímu partnerovi klienta ani ke klientov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lumočník neposkytuje rady při tlumoč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Nezávislo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lumočník není povinen tlumočit „ve prospěch“ osoby, která ho plat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lumočník nemůže být zaměstnán jinými úkoly než tlumočení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á právo vystoupit z tlumočnické role, aby objasnil tlumočnickou situaci klientovi i jeho komunikačnímu partnerovi  - tohle platí jen při komunitním tlumoč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Mlčenlivo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lumočník nezveřejňuje informace, které se dozvěděl při tlumoč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epoužije získané informace ani nepřímo, například pro obchodní úč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icméně některé informace tlumočník ze zákona zveřejnit musí, jedná se o výjimečné trestné činy a jejich příprav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3864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Dodržení profesní etike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Etiketa – pravidla zdvořilého chová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ržení těla, hlas, ge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blečení (jednobarevné, tmavé, nenápadné, šperky, kosmetika, čistota, upravenos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zdrav při příchodu a odcho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dvořilost (takt, skromnost, nezbytný odstu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ochvilnost, adekvátní omlu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Solidarita s kolegy  a potřeba vzdělává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ekritizuje koleg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bhajuje společné zájm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dílí nové znalosti a poznatky s koleg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lumočník se celý život vzděláv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vyšuje si jazykovou kvalifikac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Rozšiřuje si kulturní přehled, všeobecné znalost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76000" y="333360"/>
            <a:ext cx="705636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90033"/>
                </a:solidFill>
                <a:latin typeface="Verdana"/>
              </a:rPr>
              <a:t>Soudní tlumočení – některé rozdíly s komunitním tlumočení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ysoká kvalifikace soudního tlumoční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pis do seznamu tlumočník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nalost právnického jazyka a právního systém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nalost právního říz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aximální přesnost tlumočení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Respektování pokynů soudce  - vystoupit z role jen na pokyn státního orgán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Co je to tlumočení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Ústní zprostředkování informace z jednoho jazyka do druhého - tlumoč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x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ísemné zprostředkování informace z jednoho jazyka do druhého - pře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ediační dovednost – sekundární řečová  dovedn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Komunitní tlumočení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Zprostředkování cizího jazyka při  osobním jednání, vedle čistě jazykových otázek musí tlumočník řešit náležitým způsob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a) roli zprostředkovatele kultu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b) sociální problémy klienta spojené s neznalostí jazyka (uplatnění práv v zemi, jejíž jazyk nezná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) psychologické problémy spojené s  adaptací v cizí ze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elze vždy aplikovat postoj nezúčastněného prostředníka, není to tzv. soudní tlumoč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Základní vztah účastníků tlumoč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Fyzická přítomn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lient                      Komunikační part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lumočník = Mediátor jazyka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Základní přístupy k tlumočnické profes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1. Tlumočník pomáh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2. Tlumočník je stroj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3. Tlumočník usnadňuje situac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4. Tlumočník pomáhá tím, že interpretuje správně tex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Základní prostředí komunitního tlumoč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A. Úřady – imigrační orgány, policejní řízení, úřady práce, daňové úřady, místní samosprá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B. Lékařské prostředí – jednotliví lékaři, nemocnice, laboratoř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. Psycholog – různá psychologická vyšetř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. Škola – komunikace mezi učiteli a žáky, autoško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E. Mimořádné události – přírodní a civilizační katastrofy, válk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Etik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isciplína, která zkoumá a popisuje lidské chování a normy tohoto chová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lumočnická etika – deontologická (stanoví povinnosti) a aplikovaná (vyjadřuje se ke konkrétním problémům obor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Etický kodex tlumočníka – konkrétní pravidla profe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Základní principy etického kodex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ijetí odpovídajícího úko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azyková přesnost a neutrali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estrannost a nezávisl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lčenlivost a diskrétn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održení profesní etik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olidarita s kol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třeba celoživotního vzdělává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Přijetí úkol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  <a:ea typeface="Arial"/>
              </a:rPr>
              <a:t>Kdy nesmíme odmítnout úkol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  <a:ea typeface="Arial"/>
              </a:rPr>
              <a:t>Důvodem odmítnutí nesmí bý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  <a:ea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  <a:ea typeface="Arial"/>
              </a:rPr>
              <a:t>národnost, rasa, náboženské vyznání,  politická příslušnost, sociální postavení, sexuální orientace, věk, fyzické a rozumové schopnosti, pově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1:02Z</dcterms:modified>
  <cp:revision>101</cp:revision>
  <dc:subject/>
  <dc:title>Snímek 1</dc:title>
</cp:coreProperties>
</file>