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3A77F-3BB0-42D5-96F9-73351E545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A8F4C-E26F-422C-9E2C-0E296A89D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D4F0D-1E72-42DD-9024-B7CD74767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442F4-0F9C-410C-8A87-BF6E82113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ECECC-D66E-4B92-B5C8-EAD89AEE3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A28CA-A886-452C-99D3-784EE6305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FE587-70F4-4C9E-8179-261050256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AD275-3A31-43B5-9CD1-EAA9CE2FA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2E9B4-4163-4A6E-890B-9481B4D53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97C3B-228D-412F-8B3A-063B1A75E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C6BBD-02E0-48CE-8D22-7125DA249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249C0-2E21-4AFA-A1E4-9FA250C98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BF9E0-4E23-49E8-998C-B78C5DB9E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F6B31-CBC7-43E5-8DCD-2C2BC9866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08FF7-0EBB-4631-AB9C-DC2F19C19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A6BF1-C43E-498F-BAE5-C4D988F67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6783D-1574-4745-AE47-338093478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6F7-1695-43CC-BBB0-79DFA41F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CEA-270F-47BE-881C-1DCF7A76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D43-297D-4704-BB7F-DEA7C97C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A57-1911-463E-A036-135FA0B7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0BE-6011-456D-8BD2-25CB6A6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C61-B7E5-4020-8EF9-C30BE52C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276-6982-42F4-9FA4-F4C48D0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E179-E637-4AE0-9118-787EA082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E66-9721-44D8-B7E3-60CDAA07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B37-ACE1-49FB-BD4B-223D9EF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F00-F2CA-4686-8499-28606CAE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A181-AE8B-4A98-842A-87FCB9AE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B2FE-7A32-4416-8FB2-D54075B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EC94-44CD-404F-A847-133EDD37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BD26-59A9-4FD7-B840-5C46E0A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D0E0-15D0-48C9-B11C-0324C4E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B8BF-B3C0-45E9-8724-CC24A00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CBA3-B0AB-4C0A-879E-D1A19F3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D090-521B-4BCD-A02C-2D046E88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E82-A4A4-4D40-9C4B-302F431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D262-0620-44AF-8788-6C949A01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53AF-E6B1-48A3-ACB9-F8D0A0B3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EAFF-D8CA-4FBF-82F4-E8EA063F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45E9-99A1-49C1-8500-7D53A78A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60B7-A177-4648-9714-17FDF1A2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46C9-12BB-4E48-B845-31413B8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B4C5-2BBC-45EE-81A8-A32F7196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146F-A201-487F-B735-FC3F39D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9A0E-ADDC-4805-BC80-C2F9728A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FFD9-EB23-42CA-9EAE-A5529D63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B04-A98F-425F-B952-2AAC2FE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3E09-9FFC-480B-B666-F78B844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3E06-3305-4944-AC91-DDCBDDDC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A621-390E-41BD-A018-C3A0FE82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D9D7-D4E4-444A-B2B6-E07EBCCA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2660-2ECA-455D-8266-76C3AB5E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4026-4AE4-44BA-B29B-6133B33B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3D5D-59E5-4E2F-973B-CCD45E57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8F62-3D52-47F2-843B-EC366EC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1C87-C2C4-4E36-9F34-9A4738B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3083-5ABB-469C-8265-96ED41E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ED8-8D66-4B6C-9C4A-6642707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8BD6-C8BA-4C5C-A917-4AB0C57A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E93C-70D8-460C-9B55-577CF36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83C2-88D3-4B3A-AD17-9ABF364E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4EB6-D6A6-468B-B4E9-84DACAA4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643E-EA0E-49C3-BF49-21C94717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5F68-0177-4043-8EA8-920E22E7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E7EA-82AD-4C6E-89C6-5F8600C5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D9B62-5B65-4EB2-9B16-66D298C5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4130-D7C5-4736-85FA-AF758026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2F5CB-C820-4751-8398-E796C924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C84-C370-40AE-92B5-B8222658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884F-7C43-4094-AA25-E06927F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0407-1AE0-4415-8C19-1B7CDF95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418E8-0EEC-47B8-B874-E09C8BDB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B1814-AAFA-45AD-B589-CE42B4C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77AE7-5161-4453-BBAA-5D3FA2C8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BE79-5040-436B-9232-48C3C813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297C5-FCD5-4E1C-9B50-279B834D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F6ED1-CCD0-4579-8B28-C8C1ED1A7F9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9C3DF8-3D1E-4410-87B8-9E07552ED93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6D3E05-51E2-4D53-9178-9C9E18C1E50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9DEC88-18CF-4607-9857-1E144554D82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08903C-825B-4605-9427-5CDC3218A25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al.mpsv.cz/sz" TargetMode="External"/><Relationship Id="rId2" Type="http://schemas.openxmlformats.org/officeDocument/2006/relationships/hyperlink" Target="http://portal.mpsv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aměstn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оу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539640" y="179280"/>
            <a:ext cx="7740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Иностранец, работающий без разрешения на трудоустройство или выполняющий работу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отиворечии с выданным разрешением на трудоустройство, совершает правонарушение,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может быть наказан штрафом в размере до 10 000 чешских к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Работодатель (речь может идти как о юридическом лице, так и о физическом лиц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занимающемся предпринимательской деятельностью), предоставляющий иностран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нелегальную работу, совершает административное правонарушение, и может быть наказ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штрафом до 5 000 000 чешских к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ю о трудоустройстве иностранцев в ЧР можно получить на портале Министерства труда и социального обеспечения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ortal.mpsv.cz/s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 Zahranični zaměstnano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центров занятости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ortal.mps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Zaměstnanost ►Informace z uřadů pra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720720" y="539640"/>
            <a:ext cx="79200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covní pomě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covní poměr je v podmínkách ČR nejtypičtějším a nejčastějším pracovněprávním vztahem. Jeho obsah tvoří vzájemná práva a povinnosti zaměstnance a zaměstnavate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covní poměr se v ČR zakládá zpravidla pracovní smlouvou. Pracovní poměr se sjednává na dobu neurčitou nebo na dobu určitou. V pracovní smlouvě lze také sjednat zkušební dobu, která činí tři měsíce, pok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byla dohodnuta zkušební doba kratš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539640" y="539640"/>
            <a:ext cx="809964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Трудовые отно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В ЧР трудовые отношения являются наиболее типичными и частыми трудовыми правоотношениями и включают ряд взаимных прав и обязанностей работника и работод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Как правило, в ЧР трудовые отношения возникают на основании трудового догов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Трудовой договор заключается на неопределенный срок или на определенный срок (срочный трудовой договор). В трудовом договоре может быть оговорен испытательный срок продолжительностью три месяца, если не была достигнута договоренность о более коротком испытательном сро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02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720720" y="900000"/>
            <a:ext cx="738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usí splňovat určité formální a obsahové náležitosti. Především musí být uzavřena v písemné formě. V pracovní smlouvě je zaměstnavatel povinen se zaměstnancem dohodnout tzv. podstatné náležitosti, kterými jsou druh práce, místo výkonu práce a den nástupu do práce, bez nichž by smlouva nebyla plat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720720" y="268200"/>
            <a:ext cx="75596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ен иметь определенный вид, что касается его формы и содерж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ую очередь, договор должен быть заключен в письменной форме. Трудовой договор должен содержать договоренность работодателя и работника по всем существенным вопросам, таким как предмет работы, место работы и дата поступления на работу, без указания которых трудовой договор является недействите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Условия трудоустройства определены законом № 435/2004 Сб., «О трудоустройстве», в действующей редак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едпосылки трудоустройс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иностранец имеет действующее разрешение на трудоустройство и действительную визу, выданную с целью трудоустройства или разрешение на долгосрочное проживание с целью трудоустройства,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имеет зеленую карту (новый вид разрешения на долгосрочное проживание с целью трудоустройства, выдаваемый в особых случаях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28036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Разрешение на трудоустрой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Трудоустройство иностранца в ЧР возможно при наличии действительного разрешения на трудоустройство и действительного разрешения на проживание в ЧР или при наличии зеленой кар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 с разрешением на постоянное прожи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лица, которым было предоставлено убежищ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 с разрешением на долгосрочное проживание с целью объединения семьи с иностранцем, которому было выдано разрешение на постоянное проживание или предоставлено убежищ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, которые в Чешской Республике обучаются по дневной или иной очной форме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, которые осуществляют систематическую педагогическую деятельность как педагогические или академические сотрудники высшего учебного заве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лица, занимающиеся наукой и научно-исследовательской деятельно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62000"/>
            <a:ext cx="73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Центры занятости</a:t>
            </a:r>
            <a:r>
              <a:rPr b="0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 /</a:t>
            </a: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 úřad prá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Pro vydání povolení k zaměstnání je příslušný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úřad práce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, v jehož obvodu bude cizinec zaměstnání vykonávat. Cizinec může být při podávání žádosti zastoupen zaměstnavatelem nebo jiným zástupcem, a to na základě plné moci. Podání žádosti o vydání povolení k zaměstnání podléhá správnímu poplatku ve výši 500 Kč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120600"/>
            <a:ext cx="809928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рганом, компетентным к выдаче разрешения на трудоустройство, является соответствующий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центр занятости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по месту трудоустройства иностранц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При подаче заявления интересы иностранца по доверенности может представлять работодатель или иное доверенное лицо. За подачу заявления о выдаче разрешения на трудоустройство оплачивается административный сбор 500 чешских крон</a:t>
            </a:r>
            <a:r>
              <a:rPr b="0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360360"/>
            <a:ext cx="71992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olení k zaměstnání na území ČR se vydává na dobu určitou, nejdéle však na dobu 2 let.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v době před ukončením platnosti povolení k zaměstnání ke změně některé z uvedený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utečností, je cizinec povinen požádat místně příslušný úřad práce o vydání nového povolení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racovní poměr (dohoda o pracovní činnosti, dohoda o provedení práce) skončí dříve, vyprší i platnost povolení k pobytu za účelem zaměstná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0000" y="539640"/>
            <a:ext cx="755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Разрешение на трудоустройство в ЧР выдается на определенный срок, не превышающий 2 лет. Если до истечения срока действительности разрешения на трудоустройство произойдут какие-либо изменения, иностранец обязан подать соответствующему центру занятости заявление о выдаче нового разрешения на трудоустр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Если трудовые отношения (договор о трудовой деятельности, договор о выполнении работ) будут прекращены раньше срока, прекращается и действительность разрешения на проживание, выданного с целью трудоустро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39640" y="179280"/>
            <a:ext cx="828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řad práce může s ohledem na situaci na trhu práce na žádost cizince povolení k zaměstnání prodloužit, a to opakovaně, vždy však nejdéle na dobu 2 let. O prodloužení povolení k zaměstnání je třeba požádat příslušný úřad práce nejpozději 30 dnů před uplynutím doby platnosti stávajícího povolení. Podmínkou prodloužení povolení k zaměstnání je výkon stejné práce u stejného zaměstnavatele a ve stejném místě výkonu práce. Žádost o prodloužení povolení k zaměstnání obsahuje stejné náležitosti jako žádost o povolení k zaměstnání. K žádosti se přikládá pouze vyjádřenízaměstnavatele, že cizince i nadále zaměstná. S prodlouženým povolením k zaměstnání na území ČR je třeba se dostavit na místně příslušnou cizineckou policii a podat žádost o prodloužení doby pobytu u víza k pobytu nad 90 dnů za účelem zaměstnání nebo podat žádost o povolení k dlouhodobému pobytu za účelem zaměstnání či o jeho prodloužení. Tuto žádost je nutné podat nejdříve 120 dnů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později 14 dnů před uplynutím doby pobytu na vízum nad 90 dnů resp. povolení k dlouhodobému pobyt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360360" y="0"/>
            <a:ext cx="864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41414"/>
                </a:solidFill>
                <a:latin typeface="Arial"/>
              </a:rPr>
              <a:t>Центр занятости, с учетом ситуации на рынке труда, по заявлению иностранца мож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лить срок действия разрешения на трудоустройство, причем повторно, но не более чем на 2 года. Заявление о продлении разрешения на трудоустройство необходимо подать в центр занятости не позже, чем за 30 дней до истечения действительности имеющегося разрешения. Условием продления разрешения на трудоустройство является выполнение той же работы у того же работодателя, по тому же месту работы. К заявлению о продлении разрешения прилагаются те же документы, как и при подаче заявления о выдаче разрешения на трудоустройство, дополнительно предоставляется лишь подтвержд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одателя о том, что иностранец по-прежнему находится в трудовых отношениях с данным работодателем. Продленное разрешением необходимо предъявить в соответствующее отделение Полиции по делам иностранцев и подать заявление о продлении срока проживания, в случае пребывания по визе на проживание на срок свыше 90 дней с целью трудоустройства, или подать заявление о выдаче разрешения на долгосрочное проживание с целью трудоустройства или о продлении разрешения. Данное заявление нужно подать не раньше 120 дней и не позже 14 дней до истечения срока действия визы на проживание на срок более 90 дней или разрешения на долгосрочное прож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17Z</dcterms:modified>
  <cp:revision>88</cp:revision>
  <dc:subject/>
  <dc:title>Snímek 1</dc:title>
</cp:coreProperties>
</file>