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B798-B20D-4456-9426-6C25F6A13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47EE-86F7-4914-B0CE-FF41DDD7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8804-7F06-4EA7-B6AD-EFBCFE43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C51A-C21C-4C89-A3ED-D7239B382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BA97-4AAD-414D-86CA-5D4E0525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6CD2-227B-4E0E-BB65-23D32FFF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A8C7-447B-48D1-A9B7-87DCA4B9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C1FD-6331-4954-A100-66E8C55AE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C97B-9495-472F-B13E-89CA4938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6F5D-42FD-4BF4-B306-11F08660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DA7C-FCAE-4BC9-B86F-F6B7FDE1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209B-E6AC-40D9-A80C-68C4BB68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8F56-269D-43BD-A1F9-813DEC93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7BAB-8544-4693-8B39-3D3C316E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3E26-786F-4B0E-97D5-3421B1E6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6FD3-5143-4B87-8774-2F44276C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B0E4-94A4-466B-8387-DE51E270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3E0A-5B71-4842-B6DE-8DB7E34E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7356-1B2B-4D2A-8B02-E264B00D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C60A-4484-4A31-85A5-B98BD11C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A664-E588-4DC8-A7EB-65F87C92D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26ED5-52FE-46F1-A591-2DD0AD747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23407-2197-41E6-8F36-5BC4477E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064F8-8F98-4EBC-9542-44FEF50E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44274-CA5B-433B-B34B-5DEF71C8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D8ABA-74C9-4E2B-89EE-4CD00CB4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62955-343A-496A-AAD6-415A980D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42904-621C-48B9-BF1A-E3065767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8E7AA-8836-4C09-8890-FD8C3DD9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44022-F11C-4C48-8F03-FAFDC220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61B0-F7BA-45E9-819C-478A96D7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8D1DE-854A-4A56-A83C-E6538D56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4EC00-5C5A-4FD0-8039-A24BDFD3B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03D26-02E6-4541-AD54-6BC6A37BA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3F921-5225-4E9C-8D7C-ABFABFF2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A5F52-304B-4FBD-871A-32FFD03F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8625A-9607-491C-8F28-1E6D710D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58C8D-6F72-4CA1-89D2-FD24B7B6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1DFB4-5521-42BD-9A6A-3EE8809E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B3AB9-3D37-48F2-8534-17C4AE6C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A491A-F56F-4E71-B022-98E1207E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2244-5629-49F3-A040-B6A35DE7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713B8-1FFA-42EF-B9D8-81FBB966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F660C-9FF0-44E8-B3B7-90AEC644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E7EE1-4002-419D-BF97-CAF979CB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EA9FD-F888-41D2-A7D0-91C699A58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A16E3-7583-42F5-B1C5-F4347F7A7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ADFEA-8D80-4AAD-BCF3-865847600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64D4C-170C-49CC-A70F-671B8809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EB6B2-591F-4E65-84FF-F9C106A9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B0BB0-1D1F-4C83-A11F-38974D12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E33EE-6A23-4A58-83F3-3F68B90A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FE7F-6E0B-4344-A7F6-48D53011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F0916-5560-461B-8397-EE53C2AD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4CEB9-22A8-496E-8EE5-A5D98BDA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E26F8-D91C-4389-8CD8-185895B1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C0D0D-B0B0-49F1-B930-8A40B27C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3E0AD-22A2-4589-9AD5-FD1650C7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29BE3-5680-41BF-B00D-C1EFCB135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7F78E-90A3-496C-A319-0BF78ECF9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AD5B-02AD-4075-B5BA-6B08DBEC276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C12D-7258-44C9-8CC8-6B94E2FB4B6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E461-220C-4D9C-8753-A4293D28A82E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6959-94FF-454D-B30D-79F449461C76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A14D-ED9E-431E-A746-3A762E3A2780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EB6E-82FA-4BC1-9A22-C8C5734DED75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kitka_meta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Obrázek 18" descr="logoMPSV-c-sm.jpg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476C-2836-4266-BCF6-ECDD890D302E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9C5F-E8B1-4CB9-B532-649A01DCB9CB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3" descr="logo_meta_1_tmavší_FIN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kitka_meta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kitka_meta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kitka_meta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19" descr="logoMPSV-c-sm.jpg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8819-4D82-4508-82AC-16C6CBCA5192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6906-494E-447E-A128-CDBC3A33F4EC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дравоохран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Медицинское страх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язательное медицинское страхование (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řejné zdravotní pojištění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оговорное медицинское страхование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(smluvní zdravotní pojištění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уристическое ( краткосрочное и долгосрочное)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cestovní zdravotní pojištění 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омплексное медицинское страхование для иностранцев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komplexn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í zdravotní pojištění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adstandardní  výk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Smluvní nemocni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dravotnick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é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a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ří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e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Номер слайда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35E7-B631-4F44-8AA2-980B2FB1CF7E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990033"/>
                </a:solidFill>
                <a:latin typeface="Verdana"/>
              </a:rPr>
              <a:t>Виды медицинской помощи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mbulantn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í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éč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амбулаторная медицинская помощ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Ú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avn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í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éč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emocniční léčba)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стационарная медицинская помощ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Lůžková péče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стационарная помощ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Preventivní péče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профилактическое обслужи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Dispenzární péče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диспансерное обслужи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Lázeňská péče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санаторно-курортное обслужи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Péče v odborných dětských léčebnách a ozdravovnách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лечение в специализированных детских лечебницах и санатория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Závodní  preventivní péč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e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заводское профилактическое обслужи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utn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á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neodkladn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á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zdravotn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í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éč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неотложная помощ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Primární péče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первичн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помощ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Poúrazová a pooperační rehabilitace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п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осттравматическая и послеоперационная реабилитац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Konziliární vyšetření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обследование врачебным консилиумо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Repatriace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Номер слайда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1AEA-06CA-45BE-B6F9-A2754DF74F23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Verdana"/>
              </a:rPr>
              <a:t>Неотложная и скорая помощь</a:t>
            </a:r>
            <a:br>
              <a:rPr sz="2400"/>
            </a:br>
            <a:r>
              <a:rPr b="1" lang="cs-CZ" sz="2000" spc="-1" strike="noStrike">
                <a:solidFill>
                  <a:srgbClr val="990033"/>
                </a:solidFill>
                <a:latin typeface="Verdana"/>
              </a:rPr>
              <a:t>(P</a:t>
            </a:r>
            <a:r>
              <a:rPr b="1" lang="ru-RU" sz="2000" spc="-1" strike="noStrike">
                <a:solidFill>
                  <a:srgbClr val="990033"/>
                </a:solidFill>
                <a:latin typeface="Verdana"/>
              </a:rPr>
              <a:t>ohotovostní a záchrann</a:t>
            </a:r>
            <a:r>
              <a:rPr b="1" lang="cs-CZ" sz="2000" spc="-1" strike="noStrike">
                <a:solidFill>
                  <a:srgbClr val="990033"/>
                </a:solidFill>
                <a:latin typeface="Verdana"/>
              </a:rPr>
              <a:t>á</a:t>
            </a:r>
            <a:r>
              <a:rPr b="1" lang="ru-RU" sz="2000" spc="-1" strike="noStrike">
                <a:solidFill>
                  <a:srgbClr val="990033"/>
                </a:solidFill>
                <a:latin typeface="Verdana"/>
              </a:rPr>
              <a:t> služb</a:t>
            </a:r>
            <a:r>
              <a:rPr b="1" lang="cs-CZ" sz="2000" spc="-1" strike="noStrike">
                <a:solidFill>
                  <a:srgbClr val="990033"/>
                </a:solidFill>
                <a:latin typeface="Verdana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é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ka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ř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k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á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u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a prvn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í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omoci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SPP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Zdravotnick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á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hrann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á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u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a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ZSS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ychl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á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é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ka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ř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k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á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omoc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LP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ychl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á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zdravotnick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á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omoc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ZP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eteck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á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hrann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á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u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a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ZS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opravn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í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zdravotn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í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u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a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ZS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anitk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dravotn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hran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ář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Ř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di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č-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hran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ář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Номер слайда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BE13-5DDB-4868-A5B2-320865F302BF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дравоохран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6:02:27Z</dcterms:modified>
  <cp:revision>94</cp:revision>
  <dc:subject/>
  <dc:title>Snímek 1</dc:title>
</cp:coreProperties>
</file>