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1F2-00A0-4599-A405-9DDE5BA9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30-DA5D-4F7B-A00F-544EBF8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0A5-561E-4E8E-AE5A-0BB81006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BB5-077C-42AD-91AC-AAC78FE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BFA-0088-4C84-BE23-96FE8F88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0C8-12C2-4E54-9FB7-4E1B9DF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6C8-6184-4EE8-AE0B-500EEF3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E42-6534-4CCA-A668-20367906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6DF-8A54-426C-95F7-8940C09A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B79-8779-4399-BAC6-9F8C57FC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4DF-61B6-44F1-A889-5504B8B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F12-8D1C-4CCB-84C5-F4B9F87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9C8-F384-40EF-AB69-4232D785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23FD-A1B2-4EB7-ABF1-D38C655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8C8-3B42-4E3E-A7E2-A77F0CE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C65-0EF6-4AFE-A24F-04AB58F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EC27-8E80-465B-BA41-CF338DA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E67C-CE78-4F1F-BA53-C91B1DE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5FD-D08E-4C61-8EEF-439B6703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7D8-EFF1-4D8A-80D0-DFD8C23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BC35-F2A5-495A-9618-44CFC61B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F1F6-BD84-482A-B6AD-570E93E1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B404-CCD8-443D-90B9-9E5C82D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EF4D-220B-4C55-B984-C8B143E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EE5C-3298-45AF-A431-3D6EA10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505C-F067-4552-8415-C5C72772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ED57-2231-43BF-99D8-1F8B0F42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1651-5AFA-4545-9802-FB3DFAD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8104-ED65-4E59-A8A3-A7F7B87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55C9-3258-4089-BAD4-73FDC58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344-F65F-43C4-8520-796D8F04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F9BC-8569-4958-93C5-9617CBD5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E548-422D-4966-9C32-53428E47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B37E-2810-45E4-AE9C-80511FCC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DA53-B9A2-4907-85B4-33918E16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A7EE-E116-4E4D-82A1-FA3A946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C775-0786-42FF-ADE0-3A08EC38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D8B1-C029-46D6-A56D-0D5533F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F3A2-E9D2-40D4-B0A3-87AF1B4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66C0E-CAB5-430C-84C6-F8AF4EFA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A3F1-EA8F-4D79-91FB-5F9223C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7E1-30EA-486E-B2FF-571E39C7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6339-DDEC-45CF-A1AA-D186F45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6537-3F77-43D2-B242-756ECE5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D0DC-D7F1-49FB-A46D-F091A8B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1CDAB-2618-41BE-92F4-D3D07803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2626-E9BA-4EE4-9DA1-D6A20C70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21D2-A524-487E-AE5A-EF4179B1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60C3-9BE3-475F-BAD9-DDBFBD2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F779-9069-49BF-B34A-5726640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D5E3-2A2B-448C-8239-CD9E5FA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7A53-C3C6-4C04-8D70-EFF5E418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170-87F7-4F4F-A278-45F53E2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5314-72BE-490E-993D-F4E07E8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B5F50-C724-4DF2-928E-586CBE4A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67DF-36E2-41B7-A675-8238765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DCE0-B2B1-40DE-9CF4-5DCAA5C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78585-1369-4DE7-97F4-17A5F93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A8A9-79D9-47CF-B49E-207AE08C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AA5F-C890-4D0F-8784-7FB587E6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2E88-C230-4DA6-AE36-F3B2B65654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D8C2-1E0C-4A97-BFD4-CA82BC4D1B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AFA-2CA4-43C2-9292-95AAD6EFA44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22E-BE97-4539-A830-2D506E753AE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7B6B-F5D1-46C1-8759-1904EB4BD45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8E8A-0AF3-43DC-91EA-76F4EB6C3E5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77E4-77BD-4A0A-BBC7-863CE14AE4A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CC2-BDD7-4527-B719-2167D615928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35D-92C1-487B-8951-B0984E83410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CD73-3FBE-4ABD-B2A2-DBA59ECB900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 1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Žákovská knížka (ŽK) – knížka, do které se zapisují známky, poznámky a jiná sdělení rodičů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ýsek – malé děti ho mají místo žákovské kníž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námky – jsou od 1 – 5, nejlepší je 1 (výborná), nejhorší je 5 (nedostatečná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mácí úkol (DÚ) – zadaná práce na doma, kterou musí žák udělat a mít podepsanou od rodič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známka – pokud se žák chová špatně (zlobí, je drzý, neposlouchá, atd.), dostane od učitele poznám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chvala – za přínos kolektivu, dobrý prospěch, atd. dostávají žáci pochva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ůtka – při opakovaném porušování školního řádu může být udělena důtka (nejprve třídního učitele, pak ředite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mluvenka – při nepřítomnosti je nutné napsat do ŽK, proč žák chybě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ísemka – písemný test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timinutovka nebo pětiminutovka – kratší písemný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ktát – písemné ověření znalostí pravopis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koušení – ústní ověřování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družina – po škole chodí menší děti (na prvním stupni) do družiny, kde si hrají, at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jídelna – zde se žáci stravují, obědy je nutné si kupov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učitel – každá třída má svého učitele, který se o ni stará, řeší organizační i administrativní záležitosti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 – řídí školu, řeší organizační i administrativní záležitosti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svědčení – doklad o prospěchu a chování, žáci ho dostávají po každém polole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schůzky – konají se většinou každé pololetí, rodiče mají možnost konzultovat prospěch a chování svých dě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ázdniny – volno – nechodí se do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ské volno – ředitel vyhlašuje maximálně 5 x za ro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let – organizovaný výjezd mimo škol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ální vzdělávací plán (IVP) – škola, když je potřeba, zpracovává IVP, aby zohlednila odlišné vzdělávací potřeby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труктура образования в Чех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8" descr=""/>
          <p:cNvPicPr/>
          <p:nvPr/>
        </p:nvPicPr>
        <p:blipFill>
          <a:blip r:embed="rId1"/>
          <a:stretch/>
        </p:blipFill>
        <p:spPr>
          <a:xfrm>
            <a:off x="857160" y="2570040"/>
            <a:ext cx="7926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ateřské školy (MŠ)– předškolní vzdělávání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d 3 – 6 let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ápis do MŠ podáním žádosti k předškolnímu vzdělávání v termínu vyhlášení zápis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y nutné k zápisu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plněná žádost k předškolnímu vzdělává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jádření dětského lékař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 o pravidelném očkování dítě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P / pas zákonného zástup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U cizinců jsou potřebná další potvrzení. Informace o nich obdrží zákonný zástupce dítěte od ředitele mateřské ško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ruhy poplatků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 předškolní vzděláván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ravn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Základní škola (ZŠ)- povinná školní docházka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Od 6 – 15 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vinná školní docházka trvá 9 l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první třídy ZŠ  - oficiální zápisy do prvních tříd probíhají v době mezi 15. lednem a 15. únorem kalendářního roku, v němž má dítě zahájit povinnou školní docházku. Jinak je možno zapsat dítě kdykoli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konní zástupci mohou žádat o odklad školní docház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klady nutné k zápisu : rodný list dítěte a pas zákonného zástupce, informace o zdravotním pojiště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vyšších tříd je možný kdykoliv během školního ro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 tomu je dobré doložit vysvědčení z posledního absolvovaného roční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ákladní škola se dělí na dva stupně:  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1. stupeň  je od  1.-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2. stupeň je od  6.- 9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echod z prvního na druhý stupeň základní školy je automatick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ást povinné školní docházky můžou děti absolvovat také na víceletých gymnázi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osmiletá gymnázia dělají žáci přijímací zkoušky po ukončení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šestiletá gymnázia po 7. ročníku základní ško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oučástí přijímacích zkoušek jsou testy z českého jazyka, matematiky a všeobecného přehl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třední ško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d 15 let – končí dle typu ško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y navazují na základní školy a připravují na budoucí povolání, popřípadě na další stu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olba typu školy závisí na prospěchu a zájmovém zaměření žá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ijímací zkoušky vyhlašují konkrétní školy, dle svých požadavků. Žáci posílají přihlášky do prvního kola nejpozději 15. března, v případě přihlášky do oborů vzdělání s talentovou zkouškou do 30. listopadu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a může cizincům u přijímacích zkoušek odpustit test z českého jazyka, popřípadě ho nahradit pohovor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ětšinou je již ke studiu na střední škole vyžadována alespoň základní znalost češti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ruhy středních š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Gymnázium - poskytuje všeobecné vzdělání zakončené maturitní zkouškou a jedná se především o přípravu studentů ke studiu na VŠ nebo VOŠ. Délka studia je většinou 4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á škola - poskytuje úplné střední odborné vzdělání zakončené maturitní zkouškou v technicko-hospodářských, ekonomických, zdravotnických, pedagogických a dalších oborech.  Délka studia činí zpravidla čtyři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é učiliště (SOU) poskytuje střední vzdělání zakončené závěrečnou učňovskou zkouškou. Délka studia jsou dva až tři roky. Absolventi získávají výuční list a jsou kvalifikováni pro výkon dělnických a podobných povolání. Mohou ovšem i pokračovat ve studiu na nástavbách zakončených maturitou</a:t>
            </a:r>
            <a:r>
              <a:rPr b="1" lang="cs-CZ" sz="1400" spc="-1" strike="noStrike">
                <a:solidFill>
                  <a:srgbClr val="ea157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rganizace školního ro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yučování začíná zpravidla v 8 : 00 a končí na prvním stupni nejpozději kolem půl jedné, na druhém stupni mají žáci již odpolední vyučování. Žáci prvního stupně mají většinou možnost navštěvovat družinu až do odpoledních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Školní rok pro všechny typy škol začíná 1. září běžného roku a končí 31. srpna následujícího roku; člení se na období školního vyučování a období školních prázdnin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bdobí školního vyučování  - začíná 1. září a končí 30. června následujícího kalendářního rok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lení se na první a druhé pololetí. První pololetí začíná 1. září a končí 31. ledna následujícího kalendářního roku. Druhé pololetí začíná 1. února a končí 30. června. Za obě pololetí dostávají žáci vysvědčení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rázdniny – období vol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dzimní prázdniny - trvají dva dny a přičleňují se ke státnímu svátku 28. říj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ánoční prázdniny - od 23. prosince do 2. ledna následujícího kalendářního ro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loletní prázdniny - trvají jeden den a připadají na pátek v době od 29. 1. do 4.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Jarní prázdniny - trvají jeden týden a jejich termín stanoví vyhláška podle sídla školy v rozmezí od prvního úplného týdne února do posledního úplného týdne březn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elikonoční prázdniny - připadají na čtvrtek a pátek předcházející Pondělí velikonočním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Hlavní prázdniny -od 1. července do 31. srp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Ze závažných důvodů, zejména organizačních a technických, může ředitel školy vyhlásit pro žáky volné dny, a to maximálně pět v jednom školním ro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Vyšší odborné školy (VOŠ) a Vysoké školy V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maturitní studium,  zvyšování kvalifikac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OŠ trvají většinou 3 roky, studium je zakončeno absolutoriem a udělením titulu diplomovaný specialista (Di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Š mají většinou třístupňovou strukturu – bakalářský ( 3 – 4 roky), navazující magisterský (1 – 3  roky) a doktorský ( 3 roky ) 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soké školy mají jako jediné možnost udělovat akademické tituly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řijímací zkoušky – nutnost doložit ukončené střední vzdělání maturitním vysvědčením, v případě zahraničních zkoušek je nutná nostrifikace vysvědčení. Zkoušky jsou z konkrétních oborů, na které se uchazeč hlás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ýbor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— отлич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hvaliteb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хорош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bř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не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очень плох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Разбираемся в титул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187280" y="1584360"/>
          <a:ext cx="7632720" cy="4898880"/>
        </p:xfrm>
        <a:graphic>
          <a:graphicData uri="http://schemas.openxmlformats.org/drawingml/2006/table">
            <a:tbl>
              <a:tblPr/>
              <a:tblGrid>
                <a:gridCol w="3681720"/>
                <a:gridCol w="3951000"/>
              </a:tblGrid>
              <a:tr h="462456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перед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адемические тит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магис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магист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инженер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пециалист с высшим техническим или экономическим образование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к наз. «Ригорозные»  титу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«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ý doktorá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медиц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естественных на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р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ed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едагог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звания преподавателей ВУ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ц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f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фесс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за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степ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.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D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ндидат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Sc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пломированный специалист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неакадемический титул выпускников Высших специальных школ и консерватор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37Z</dcterms:modified>
  <cp:revision>102</cp:revision>
  <dc:subject/>
  <dc:title>Snímek 1</dc:title>
</cp:coreProperties>
</file>