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4F53D-9A47-41F2-A6BE-30048D183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33A38-335A-42AD-91B2-A13E18517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3D199-1C15-48E9-A5C0-CE90FC4C5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E1E65-EA57-445B-899A-35C339889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630FA-921F-4842-9E58-05C2CAB9D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01FB3-693A-4758-B0B2-5D39A86AB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F8878-01D6-4E99-9FF6-DE58F606C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47C29-7708-4A2B-B8B3-443A466F2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99CE6-03F6-497D-BFBE-4E401568B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96990-1F10-48DA-8078-F61AD6A2A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F7C5C-F4DA-4B58-B491-F0AE85496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0022F-B0FC-4CC9-ADE6-8310CF730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B4067-DE62-49BD-A40A-404472C64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582D8-9422-40A2-AC5A-E51063DAD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85F8A-079D-479F-9770-3018D30C2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23748-9547-40A2-A46C-38621FEA2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862A9-2044-4C20-A925-9BD9F6C1B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56681-4093-4945-B229-9F516FB9E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D4ACF-52DF-4E72-8BE6-6EFE315C6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D0DBB-34ED-404B-BF23-EB7EA51D9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C8F89-3478-448C-A0A9-724D62208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96052-8A1D-4C65-8F4F-53CE5BE0C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8F9-9C20-41BE-A9AA-ED493358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FC8-617F-413E-AF1E-EC60BFA6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8F2-14F9-49C4-A165-5D1972F8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E48-AC0F-4B80-ABB4-96678348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F0B-B740-4FEF-88AD-3BEDD1D9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7E7-6D9E-4216-BA63-4B2FB0F9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1EE-56BC-4352-9F7E-F398490C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11ED-4985-4DB7-B138-9EA010A7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B18-F0AA-4911-8493-D0F457E3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C339-A282-4C81-8C3D-B8B298FB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093F-BAD3-4339-8F81-BED71E32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F6D8-6A29-4C25-895E-87C2620C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C9CD-6A0F-4961-B617-7CDC10B3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DC78-7D46-45AB-B24F-BC13FF46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E2F9-87E8-41CA-BF8F-C83CBE66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1051-5F49-4A86-904C-3770C836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C460-576F-446A-8B8D-C33CF02D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BADA-D77B-4F34-A6E9-EBA9ECA2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E5C7-0312-4AEA-923E-3814F459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2B9-966E-4298-887F-BD630A68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7DF0-623B-4BA8-AAD0-6346E825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EFAC5-C525-4BE7-AAFB-9A6B7510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D516-97BD-483D-8798-7060C3FB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D887B-3E52-48D0-AF42-9FB1CDE8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4C7D-DAF0-4375-8B03-D72783E8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8371-1EDB-40BE-8AF8-AD07CDF0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0A29-D0D8-47F7-955A-309844B3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2299-2724-4A4B-BCED-FE02E19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53C8-AB63-46EB-AED8-A52B7703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EB5F-DF60-4807-81C7-F6C8C035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65A-E6A2-4E43-B043-9D28ADD0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426C-EC34-46CF-A3D0-35EF15DF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3D52-714F-4C10-A647-E7004197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3BD5-C29D-457B-A5ED-B9BA0AE5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EF392-29A5-4696-B564-B2AA7E4C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6BA1F-FC59-496E-93E3-EB8D8F9B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E0DAF-BA5B-4501-930E-5703D9DA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F3D66-BB98-43F6-820A-0075AD26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3922-EA72-4AEE-A4B5-BFEFDA88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62057-20E7-467A-8054-59A443B8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E488-A110-465B-86DB-784F4BE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AF5-77D6-434F-8321-CC4223ED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2C6E-AD7B-400A-93AE-6DB85440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1A665-1335-4AD6-A378-1302471A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6E24-0E28-4DC8-BD59-CE7F17AA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A7F50-D054-42E6-BB82-CCE249F5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3842D-0743-4425-B847-245DFBF4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09DBF-6764-4DEB-8312-BA807743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F60D2-6B3E-43FC-B567-724CC353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28FF1-D1ED-4FE5-9700-30816857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967E5-E1B5-4C5F-BF3B-2A43201B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A8CD2-7BF6-48C7-B649-3B37705F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01F-5C67-4047-B683-FC0CE51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55E4-566F-4D86-9C6E-1B6F42C7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55D3-AA3D-4D83-85FA-15F326BA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445B6-B8B1-4551-8399-2D980C83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2FA8-D5A4-46FA-BA29-F3A1626E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5CC55-EAA8-4632-AD62-4B537301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A07B0-56F2-4074-9190-9ACA3EE3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ED707-858F-4D6F-8BED-58B9E178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908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EF41D-AB6D-4110-90AD-951ED7C910E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1040" y="0"/>
            <a:ext cx="10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116DDD2-8DA4-478C-831E-AA559126FC3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1040" y="0"/>
            <a:ext cx="10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C7C95B-E806-4CBD-A186-296A3FA598D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3A8C54-A9F2-4DF3-9B74-93151D54429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8DDC26-2192-495F-8FFE-2780D6B37BC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rtal.gov.cz/" TargetMode="External"/><Relationship Id="rId2" Type="http://schemas.openxmlformats.org/officeDocument/2006/relationships/hyperlink" Target="http://portal.gov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fcr.cz/" TargetMode="External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Podnikání v Č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539640" y="179280"/>
            <a:ext cx="82803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овари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ý list/ výpi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 živnostenského rejstříku - Лицензия на ведение предпринимательской деятель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é podnikání - Малое предпринимательств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vnostnik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/ частный предприним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ý rejstřík -  реестр частных предприним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ý úřad - муниципальный орган по предпринимательской деятельност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nanční úřad - Налоговая инспе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ová sprava - Налоговый уч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ové přiznání - Налоговая дела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 z příjmů - Подоходный на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ová evidence - Налоговый уч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vidence příjmů - Учет доходов и рас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řehled o příjmech a výdajích - Приходно-расходная ведо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720720" y="0"/>
            <a:ext cx="8099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ал общественного управления –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ortal.go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Životni situace ►Podnikatel ►Živnostnic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, контролирующие предпринимательскую деятельность, перечень приведен на Портале общественного управления –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ortal.go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Adresař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б-сайт Министерства промышленности и торговли –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mpo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Podpora podnikani ►Živnostenske podnikan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формационный материал для иностранных физических лиц, осуществляющих предпринимательскую деятельность, веб-сайт Министерства промышленности и торговли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mpo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Podpora podnikání ►Živnostenske podnikani ►Integrace cizinc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б-сайт Министерства финансов -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mfcr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" descr=""/>
          <p:cNvPicPr/>
          <p:nvPr/>
        </p:nvPicPr>
        <p:blipFill>
          <a:blip r:embed="rId1"/>
          <a:stretch/>
        </p:blipFill>
        <p:spPr>
          <a:xfrm>
            <a:off x="1619280" y="685800"/>
            <a:ext cx="617220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1619280" y="179280"/>
            <a:ext cx="702000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íčení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Živnostenské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oprávn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jistíme, zda ke své činnosti potřebujeme živnostenské nebo jiné oprávnění. Například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utoři, spisovatelé, herci a hudebníci živnostenské oprávnění nepotřebují -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SVČ bez živnost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statní činnosti vyžadují živnost (volná, v</a:t>
            </a:r>
            <a:br>
              <a:rPr sz="20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1800360" y="268200"/>
            <a:ext cx="64800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Registrace na živnostenském úřad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Na začátku podnikání zajdeme v každém případě na kterýkoliv živnostenský úřad a vyplní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Jednotný registrační formulář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ím provedeme najednou všechna potřebná ohlášení a registrace - na zdravotní a sociální pojištění, daň z příjmu a případně další daně (DPH, silniční daň, plátce daně "z mezd",...), a případně ohlásíme živnost. Výpis z rejstříku trestů nepotřebujeme, úřad si vše zjistí sá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1979640" y="720720"/>
            <a:ext cx="6661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dravotní a sociální pojišt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jistíme, zda musíme platit zálohy na pojištění. Jestliže máme podnikání ja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vní činnost, musíme od počátku podnikání platit měsíčně zálohy na zdravotní pojištění i sociální pojiště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lejší činnost, zdravotní i sociální pojištění doplatíme až po skončení roku po podání daňového přiznání a Přehledu o příjmech a výdajích. Budeme-li mít nízký zisk, sociální pojištění nebudeme muset plat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1979640" y="539640"/>
            <a:ext cx="5759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900000" y="539640"/>
            <a:ext cx="774072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43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Daňová evidence a další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ěhem roku schováváme doklady a z nich udělám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uď daňovou evidenci (musíme schovávat všechny doklad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nebo evidenci příjmů, budeme-li uplatňovat paušální výdaje (stačí schovávat příjmové doklady a vydané faktur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Pokud jsme se zaregistrovali jako plátci DPH, vedeme také evidenci podle zákona o DPH, a to čtvrtletně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1800360" y="360360"/>
            <a:ext cx="504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"/>
          <p:cNvSpPr/>
          <p:nvPr/>
        </p:nvSpPr>
        <p:spPr>
          <a:xfrm>
            <a:off x="1079640" y="900000"/>
            <a:ext cx="73800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 skončení roku podáme daňové přiznání k dani z příjmu a Přehledy pojištění a zaplatíme daň z příjmu a pojištěn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stliže jsme plátci DPH, během roku plníme všechny povinnosti plátce DPH a podáváme daňové přiznání k DPH po každém čtvrtlet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kud uplatňujeme výdaje na auto, platíme čtvrtletně zálohy na silniční daň a po konci roku podáme daňové přiznán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1260360" y="293760"/>
            <a:ext cx="665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43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Daňová přiznání a přehledy poji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539640" y="539640"/>
            <a:ext cx="82803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Перед заключением брака жених и невеста заполняют стандартный бланк, который подают в тот орган ЗАГС, в котором намерены провести обряд бракосочетания. Одновременно с заполненным бланком представляются требуемые документы. Церковный брак может бы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заключен лишь после того, как вступающие в брак предоставят лицу, проводящему бракосочетание, подтверждение о том, что они выполнили все требования закона для заключения действительного бра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Если предоставляемые документы выданы органами иностранных государств, должен быть предоставлен ихзаверенный перевод, документы должны быть снабжены необходимыми заверениями. Орган ЗАГС может освободить жениха и невесту от необходимости заверять документы, если получение данного заверения связано с труднопреодолимым препятств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заключением брака иностранец предоставит органу ЗАГС справку, выданную Полицией Чешской Республики, подтверждающую законность пребывания в Чешской Республике. В день заключения брака данное подтверждение не должно быть старше 7 рабочих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539640" y="0"/>
            <a:ext cx="774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ключение брака и регистрированного партнер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1"/>
          <p:cNvSpPr/>
          <p:nvPr/>
        </p:nvSpPr>
        <p:spPr>
          <a:xfrm>
            <a:off x="720720" y="303120"/>
            <a:ext cx="809928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nem 1. července 2006 nabyl účinnosti zákon č. 115/2006 Sb., 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gistrovaném partner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o změně některých souvisejících zákonů. Registrované partnerství, (dále je „partnerství“), vzniká projevem vůle dvou osob stejného pohlaví činěným formou souhlasného svobodného a úplné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lášení těchto osob o tom, že spolu vstupují do partnerství. Prohlášení činí osobně před matričním úřadem v kraji, který je podle místa trvalého pobytu alespoň jedné z osob vstupujících do partnerství příslušný k přijetí prohlášení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oby, které chtějí vstoupit do partnerství, vyplní před prohlášením předepsaný tiskopis a předloží jej příslušnému matričnímu úřadu. K tiskopisu připojí stanovené doklad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jsou předkládané doklady vystaveny orgány cizích států předkládají se s úředním překladem do českého jazyka a musí být opatřeny potřebnými ověřením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dobně jako u uzavírání manželství, cizinec, který chce vstoupit do partnerství a který nemá povolen trvalý pobyt na území České republiky, předloží příslušnému matričnímu úřadu před vstupem do partnerství potvrzení vydané Policií České republiky o oprávněnosti pobytu na území České republiky. Toto potvrzení nesmí být ke dni vstupu do partnerství starší 7 pracovních dnů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079640" y="360360"/>
            <a:ext cx="739440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Лицо, которое самостоятельно занимается доходной деятельностью, т.е. предпринимательской или иной хозяйственной деятельностью, называется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лицом, самостоятельно зарабатывающим (osoba samostatně výdělečně činná – OSVČ).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В русскоязычных источниках обычно употребляется название „Индивидуальный/частный предприниматель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720720" y="179280"/>
            <a:ext cx="8099280" cy="68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143000" indent="-227160">
              <a:lnSpc>
                <a:spcPct val="100000"/>
              </a:lnSpc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SimSun"/>
              </a:rPr>
              <a:t>Необходимые документ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Dotazník k uzavření manželstv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Doklad, kterým je možno prokázat totožn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Rodný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Doklad o právní způsobilosti k uzavření manželství, který nesmí být k datu uzavření manželství starší 6 měsíc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Potvrzení o osobním stavu a pobytu, je-li cizím státem vydáváno; jsou-li tyto údaje součástí předloženého dokladu o právní způsobilosti k uzavření manželství - potvrzení se nepředklá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Úmrtní list zemřelého manžela, jde-li o ovdovělého cizince, tento doklad není třeba předkládat, je-li tato skutečnost uvedena v dokladu o právní způsobilosti k uzavření manželstv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Pravomocný rozsudek o rozvodu manželství, je-li cizinec, který chce uzavřít manželství, rozveden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720720" y="539640"/>
            <a:ext cx="7740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Закон № 455/1991 Сб. законов, «О предпринимательской деятельности»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Физическое лицо, постоянно проживающее за пределами ЧР или юридическое лицо с местонахождением за пределами ЧР (иностранное лицо) может заниматься предпринимательской деятельностью в Чешской Республике на тех же условиях и в таком же объеме, как и чешское лицо, если законом «О предпринимательской деятельности» или иным законом не определено ино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Чешским лицом считается физическое лицо, имеющее разрешение на постоянное проживание, лицо, которому было предоставлено убежище и юридическое лицо с местонахождением в Чешской Республи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720720" y="179280"/>
            <a:ext cx="792000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Иностранцы, имеющие разрешение на постоянное проживание и лица, которым было предоставлено убежище, в области предпринимательской деятельности имеют такой же статус, как и граждане ЧР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Иностранцы, не имеющие разрешение на постоянное проживание в ЧР и не являющиеся гражданами стран-членов Европейского Союза, гражданами страны-члена Соглашения о Европейском экономическом сообществе и гражданами Швейцарской конфедерации, для занятий предпринимательской деятельностью должны иметь разрешение на проживание (визу, разрешение на долгосрочное пребывание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720720" y="179280"/>
            <a:ext cx="809928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ло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ими условиями являются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остижение возраста 18 лет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ееспособно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несудимо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ецифическими условиям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нятия предпринимательской деятельностью является профессиональная или иная компетентность, в соответствии с требованиями закона о предпринимательской деятельности или иных законодательных ак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720720" y="360360"/>
            <a:ext cx="7559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Типы предприним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latná právní úprava rozeznává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živnosti ohlašovací, u nichž právo provozovat živnost vzniká ve většině případů již ohlášením živnosti živnostenskému úřadu a osvědčuje se vydáním výpisu z živnostenského rejstřík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živnosti koncesované, u nichž je právo podnikat vázáno na souhlasné stanovisko věcně příslušného orgánu státní správy; vzniká udělením koncese a osvědčuje se vydáním výpisu z živnostenského rejstřík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539640" y="179280"/>
            <a:ext cx="828036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 соответствии с действующим законодательством выделяютс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предпринимательская деятельность явочно-нормативная (право занятий предпринимательской деятельностью возникает, в большинстве случаев, после подачи заявления в соответствующий орган по частному предпринимательству и удостоверяется выдачей выписки из реестра частных предпринимателей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предпринимательская деятельность лицензионная, когда для осуществления права заниматься предпринимательской деятельностью необходимо разрешение соответствующего органа государственного управления, такое право возникает с выдачей лицензии и подтверждается выдачей выписки из реестра частных предприним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900000" y="539640"/>
            <a:ext cx="7199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ové přiznání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ňové přiznání k dani z příjmů fyzických osob je povinen podat každý, jehož roční příjmy přesáhly 15.000,- Kč. Daňové přiznání se podává na místně příslušném finančním úřadě do 31. 3. příslušného roku nebo do 30. 6. v případě, že formuláře k daňovému přiznání vyplňuje daňový poradce. S dotazy na vaše daňové povinnosti při výkonu živnostenského podnikání se můžete obrátit na finanční úřad v místě výkonu vašeho podnikán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900000" y="539640"/>
            <a:ext cx="75596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оговая декла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логовую декларацию на подоходный налог физических лиц обязано подать каждое лицо, суммарный годовой доход которого превысил 15 000 чешских крон. Налоговая декларация подается в местную налоговую инспекцию до 31 марта соответствующего года или до 30 июня в случае, если налоговую декларацию заполняет лицензированный бухгалтер. С вопросами относительно налогообложения Вы можете обратиться в налоговую инспекцию по месту занятия предпринимательской деятельность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45Z</dcterms:modified>
  <cp:revision>88</cp:revision>
  <dc:subject/>
  <dc:title>Snímek 1</dc:title>
</cp:coreProperties>
</file>