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5D56-8165-4EE5-A946-FB14632D8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AFF3-A508-4CD0-9681-BAC19FC2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9676-6A78-4859-9799-5ED7D87B5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2FF8-9FB0-4C9B-B2A3-150F98061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4193-90A7-473D-9780-28D9FC25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5B01-62EB-4FB3-8F22-B410398C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83AB-2D58-4ABC-9B24-4EB3C6AC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4264-C593-46EF-BD0A-DE7EDCC57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0EAF-0B00-4765-A8C4-B8B1F4BD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E87F-60AF-4BEF-B5D1-862BC3AF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054D-DEF7-40B4-A653-B32F32CF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96CF-7DE4-499A-AEF9-5B2CA67D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57D1-AF3B-449C-8B60-6711B1F4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FD5B-94D4-4B9A-AEF2-65460AB4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5BE5-61D7-437D-A697-A7233596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5A10-795D-4312-9321-FC493E42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3EBA-9256-4F40-A1DB-E4A18DCB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B491-DA3E-4A8D-B328-F6DE45E9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C091-DC23-417E-9573-110E092C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1260-32A5-49F2-86C8-91877DD8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6B78-8B61-4C78-902B-029A51091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BA00E-EF4D-4AAC-9438-F98C33B9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2F3A9-B405-4F65-8EA8-2E679CDC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3C5FE-FA4B-4757-841C-B46C1726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FB17D-C2D0-4FDC-B0B0-B2A44639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63B4A-57A8-4157-B49E-913F5545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AE132-3F35-43D6-80E2-D46AC093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D4467-287F-44A5-864F-17DC32D5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529F8-C8DB-4408-BD22-D63B819E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54229-C8CC-41D0-9756-0F3E9EC0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2CE6-3FA0-4852-9243-16C75B93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310E4-F2CC-4375-934D-1383A3FB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A3BD5-03C7-4E36-A4C4-575BDA395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4F5B1-2303-4DD6-87FD-28925200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DB168-BF05-44E2-A1DD-B2D759D0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2CE62-225C-4EE5-8E0D-71B6EA53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581B5-3965-4F71-BB54-0754FFD1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0E3A4-BB3D-47B1-8EF4-EE9A2D1D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B6463-044C-4B45-87FA-48620458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676F5-1C1B-47B9-9510-65D0F3ED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E6B82-DF5F-4EF5-A317-BE70C23B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5838-77FF-4591-91ED-00EC3F40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5533F-97C2-4522-A544-3BC8588D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A7D3A-81EC-4F19-84B1-34D525C7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5058C-A99C-4E27-943D-E180CA49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80027-7308-45B1-8905-94C9CB560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122A2-D43C-44B7-BD07-1463914A1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53798-C867-49F1-8843-7CB95840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45B71-F6DC-4881-8E2A-159ED806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EB70D-1F39-4625-AC1F-88045936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0B7BC-2981-48D9-9688-64081F9E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E5616-B443-4D24-8F11-D0ABCDA8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C61C-44DA-4CB5-BC8B-3CB9BF7A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6DFAE-C81A-4619-9493-B2352A32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0919B-91DD-4DE4-AC39-85A4F47D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F8EA6-D973-4338-BE52-954AA5A6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1CE36-765A-4C49-ACDC-4DE18F02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51F0D-411B-450A-B32C-4E760D84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443C9-E1F2-43BD-B27E-9A3C642AA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39210-72FF-4EBC-BD19-DCEA93ACC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9C89-9B44-4155-B555-61561BB5C7F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0C78-F757-4BCE-9602-7636A40490A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C2BF-31A5-421A-A0FF-D6B09097B8A4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F0C5-BD93-462B-9146-37117FCEC7E4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FDCB-6217-40C8-9D1C-13C307850B96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8738-DDDF-4184-BE72-355CA80F3AEE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11CB-5465-47D5-AE6C-BAD5309AA0B5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0340-6B97-437B-BD8B-C57E72B06F52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CDE9-AA07-4FAE-8773-2FAFF2860192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FB30-719C-42A4-92C2-668F78045C8A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авонаруш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Verdana"/>
              </a:rPr>
              <a:t>Институ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Ministerstvo spravedlnosti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Министерство юсти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Státní zastupitelství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– Прокуратур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Státní policie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– государственная полиц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Obecní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policie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– муниципальная полиц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Městská policie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– городская полиц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Dopravní policie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– ГИБД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Номер слайда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77B9-E29B-4457-A452-CC733662122F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Verdana"/>
              </a:rPr>
              <a:t>Су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Obecné soudy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- Суды общей юрисдик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Nejvyšší soud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Верховн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ый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су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Nejvyšší správní soud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Верховного административн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ый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су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rchní soud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– высший су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Krajský soud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– областной су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Okresní soud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– районный су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Soudnictví civilní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– гражданское правосуд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soudnictví obchodní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торговое правосуд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soudnictví rodinné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емейное правосуд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soudnictví dědické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наследственное правосуд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Soudnictví trestní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– уголовное правосуд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Soudnictví správní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– административное правосуд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Номер слайда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25C3-44FD-4ECE-8462-293156317C0D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Виды правонаруш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928800" y="1628280"/>
            <a:ext cx="78580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řestupek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правонаруш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právní delikt (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дминистративное правонарушение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právní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úřady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административные орга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pr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 ř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ízení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административное правосуд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Trestný čin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уголовное правонарушение (преступление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estní  zákoník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- Уголовный кодек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est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 ř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e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  - уголовное правосуд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ú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ysl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ý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est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ý č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мышленное правонаруш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dbalost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est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ý č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авонарушение по неосторожност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F28D-8C81-4693-BA54-18671817CA22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Verdana"/>
              </a:rPr>
              <a:t>Виды преступл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Zloč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řeč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Kráde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Odcizen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Zpronevě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abov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oupe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Vražd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Номер слайда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9B33-689E-4772-BA91-4949670BE1C9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Действующие ли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900000" y="1557000"/>
            <a:ext cx="78580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Strážník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bhájce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átní zástupce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bviněný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dezřelý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bžalovaný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dsouzený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chate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ločinec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škozený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znamovatel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vědek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Номер слайда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C7D9-7149-4EC1-A207-0C7098269C79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Verdana"/>
              </a:rPr>
              <a:t>Сан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adržen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ajištěn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zba (vzetí do vazby)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st odnětí svobody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apomenutí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ku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ákaz  činnosti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padnutí  věci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Номер слайда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1D01-E91B-4D45-9545-1543A6FDA345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Транспортные правонаруш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Dopravní policie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Botička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opravní nehoda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Bodový systém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Odtah vozidla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Bloková pokuta (BP) - pokuta v blokovém řízení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Номер слайда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44E7-F992-435F-87DF-849081231EE6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авонаруш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6:02:05Z</dcterms:modified>
  <cp:revision>95</cp:revision>
  <dc:subject/>
  <dc:title>Snímek 1</dc:title>
</cp:coreProperties>
</file>