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dt" idx="1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39E6F-22A1-4B64-B98C-21562B53F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BDF24-BE73-498F-A801-4884997D0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0E32F-C458-406F-BE98-5A474A782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44ABB-F88B-439A-955B-383D1778D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C8A29-BB71-418A-98A4-228086DA9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8C6B5-218F-4EEB-A3EB-2F5ACE223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85CBE-E3FC-4234-87EC-8FB561C82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08F82-3288-4D7B-9469-2F51AA2EB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D29B3-8352-4834-AF2A-B530877BC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CFF68-F78B-4DDE-9215-96F5035D4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25B48-43EF-446B-98A2-C4741364E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56C44-6A2A-47F9-8C7B-A54CB2131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B1853-AF6F-46D7-AC37-3C237482F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118-6741-4FED-968F-73D3BAD6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501-A3B8-43A5-BFDA-68264AA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01F-E901-4CA2-BD62-EA85267A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1D6-49B6-44FA-8826-96740D5B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6F9-22AD-483A-B976-5FEA393C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7F4-E456-44DE-A78B-EB2E11C7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1AA-BEC6-4F12-A54A-5EDE6C69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5A8D-7149-4C43-B08B-5102E897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E60-63E0-4D91-A3C5-4E833D76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A839-716D-4938-BDB4-BD5199A4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DDB7-5336-4BF9-8FF5-EC0FD820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08D8-9CFD-4E68-A2AC-2EE5FF68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D013-8376-4828-94A8-F2803BC3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8A49-0540-4895-9202-702870FA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11EF-DBBE-472C-984B-B047ECB1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AC9A-085B-423F-8B04-79E5C834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5D48-D6D8-4C6A-A9E2-9D66CE47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24F2-9B06-4F9B-998B-CCFFFE45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95CF-197A-4E2E-9988-DAEC4D72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8A6-5558-4186-A81A-74378531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3661-B10B-46A8-947D-25ABCB6B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8255-6893-4F46-8051-12F4D6DC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51BD-F0B9-4659-BD48-0FCCF702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E24B-59BF-4D29-AF9A-49EFFA34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9360-F5B8-4243-AA12-7F87A286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3833-BDC7-4D9B-9292-42D2B436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6962-21B7-4412-8EBF-0A773A40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CAD9-DEF1-44D6-A804-42622963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F9C6-91E7-4AE6-A3BC-BCAAF504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0B1B-D0EC-4F5C-B371-89E2EA1C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5B1-AE0C-4020-9100-79FFA7D6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F350A-C85A-4B60-8225-9366DFAF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BBE27-A655-4B1B-BCF6-537EB8DC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3831-9603-4BFE-8677-5C06915B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91142-2364-4694-9C0E-D304DBC1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BCCC3-1A29-4ED1-B4DE-C5850802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9164E-3BA3-4F4A-8446-53740FA0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91DCD-84F5-49D3-B725-95194281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A7746-27C5-41DD-A871-0E6C255B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FA0A9-B1E8-4899-BD31-FDC16995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2B9BC-AA42-4208-90F1-ED97D76D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5DF-B3A0-44E0-8ABD-42FF75B4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B30DC-A970-4927-A59F-526E3B9B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3AA40-DBB4-47B1-90F3-F82210A6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CD29E-6B07-4FA3-8414-9F55FFBA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F007B-5225-40A1-9849-3168E5B2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240E4-7EF4-4101-889F-1BB8050E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3DE7-BE19-4C46-9562-BAD81CD6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1E1F8-C493-465E-AE3F-96CD9AE4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F6E3-408C-4716-BFED-66E4D0E1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EEA8D-7E77-4518-8F9C-73817089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24896-CE18-42B7-9896-E8705AD3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DFE-6E62-45DA-AE14-CE763E4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17026-D4AF-4297-9849-11C7C0EE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8FAB5-6D45-42A3-A6C8-2AEA4CEC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35FDC-3B12-44E0-B708-43726BCD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7CCC7-69E5-43E4-9DF8-BC4E7F16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EAC3A-058F-4AE8-9A06-DF3AF657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A5E38-6FBE-4D88-8912-17E8C84B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8E5E0-412D-429B-81AB-1471EF65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.10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079680"/>
            <a:ext cx="28940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49C14B-A4F1-4DB2-A62E-36778C2F407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7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E6361E-415C-40D5-BC3A-5D7AE7FA423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7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2ABD3C-24B0-40EF-B6FF-23F07AEEA14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7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B937C3-60DD-47BD-8A8F-E38E4DC99FC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7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74CB03-5472-44AD-A79D-E0C0DDFA803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живание иностранцев на территории Чех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Словарик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Group 2"/>
          <p:cNvGrpSpPr/>
          <p:nvPr/>
        </p:nvGrpSpPr>
        <p:grpSpPr>
          <a:xfrm>
            <a:off x="900000" y="1557360"/>
            <a:ext cx="0" cy="4551480"/>
            <a:chOff x="900000" y="1557360"/>
            <a:chExt cx="0" cy="4551480"/>
          </a:xfrm>
        </p:grpSpPr>
        <p:sp>
          <p:nvSpPr>
            <p:cNvPr id="519" name="Line 5"/>
            <p:cNvSpPr/>
            <p:nvPr/>
          </p:nvSpPr>
          <p:spPr>
            <a:xfrm>
              <a:off x="900000" y="1557360"/>
              <a:ext cx="0" cy="455148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0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3FDD8B-52DB-41AF-9793-7127185F1D2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Словарик (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2"/>
          <p:cNvGrpSpPr/>
          <p:nvPr/>
        </p:nvGrpSpPr>
        <p:grpSpPr>
          <a:xfrm>
            <a:off x="900000" y="1584360"/>
            <a:ext cx="0" cy="4508640"/>
            <a:chOff x="900000" y="1584360"/>
            <a:chExt cx="0" cy="4508640"/>
          </a:xfrm>
        </p:grpSpPr>
        <p:sp>
          <p:nvSpPr>
            <p:cNvPr id="524" name="Line 5"/>
            <p:cNvSpPr/>
            <p:nvPr/>
          </p:nvSpPr>
          <p:spPr>
            <a:xfrm>
              <a:off x="900000" y="1584360"/>
              <a:ext cx="0" cy="450864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DDDA71-3F48-4187-927F-DD863BA7133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живание иностранцев на территории Чех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Иммиграция – виды и прич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104292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бровольная миграция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работа, воссоединение семь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нужденная миграц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беженцы, политическое убежищ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чины миграции в Чехию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бота, предпринимательство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ýdělečná činnost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ссоединение семь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чеб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женцы (самая малочисленная категор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F91E72-A665-4A99-956D-EE920F0A427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1714680" y="281160"/>
            <a:ext cx="588168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Законы и институции, регулирующие проживание иностранцев на территории Чех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900000" y="1628640"/>
            <a:ext cx="7886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он № 326/1999 Сб. зак. «О проживании иностранцев в Чешской Республике»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действующей редакции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(Zákon o pobytu cizinců na území České republiky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онодательство  Европейского Союза, в первую очередь,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иректива Совета (Европейского Союза) № 539/2001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которая определяет перечень государств, граждане которых должны иметь визу при пересечении внешней границы ЕС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Шенгенский кодек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ститу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инистерство внутренних дел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isterstvo vnitr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епартамент беженцев и миграционной политики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dbor azylo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igr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litik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лиция по делам иностранце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Cizinecká polici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715FA5-A913-41A5-B947-F24CDB9F140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Категории иностранцев в Чех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042920" y="1714680"/>
            <a:ext cx="748980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он об иностранцах делит иностранцев 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аждан ЕС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аналогичный режим применяется в отношении граждан Норвегии, Исландии, Лихтенштейна и граждан Швейцарии) и членов их сем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аждан так наз. «третьих стран»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гражданине государств, не входящих в состав ЕС и одновременно не являющийся гражданами Исландии, Лихтенштейна, Норвегии и Швейцар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788B01-5A35-45D3-BD92-026C7AF15AC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Виды проживания иностранцев на территории Чех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900000" y="1700280"/>
            <a:ext cx="78868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Verdana"/>
              </a:rPr>
              <a:t>1.Временное проживани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řechodný poby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осрочное проживание (сроком до 90 дней)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kodob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ý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by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 – Шенгенская     виза или виза с ограниченным территориальным действи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эродромная (транзитная) виза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ištní (průjezdní) vízum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транзитная виза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průjezdní vízum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иза на проживание сроком до 90 дней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ízum k pobytu do 90 dnů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олгосрочное прожива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louhodobý poby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за на срок более 90 дней (vízum k pobytu nad 90 dnů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азрешение на долгосрочное проживание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olen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louhodob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 pobytu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«Зеленая карта»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n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kart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 и «Синяя карта»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drá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rta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 — разрешение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на долгосрочное проживание с целью трудоустройства в особых случая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ыездная виз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ýjezdní příkaz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ается на срок не более 60 дней в случае, если легальное проживание иностранца в ЧР было прекраще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Verdana"/>
              </a:rPr>
              <a:t>2. Постоянное проживани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Trvalý pobyt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Verdana"/>
              </a:rPr>
              <a:t>3. Гражданство ЧР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átní občanství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C2FB07-9001-479C-864B-2A5DF0E7565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Цель проживания (</a:t>
            </a: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účel pobytu</a:t>
            </a: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1042920" y="1714680"/>
            <a:ext cx="774396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случае, если иностранец проживает в Чехии не на основании ПМЖ или политического убежища, он должен сообщать цель своего проживания и обосновывать его соответствующими документ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Закон об иностранцах» различает следующие цели прожива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чеб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udiu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сследовательская деятельность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ědecký výzku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рудоустройство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městnání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dnikání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вместное проживание или воссоединение семь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olečné soužití rodiny/sloučení rodin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90F3AA-682C-444A-BAB3-1AEFA7B455B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ПМЖ - остоянное место жительства (Trvalý pobyt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900000" y="1714680"/>
            <a:ext cx="788688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934092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соблюдении определенных условий подать заявление на получение ПМЖ    может каждый иностранец по 5 годах пребывания в Чех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4092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во и возможность жить в Чехии без обязательного переоформления разрешения на пребыван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4092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ладатели ПМЖ имеют практически те же социальные льготы и гарантии, что и граждане Чехии. Организация бизнеса, получения кредитов, медицинское обслуживание, условия покупки недвижимости и т.п. для граждан и жителей, имеющих статус ПМЖ одинаков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4092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атус ПМЖ накладывает на его обладателя те же обязательства, какие имеет и гражданин этой стран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ем отличается постоянный житель страны от гражданин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МЖ не дает возможности участвовать в выборах или быть избранным в какие бы то ни было органы власти, служить в армии или в полици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106825-6EFD-4A90-8B9D-E74A943FB13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Политическое убежище (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Azyl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) и бежен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971640" y="1628640"/>
            <a:ext cx="774360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Чехии вопросы, связанные с предоставлением политического убежища и статус беженцев регулирует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Закон о политическом убежище»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25/1999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собр. законов.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Zákon o azylu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олитическое убежищ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— особый правовой статус, предоставляемый государством лицам, ищущим убежище и защиту от преследования или реальной угрозы стать жертвой преследования в соей стран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ца, подавшие документы на статус "политического беженца»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обходимо доказать индивидуальное преслед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литические беженц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ца, находящиеся под так наз. «дополнительной охраной»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oby požívající doplňkovou ochran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не доказано индивидуальное преследование; лица, находящиеся под угрозой (военные действие, голода и т.п.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ременная охран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časná ochran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используется при чрезвычайных обстоятельствах при большом количество беженцев — войны, стихийные действия, голод. В отличие от политических беженцев, в данном случае необязательно доказывать индивидуальное преследован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BED6BE-C8B3-454E-BD52-F0D5E42CA2C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Нелегальное пребывание иностранцев на территории ЧР и депор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1042920" y="1628640"/>
            <a:ext cx="774396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чины и процедура депортации регулируется Главой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она об иностранц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епортация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právní vyhoštění)  -  завершение пребывания иностранца не территории ЧР, установление сроков выезда из страны и периода, во время которого иностранцу будет отказано во въезде на территорию Е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зависимости от причин депортации длительность периода отказа во въезде на территорию ЕС может быть 3, 5 или 10 л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рок выезда с территории ЧР – от 7 до 60 дней в зависимости от ситу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новные причины депорт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законное пересечение границ Ч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сильственные действия со стороны иностранца и нарушение общественного поряд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делка документов и использование недействительных документов во время нахождения в ЧР или пересечения грани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легальное трудоустрой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оставление органам власти ложной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роза общественному здоровь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0CCF49-7847-4611-BE19-2C9F6570418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34Z</dcterms:modified>
  <cp:revision>132</cp:revision>
  <dc:subject/>
  <dc:title>Snímek 1</dc:title>
</cp:coreProperties>
</file>