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2B52B-25A5-4925-81CC-874CFB54F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A3679-E1E2-4063-8580-124B0B99699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7940B-5AC8-4B64-8E77-7980F99F510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77F19-D704-4D09-B659-506F564722A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1C13F-3798-4E72-8BF3-8A4E75612B8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4645A-6E11-4F79-BDB2-FA613D08EA8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50B46-C022-4BAF-AC54-887964CF876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446E7-AECF-48A5-9F39-E0CC420AD41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D1820-97A7-47BC-8B8B-2D9B9D76F87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4568D-54E9-4C0D-AEE4-CA012BC5170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EE6DF-F8F3-410E-B1E7-C6C8360C015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B22AA-1F95-4E7F-9DB6-3FC7EFCF08C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71CDD-209A-4CB4-AB90-1D7B68A37F9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57B5D-B1A8-4836-90EC-65EBB18016F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B4BE0-B3A6-488A-898B-CFA3C8050CF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6CA-D77A-4C77-9775-D196C7AD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552-17A0-47EC-B8FE-EC3CD5F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77E-DA26-4354-BDF5-F01D4779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03C-ADE7-4F4D-AB1D-78B344AE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9A9-726D-423E-8E36-FC4DE9AD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FA9-E984-4C48-9F0B-F07FC8F8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338-C211-4180-A531-58E87FA1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9976-0710-4188-870E-2972C25E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FAE-0898-4B9C-9B8F-F8424A0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6C9C-CDA4-4C89-A531-8B2F1B31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F209-5114-40A4-987A-CC1EA3B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74C6-F2D1-4E7E-AB80-C96D8970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D1D2-6560-4A5C-80E3-752464EB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4BDC-2FD8-46AD-BA92-B936E6EF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9C31-D863-43B4-9328-E41EB7C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6BB7-8A84-402B-BE48-4B890B1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A5AD-8317-407E-9B48-EB8BBF6B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0D0A-7174-49FA-91CB-AE9C3554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05B1-D98B-477D-A204-1127BBF9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C7E-052C-421B-AB01-8469F77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62D3-A418-4F9F-9271-D0CD0A31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754B6-2CCA-4104-9CB5-25A5B6BD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895A-3F84-4BC5-B446-FA8AE8A5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D86B-EE24-47C8-9B26-3E4203C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1766-4D27-4302-9D8C-A021FDD6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8608-9184-48C6-8FC1-A477C4F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A41F-CFC6-4FE0-9CD4-4DC56A1F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CAD7-8136-4E28-BB34-ECAAF70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6EBD-1337-4AF7-AC3C-CB8CED1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D2F4-8516-40BB-AC3D-520083AD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4A6-F0BE-41AB-A61E-A1A4FC40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64C8-9304-46ED-BB63-FF08EA17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AC30-D053-4D94-BC16-28ABEE5E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CD5C-225E-4B95-B723-F9CB87B6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B2A6-77C8-4E7C-9AAD-500A6044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3EC6-6EC1-4CBF-AB72-6184F09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7E9B-E6A7-4557-85BB-C89C559B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C06B-5651-46A5-A8A0-8288497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34B6-9A07-48F6-B0F3-454D6476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A4D8-3DEA-40C0-8CBB-815DA54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01BA8-F674-46B9-BB06-D6E445E0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8D5-3351-432D-AC72-8814457D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078C-9006-4733-A5BA-6AC29E7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2574-6847-4E89-BCBA-F042B5D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A6F1-56B1-4C7C-9774-0DCF6D53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83F1-2B79-4D8E-9373-57932A7C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4900-2EFD-47AE-9643-2E8954E1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D50B-810D-42FE-9439-59EA349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7578-1E62-49CE-8B82-3E784278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669E-F90B-4753-908F-E5EDFC7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100BA-3C43-4EDB-9212-5C5E3EE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0F07-637A-455A-83FB-9F885B9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464-5D7D-4785-88E9-22EF6411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DA8B-5E41-4E4B-80AE-22A17603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72FF4-53D6-4842-9E32-4FE32A8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7D87-F1CD-4767-9E6E-9E2031DC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E55B-BF31-43C2-9CBF-DC657855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F653-B429-432E-BC1E-E12B73FD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945F-C11A-4A5D-A88C-585B17D2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A6847-F78C-4147-9BD6-BBF8B450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2BD7-F7B2-4C8C-8144-CB460AAD7BF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9BFFDC-1ADA-45B6-A80B-0281E9C0224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42A22A-7307-47F6-A676-10551395D1E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CDE110-FDE9-4E8D-A06B-64EE49E49EA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C8EE20-4E0A-4016-B857-D0374BDDF0E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psv.cz/" TargetMode="External"/><Relationship Id="rId2" Type="http://schemas.openxmlformats.org/officeDocument/2006/relationships/hyperlink" Target="http://www.cssz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zabe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e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ое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720720" y="179280"/>
            <a:ext cx="738036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ýplata dávek nemocenského pojiš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ávky nemocenského pojištění vyplácí příslušná okresní správa sociálního zabezpečení. Okresní správa sociálního zabezpečení vyplatí dávku ve lhůtě jednoho měsíce následujícího po dni, v němž byla žádost této správě doručen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jištěnec má možnost si zvolit způsob výplaty dávky. Upřednostní-li výplatu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a s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 ú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dený u peněžního ústavu v České republice, uvede v žádosti o dávku číslo tohoto účtu. Druhou možností je výplata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 hotov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oštovní poukázkou);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 takovém p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ípa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ě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hradí náklady za dor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ení pojiš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ýš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mocenského, ošetřovného, peněžité pomoci v mateřství se odvíjí od výš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m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539640" y="179280"/>
            <a:ext cx="79200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Выплата пособи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средств страхования на случай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собия со средств страхования на случай болезни выплачивает соответствующее управление социального обеспечения. Районное управление социального обеспечения проведет выплату пособия в срок одного месяца, следующего после дня получения управлением заяв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Застрахованное лицо имеет возможность выбрать способ выплаты пособия. При перечислении средств на счет застрахованного лица, открытый в финансовом учреждении в Чешской Республике, в заявлении необходимо указать номер счета. Второй возможностью является выплата наличными (почтовым переводом), в данном случае застрахованное лицо оплачивает расходы, связанные с переводом денежны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Размер пособий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болезни, по уходу, денежной помощи в материнстве зависит от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размера дох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líže viz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ps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Nemocenské pojištení - Výpocet dávek nemocenského pojištení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lší informace o provádení nemocenského pojištení viz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cssz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Nemocenské pojište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720720" y="179280"/>
            <a:ext cx="7920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Пенсионное страх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Пенсионное страхование в ЧР является обязательным для всех экономически активных л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Ze základního d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chodového pojišt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ě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ní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se poskytují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chody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starobní, invalidní, vdovský,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vdovecký a sirot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í (zákon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. 155/1995 Sb.).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chod se skládá ze dvou složek, a to ze základní výměry (stanovené pevnou částkou stejnou pro všechny druhy důchodů bez ohledu na délku doby pojištění a výši výdělků) a z procentní výměry. O nároku na důchod, jeho výši a výplatě rozhoduje Česká správa sociálního zabezpečí v Praze (zákon č. 582/1991 Sb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Žádost o p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ř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iznání kteréhokoliv druhu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chodu se podává u okresní správy sociálního zabezpe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en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539640" y="360360"/>
            <a:ext cx="828036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Существуют три взаимосвязанные и взаимодополняющие системы социальной защит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. социальное страхо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sociální poji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2. государственное социальное пособ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státní sociální podp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. социаль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я помощь - sociální pomo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28036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Управление и принятие решений по выплатам осуществляю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Районные управления социального обеспечения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(OSSZ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ажское управление социального обеспечения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(PSSZ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Чешское управление социального обеспечения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Прага), которое руководит работой OSSZ и PSSZ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ыплату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государственного социального пособия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осуществляют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центры занятости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ыплату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пособия по бедности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- уполномоченные муниципалитеты (городские администрации) по месту житель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62000"/>
            <a:ext cx="7559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41414"/>
                </a:solidFill>
                <a:latin typeface="Arial"/>
              </a:rPr>
              <a:t>Cоциальное страхование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 включает: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страхование на случай болезни (nemocenské pojištění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базовое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бязательное пенсионное страхование (základní povinné důhodové pojištění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А также взнос на государственную политику занятости (příspěvek na státní politiku zaměstnání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539640" y="120600"/>
            <a:ext cx="828036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1" lang="cs-CZ" sz="2000" spc="-1" strike="noStrike">
                <a:solidFill>
                  <a:srgbClr val="141414"/>
                </a:solidFill>
                <a:latin typeface="Arial"/>
              </a:rPr>
              <a:t>(Nemocenské pojiště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0" lang="cs-CZ" sz="2000" spc="-1" strike="noStrike">
                <a:solidFill>
                  <a:srgbClr val="141414"/>
                </a:solidFill>
                <a:latin typeface="Arial"/>
              </a:rPr>
              <a:t>(закон</a:t>
            </a:r>
            <a:r>
              <a:rPr b="1" lang="cs-CZ" sz="2000" spc="-1" strike="noStrike">
                <a:solidFill>
                  <a:srgbClr val="141414"/>
                </a:solidFill>
                <a:latin typeface="Arial"/>
              </a:rPr>
              <a:t> № 187/2006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Сб. законов)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 предназначено для лиц, получающих до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служит для обеспечения денежными средствами в промежутки времени, когда застрахованное лицо временно теряет доход по какой-либо краткосрочной причине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временной нетрудоспособности по причине болезни, травмы, карантина (dočásná pracovní neschopnost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заботы о члене семьи (ošetřování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беременности, материн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заботы о ребенке (péče o dítě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Для целей страхования на случай болезни, в соответствии с законом о страховании на случай болезни, гражданство застрахованного лица не имеет зна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181080"/>
            <a:ext cx="7920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страховании на случай болезни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участвуют работники, или лица, поставленные на уровень работников (кто именно считается работником, определено в законе о страховании на случай болезни) и самостоятельно зарабатывающие л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редств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страхования на случай болезни работникам (их участие в системе страхования обязательно) выплачиваются 4 пособ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болезни (nemocenské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уходу (oš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né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компенсационное пособие по беременности и материнству (vyrovnávací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ís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 v 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tenství a m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ví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денежная помощь в материнстве (p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tá pomoc v m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v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Со средств страхования на случай болезни предпринимателям выплачив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собие по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денежная помощь в материн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539640" y="0"/>
            <a:ext cx="846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mocensk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k n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mocens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á za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nanec 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ný nemocenského poji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í, který byl uznán lékařem dočasně práce neschopným k výkonu dosavadního zaměstnání, nebo z důvodu nařízené karantény. Nemocenské lze poskytovat maximálně 380 kalendářních dnů počítaných od vzniku dočasné pracovní neschopnos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mocenské se od 1. 1. 2011 vyplácí vždy až od 22. dne trvání do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sné pracov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schopnosti, a to za kalendářní dny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 dobu prvních 21 kalendářních dnů je zaměstnanec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erému trvá pracovní vztah zakládající účast na nemocenském pojištění, zabezpečen náhradou mzdy, kterou poskytuje zaměstnavatel. Náhrada mzdy náleží za pracovní dny a to při dočasné pracovní neschopnosti od 4. pracovního dne (při karanténě od 1.pracovního dn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mocenské náleží rovněž ve stanovených případech, jestliže ke vzniku dočasné pracovní neschopnosti došlo po skončení pojištěného zaměstnání v tzv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chranné l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. Ochranná lhůta v případě uplatňování nároku na nemocenské či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kalend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ích d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 ode d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í za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nání, které zakládalo 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 na nemocenském poji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03280" y="179280"/>
            <a:ext cx="864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latňování náro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árok na dávku nemocenského pojištění uplatní pojištěnec předložením předepsaného tiskopisu vystaveného ošetřujícím lékařem. Žádost o dávku podávají zaměstnanci u své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vatele. Zaměstnavatelé přijímají žádosti o dávku i od svých bývalých zaměstnanc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VČ podávají žádost o dávku u okresní správy sociálního zabezpečení, příslušné podlé místa svého trvalého bydliště nebo výkonu samostatné výdělečné činnosti (nemá-li OSV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ísto trvalého pobytu na území Č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539640" y="179280"/>
            <a:ext cx="80996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Применени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аво на пособие со средств страхования на случай болезни застрахованное лицо подтверждает предоставлением определенного бланка, заполненного лечащим врачом. Заявление о выплате пособия подают работники своему работодателю. Работодатели принимают заявления о выплате пособия и от своих бывших работ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едприниматель подает заявление о выплате пособия районному управлению социального обеспечения, по месту постоянного проживания или предпринимательской деятельности (если предприниматель не имеет место постоянного проживания за пределами территории Ч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55Z</dcterms:modified>
  <cp:revision>89</cp:revision>
  <dc:subject/>
  <dc:title>Snímek 1</dc:title>
</cp:coreProperties>
</file>