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9AA71-2F33-4BD8-B186-BB82CB053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5BA44-5D91-46B5-BD19-E87E5BAB0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C5B76-0C89-4B95-A1D8-32C83E0FC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45CAB-FD83-4A2E-BA82-BFE0C0268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81E08-72A3-441E-9B83-F24A5F432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A21E4-C112-4E32-BF7D-9CA88FEAE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Часто встречающиеся ситуации, где нужен переводчик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(на примере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UNHCR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):</a:t>
            </a:r>
            <a:r>
              <a:rPr b="1" lang="cs-CZ" sz="2000" spc="-1" strike="noStrike">
                <a:solidFill>
                  <a:srgbClr val="c0504d"/>
                </a:solidFill>
                <a:latin typeface="Verdana"/>
                <a:ea typeface="Microsoft YaHe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c0504d"/>
                </a:solidFill>
                <a:latin typeface="Verdana"/>
                <a:ea typeface="Microsoft YaHei"/>
              </a:rPr>
              <a:t>Регистрационные процедуры (запись личных данных беженцов, иммигрантов и тп.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500" spc="-1" strike="noStrike">
                <a:solidFill>
                  <a:srgbClr val="c0504d"/>
                </a:solidFill>
                <a:latin typeface="Verdana"/>
                <a:ea typeface="Microsoft YaHei"/>
              </a:rPr>
              <a:t>Собеседования при определении статуса беженца и при переселении (напр. в третьи страны) и др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500" spc="-1" strike="noStrike">
                <a:solidFill>
                  <a:srgbClr val="c0504d"/>
                </a:solidFill>
                <a:latin typeface="Verdana"/>
                <a:ea typeface="Microsoft YaHei"/>
              </a:rPr>
              <a:t>Мониторинг — сбор информации об охране, правах, здоровье «клиентов»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c0504d"/>
                </a:solidFill>
                <a:latin typeface="Verdana"/>
                <a:ea typeface="Microsoft YaHei"/>
              </a:rPr>
              <a:t>Структурированные собеседования для получения информации о возникающих рисках, об их причинах и возможных вариантах решения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500" spc="-1" strike="noStrike">
                <a:solidFill>
                  <a:srgbClr val="c0504d"/>
                </a:solidFill>
                <a:latin typeface="Verdana"/>
                <a:ea typeface="Microsoft YaHei"/>
              </a:rPr>
              <a:t>Собеседования-консультации у врача, у юриста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500" spc="-1" strike="noStrike">
                <a:solidFill>
                  <a:srgbClr val="c0504d"/>
                </a:solidFill>
                <a:latin typeface="Verdana"/>
                <a:ea typeface="Microsoft YaHei"/>
              </a:rPr>
              <a:t>Собеседования с людьми, пережившими насилие, пытки и другие травматизирующие события с целью получить более подробную информацию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546F0-8C78-44EE-9C7E-4A0EE519F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2F240-2375-443F-AB4F-3D8A31B7D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0FCAD-A969-4A31-BF61-507A6AE1A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1f497d"/>
                </a:solidFill>
                <a:latin typeface="Verdana"/>
                <a:ea typeface="Microsoft YaHei"/>
              </a:rPr>
              <a:t>Вопрос: Как вы будете решать ситуацию, когда Вы как переводчик не владеете языком в достаточной мере, но другого переводчика нет. Приходит ли вам в голову какая-либо стратегия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8D9E6-8300-4A5D-85A9-8E57B360C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231f20"/>
                </a:solidFill>
                <a:latin typeface="Symbol"/>
                <a:ea typeface="Symbol"/>
              </a:rPr>
              <a:t></a:t>
            </a:r>
            <a:r>
              <a:rPr b="1" lang="cs-CZ" sz="1800" spc="-1" strike="noStrike">
                <a:solidFill>
                  <a:srgbClr val="231f20"/>
                </a:solidFill>
                <a:latin typeface="Symbol"/>
                <a:ea typeface="Symbol"/>
              </a:rPr>
              <a:t></a:t>
            </a:r>
            <a:r>
              <a:rPr b="1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Je t</a:t>
            </a:r>
            <a:r>
              <a:rPr b="1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ř</a:t>
            </a:r>
            <a:r>
              <a:rPr b="1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eba vyslechnout ženu – uprchlici a vy jste jediný dostupný tlumo</a:t>
            </a:r>
            <a:r>
              <a:rPr b="1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č</a:t>
            </a:r>
            <a:r>
              <a:rPr b="1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ník. Jste mu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B</a:t>
            </a:r>
            <a:r>
              <a:rPr b="0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ě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hem pohovoru vycítíte, že vám ta žena ned</a:t>
            </a:r>
            <a:r>
              <a:rPr b="0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ů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v</a:t>
            </a:r>
            <a:r>
              <a:rPr b="0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ěř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uje, možná kv</a:t>
            </a:r>
            <a:r>
              <a:rPr b="0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ů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li tomu, jaké má 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Microsoft YaHei"/>
              </a:rPr>
              <a:t>zkušenosti s muži obecn</a:t>
            </a:r>
            <a:r>
              <a:rPr b="0" lang="cs-CZ" sz="1800" spc="-1" strike="noStrike">
                <a:solidFill>
                  <a:srgbClr val="231f20"/>
                </a:solidFill>
                <a:latin typeface="TimesNewRoman"/>
                <a:ea typeface="Microsoft YaHei"/>
              </a:rPr>
              <a:t>ě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Microsoft YaHei"/>
              </a:rPr>
              <a:t>. Jak byste postupova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231f20"/>
                </a:solidFill>
                <a:latin typeface="Symbol"/>
                <a:ea typeface="Symbol"/>
              </a:rPr>
              <a:t>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Slyšeli jste n</a:t>
            </a:r>
            <a:r>
              <a:rPr b="0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ě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kdy názor, že ženy by nem</a:t>
            </a:r>
            <a:r>
              <a:rPr b="0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ě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ly zaujímat d</a:t>
            </a:r>
            <a:r>
              <a:rPr b="0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ů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ležité role, jako t</a:t>
            </a:r>
            <a:r>
              <a:rPr b="0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ř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eba roli tlumo</a:t>
            </a:r>
            <a:r>
              <a:rPr b="0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č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ník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Что вы думаете о роли, трудностях и возможностях переводчика с гендерной точки зрения пола ? Какие сложности могут возникнуть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5E6E1-460A-4E61-BFED-A1F67E4A6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N</a:t>
            </a:r>
            <a:r>
              <a:rPr b="1" lang="cs-CZ" sz="2000" spc="-1" strike="noStrike">
                <a:solidFill>
                  <a:srgbClr val="231f20"/>
                </a:solidFill>
                <a:latin typeface="TimesNewRoman"/>
                <a:ea typeface="Times New Roman"/>
              </a:rPr>
              <a:t>ě</a:t>
            </a: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kte</a:t>
            </a:r>
            <a:r>
              <a:rPr b="1" lang="cs-CZ" sz="2000" spc="-1" strike="noStrike">
                <a:solidFill>
                  <a:srgbClr val="231f20"/>
                </a:solidFill>
                <a:latin typeface="TimesNewRoman"/>
                <a:ea typeface="Times New Roman"/>
              </a:rPr>
              <a:t>ř</a:t>
            </a: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í žadatelé se na vás pokoušejí vyvíjet nátlak úplatky nebo hrozbami, a žádají, abyste b</a:t>
            </a:r>
            <a:r>
              <a:rPr b="1" lang="cs-CZ" sz="2000" spc="-1" strike="noStrike">
                <a:solidFill>
                  <a:srgbClr val="231f20"/>
                </a:solidFill>
                <a:latin typeface="TimesNewRoman"/>
                <a:ea typeface="Times New Roman"/>
              </a:rPr>
              <a:t>ě</a:t>
            </a: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hem pohovoru jejich jménem lh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Tazatel vás požádá, a</a:t>
            </a:r>
            <a:r>
              <a:rPr b="1" lang="cs-CZ" sz="2000" spc="-1" strike="noStrike">
                <a:solidFill>
                  <a:srgbClr val="231f20"/>
                </a:solidFill>
                <a:latin typeface="TimesNewRoman"/>
                <a:ea typeface="Times New Roman"/>
              </a:rPr>
              <a:t>ť </a:t>
            </a: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mu </a:t>
            </a:r>
            <a:r>
              <a:rPr b="1" lang="cs-CZ" sz="2000" spc="-1" strike="noStrike">
                <a:solidFill>
                  <a:srgbClr val="231f20"/>
                </a:solidFill>
                <a:latin typeface="TimesNewRoman"/>
                <a:ea typeface="Times New Roman"/>
              </a:rPr>
              <a:t>ř</a:t>
            </a: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eknete vše, co o žadateli víte, o jeho život</a:t>
            </a:r>
            <a:r>
              <a:rPr b="1" lang="cs-CZ" sz="2000" spc="-1" strike="noStrike">
                <a:solidFill>
                  <a:srgbClr val="231f20"/>
                </a:solidFill>
                <a:latin typeface="TimesNewRoman"/>
                <a:ea typeface="Times New Roman"/>
              </a:rPr>
              <a:t>ě</a:t>
            </a: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, o tom, co si o n</a:t>
            </a:r>
            <a:r>
              <a:rPr b="1" lang="cs-CZ" sz="2000" spc="-1" strike="noStrike">
                <a:solidFill>
                  <a:srgbClr val="231f20"/>
                </a:solidFill>
                <a:latin typeface="TimesNewRoman"/>
                <a:ea typeface="Times New Roman"/>
              </a:rPr>
              <a:t>ě</a:t>
            </a: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m myslí </a:t>
            </a:r>
            <a:r>
              <a:rPr b="1" lang="cs-CZ" sz="2000" spc="-1" strike="noStrike">
                <a:solidFill>
                  <a:srgbClr val="231f20"/>
                </a:solidFill>
                <a:latin typeface="TimesNewRoman"/>
                <a:ea typeface="Times New Roman"/>
              </a:rPr>
              <a:t>č</a:t>
            </a: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lenové komunity. Nakonec vás tazatel požádá i o váš názor na p</a:t>
            </a:r>
            <a:r>
              <a:rPr b="1" lang="cs-CZ" sz="2000" spc="-1" strike="noStrike">
                <a:solidFill>
                  <a:srgbClr val="231f20"/>
                </a:solidFill>
                <a:latin typeface="TimesNewRoman"/>
                <a:ea typeface="Times New Roman"/>
              </a:rPr>
              <a:t>ř</a:t>
            </a: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ípad žadate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61BAD-D1A1-4F57-BFBC-BA78BD375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Poznámka: Tlumočník nebude poskytovat žádné sociologické, antropologické ani historick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informace, aby vyjádřil svůj názor nebo pomáhal zformovat názor tazatele na případ, 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kterém tlumoč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Na druhou stranu,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hlo by být velmi už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č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é mít tlumo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č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íka jako zdroj informací o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mi p</a:t>
            </a:r>
            <a:r>
              <a:rPr b="0" i="1" lang="cs-CZ" sz="2000" spc="-1" strike="noStrike">
                <a:solidFill>
                  <a:srgbClr val="000000"/>
                </a:solidFill>
                <a:latin typeface="TimesNewRoman,Italic"/>
                <a:ea typeface="TimesNewRoman,Italic"/>
              </a:rPr>
              <a:t>ů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d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V jakých situacích by to podle vás bylo prosp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né? Kdyby to bylo prosp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né, dá se to skloubit s Kodexem chování tlumo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č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íka? Pokud ano, jak by m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tlumo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č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ík pracova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2F24-0181-4813-9681-5B1EB81E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0A01-70A8-4657-90E9-4AD9C499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6600-AD92-4391-A2E7-9F92ED81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BA70-3781-4346-9971-75C6AB89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17F5-0B85-44C0-A002-F4B89D27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68EF-07F7-4267-A0D8-3ED5F4E9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8CB2-638A-4C7B-8C0E-DA94DE1F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0126-813D-47B3-BD2A-3AE7A268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F9D8-24D6-4D39-87CD-6C9D01C1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FEC7-B03C-4B94-80FD-4D8DA0F2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99B6-7C18-4E03-91E6-FB3F249D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91A8-34FE-4A21-8E16-D5A5E3AA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8A99-7569-431F-9AD4-6229CD0F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7103-7FC5-4E86-A667-F85E30B8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731A-C0C2-4CB0-AEBE-BED881F3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35F4-3DA1-46D9-92AA-CCEA6DEE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5B5E-A9C4-496E-8EC3-2C4DAF7F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73FB-02FD-49BE-AE8F-B0A71721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89B1-7FFE-43C3-AB87-36A2EA7E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EF0-BD3F-4D23-8901-42F0ED63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F0BC-8A23-4000-A996-4EBBC106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ADF4E-F660-4C06-9D18-07C00CF9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BF5A1-1AF5-4902-AB5E-D30C6DB9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19F60-3530-4493-B645-09ED5A7C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B8A9D-C6E7-4A06-A0CA-23EA8960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08D8F-EA4A-4F1C-986F-D248F952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03332-00A2-49D1-9D28-27DBEBFA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64A12-4200-43FF-86FA-5CD142D9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F9444-F151-4A23-BA89-BF8FA6EF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51B71-788D-475C-865A-76C7CE8E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B289-DBA0-4DB4-B13F-C310DB21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F647F-5744-4B9F-BB56-5124295A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7E7ED-C567-4E9D-B6FA-9E16D80A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46967-3F07-4CC5-A812-4ADEFE52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542B6-3709-489C-9E41-AE87C614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23AF7-428D-49C7-A256-6214A941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F1216-A10B-4EC9-A596-1E0CDFA7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F0343-C668-443B-902F-A5F4A4D4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54C77-1646-4329-992B-916A17A6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29490-9CDA-4400-A0F2-D52914FB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8A396-8DCC-4811-917C-F24139A6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E87-E469-4685-82C7-66B094E5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01F72-E71B-4673-AAA1-F2A7045A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79951-B127-445C-8F90-114FFDBA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0BC13-94C6-43DB-9135-75C7B36A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E4470-E2C3-4403-A6AB-55F7AD1F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243E0-829F-4FAC-AB4C-F631A749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CC2F9-5136-4F8F-AC59-AE5EC52E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C9EBD-14AB-4229-A428-6AE7CC95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559E3-F1DB-4230-9F97-1BBC1DF2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89513-780C-481B-8382-96508852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2A915-63C5-4AF1-A9D3-AC2A92F2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2F2-2864-4D66-991B-29872909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1C00D-A709-4159-8921-19882ACF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38E40-1464-4A92-9EA8-68EA53B3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BF7FA-5D1F-4546-B9D2-E4820DC7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69BB5-4696-47C4-AD85-D6F87A78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5C1A8-534B-47C1-A739-DED232D0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F0E25-72C2-46C0-9EDA-0C201AFF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8342D-0F9C-42C5-8C91-E6E1D53A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79680"/>
            <a:ext cx="28893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to projekt je realizován v rámci veřejné zakázky MP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3280"/>
            <a:ext cx="21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78790-BA04-4B4B-909F-A3A24C003FC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H="1">
            <a:off x="849240" y="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25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C4EF35E-900D-4992-87E7-BCC6DAD9B1EB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 flipH="1">
            <a:off x="849240" y="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25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0381E55-4EAC-43B5-836B-DFBF23A37B65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25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3AFB487-FD41-4601-9AE3-BAD6A8CA5DEE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25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875DFC7-6D52-4645-A1C3-5EF98AE509C7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1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2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5" descr="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"/>
          <p:cNvSpPr/>
          <p:nvPr/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2"/>
          <p:cNvSpPr/>
          <p:nvPr/>
        </p:nvSpPr>
        <p:spPr>
          <a:xfrm>
            <a:off x="3060720" y="4140360"/>
            <a:ext cx="558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ociální tlumočení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Устный перевод в социальной сфер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AutoShape 1"/>
          <p:cNvSpPr/>
          <p:nvPr/>
        </p:nvSpPr>
        <p:spPr>
          <a:xfrm>
            <a:off x="900000" y="1619280"/>
            <a:ext cx="7559640" cy="3959280"/>
          </a:xfrm>
          <a:prstGeom prst="roundRect">
            <a:avLst>
              <a:gd name="adj" fmla="val 3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1079640" y="1676520"/>
            <a:ext cx="7199280" cy="37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1"/>
          <p:cNvSpPr/>
          <p:nvPr/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2"/>
          <p:cNvSpPr/>
          <p:nvPr/>
        </p:nvSpPr>
        <p:spPr>
          <a:xfrm>
            <a:off x="3600360" y="2340000"/>
            <a:ext cx="36226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2879640" y="3060720"/>
            <a:ext cx="5940360" cy="2700360"/>
          </a:xfrm>
          <a:prstGeom prst="roundRect">
            <a:avLst>
              <a:gd name="adj" fmla="val 5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4" descr=""/>
          <p:cNvPicPr/>
          <p:nvPr/>
        </p:nvPicPr>
        <p:blipFill>
          <a:blip r:embed="rId1"/>
          <a:stretch/>
        </p:blipFill>
        <p:spPr>
          <a:xfrm>
            <a:off x="3060720" y="3240000"/>
            <a:ext cx="558000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1857240" y="3890880"/>
            <a:ext cx="65725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2"/>
          <p:cNvSpPr/>
          <p:nvPr/>
        </p:nvSpPr>
        <p:spPr>
          <a:xfrm>
            <a:off x="1979640" y="3959280"/>
            <a:ext cx="63007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ciální nebo komunitní tlumoč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mmunity Interpr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"/>
          <p:cNvSpPr/>
          <p:nvPr/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1440000" y="1619280"/>
            <a:ext cx="7559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ociální nebo komunitní tlumoč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mmunity Interpr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оциальный перев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щественный перев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вод в социальной сфе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ровождающий перев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ный перевод для этнической     диаспоры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1"/>
          <p:cNvSpPr/>
          <p:nvPr/>
        </p:nvSpPr>
        <p:spPr>
          <a:xfrm>
            <a:off x="1079640" y="1698480"/>
            <a:ext cx="73800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c0504d"/>
                </a:solidFill>
                <a:latin typeface="Calibri"/>
              </a:rPr>
              <a:t>- Сложность рабочих усло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c0504d"/>
                </a:solidFill>
                <a:latin typeface="Calibri"/>
              </a:rPr>
              <a:t>- Психологическая нагруз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c0504d"/>
                </a:solidFill>
                <a:latin typeface="Calibri"/>
              </a:rPr>
              <a:t>- Неравноценная позиция участников общ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c0504d"/>
                </a:solidFill>
                <a:latin typeface="Calibri"/>
              </a:rPr>
              <a:t>- Возможное давление на переводч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c0504d"/>
                </a:solidFill>
                <a:latin typeface="Calibri"/>
              </a:rPr>
              <a:t>- Равновесие между соблюдением интересов    организации и проявлением участия по отношению к клиенту, нейтрал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c0504d"/>
                </a:solidFill>
                <a:latin typeface="Calibri"/>
              </a:rPr>
              <a:t>- Ограниченность во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2"/>
          <p:cNvSpPr/>
          <p:nvPr/>
        </p:nvSpPr>
        <p:spPr>
          <a:xfrm>
            <a:off x="1260360" y="179280"/>
            <a:ext cx="77407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1f497d"/>
                </a:solidFill>
                <a:latin typeface="Calibri"/>
              </a:rPr>
              <a:t>Специфика перевода в социальной сфе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1079640" y="900000"/>
            <a:ext cx="7740360" cy="62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Calibri"/>
              </a:rPr>
              <a:t>Отношения с организацией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или учреждением, для которого вы переводите, правомочия данной организации, ее задачи и ц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Calibri"/>
              </a:rPr>
              <a:t>Условия работы, ожидания клиента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 - возможный конфликт между тем, что ожидает клиент или организация и вашими возможностями, между вашей личной системой ценностей и этическими нормами поведения переводчика и т. 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Calibri"/>
              </a:rPr>
              <a:t>Переводчик - главное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:   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самостоятельный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анализ трудностей, умение задать (себе) вопросы и ответить, умение находить нужную информацию, дневник переводчика (трудности, примеры, инфо, и т.п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"/>
          <p:cNvSpPr/>
          <p:nvPr/>
        </p:nvSpPr>
        <p:spPr>
          <a:xfrm>
            <a:off x="2519280" y="81000"/>
            <a:ext cx="4243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1f497d"/>
                </a:solidFill>
                <a:latin typeface="Calibri"/>
              </a:rPr>
              <a:t>Ключевые момен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1"/>
          <p:cNvSpPr/>
          <p:nvPr/>
        </p:nvSpPr>
        <p:spPr>
          <a:xfrm>
            <a:off x="1440000" y="84240"/>
            <a:ext cx="7380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1f497d"/>
                </a:solidFill>
                <a:uFillTx/>
                <a:latin typeface="Verdana"/>
              </a:rPr>
              <a:t>Трудности и особенност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Verdana"/>
              </a:rPr>
              <a:t>важность роли переводчик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1f497d"/>
                </a:solidFill>
                <a:latin typeface="Verdana"/>
              </a:rPr>
              <a:t>Правильная интерпретация слов клиента -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1f497d"/>
                </a:solidFill>
                <a:latin typeface="Verdana"/>
              </a:rPr>
              <a:t>от вас может зависить судьба конкретного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1f497d"/>
                </a:solidFill>
                <a:latin typeface="Verdana"/>
              </a:rPr>
              <a:t>человека, дальнейшее решение его ситуаци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AutoShape 2"/>
          <p:cNvSpPr/>
          <p:nvPr/>
        </p:nvSpPr>
        <p:spPr>
          <a:xfrm>
            <a:off x="1260360" y="2340000"/>
            <a:ext cx="7380360" cy="3779640"/>
          </a:xfrm>
          <a:prstGeom prst="roundRect">
            <a:avLst>
              <a:gd name="adj" fmla="val 4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1"/>
          <a:stretch/>
        </p:blipFill>
        <p:spPr>
          <a:xfrm>
            <a:off x="1440000" y="2511360"/>
            <a:ext cx="7019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"/>
          <p:cNvSpPr/>
          <p:nvPr/>
        </p:nvSpPr>
        <p:spPr>
          <a:xfrm>
            <a:off x="1619280" y="541440"/>
            <a:ext cx="69912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1f497d"/>
                </a:solidFill>
                <a:latin typeface="Verdana"/>
              </a:rPr>
              <a:t>Деликатные/сложные вопросы, например в случаях сексуального насилия и тп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2"/>
          <p:cNvSpPr/>
          <p:nvPr/>
        </p:nvSpPr>
        <p:spPr>
          <a:xfrm>
            <a:off x="1260360" y="1979640"/>
            <a:ext cx="7380360" cy="4140000"/>
          </a:xfrm>
          <a:prstGeom prst="roundRect">
            <a:avLst>
              <a:gd name="adj" fmla="val 3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1"/>
          <a:srcRect l="0" t="0" r="44880" b="0"/>
          <a:stretch/>
        </p:blipFill>
        <p:spPr>
          <a:xfrm>
            <a:off x="1440000" y="2160720"/>
            <a:ext cx="701964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"/>
          <p:cNvSpPr/>
          <p:nvPr/>
        </p:nvSpPr>
        <p:spPr>
          <a:xfrm>
            <a:off x="1619280" y="237960"/>
            <a:ext cx="719928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1f497d"/>
                </a:solidFill>
                <a:latin typeface="Verdana"/>
              </a:rPr>
              <a:t>Неправомерное использование вашего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1f497d"/>
                </a:solidFill>
                <a:latin typeface="Verdana"/>
              </a:rPr>
              <a:t>влияния на клиента. С другой стороны, давление на вас со стороны клиента или сотрудника организаци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AutoShape 2"/>
          <p:cNvSpPr/>
          <p:nvPr/>
        </p:nvSpPr>
        <p:spPr>
          <a:xfrm>
            <a:off x="1260360" y="2160720"/>
            <a:ext cx="7199280" cy="3779640"/>
          </a:xfrm>
          <a:prstGeom prst="roundRect">
            <a:avLst>
              <a:gd name="adj" fmla="val 4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rcRect l="49942" t="0" r="0" b="0"/>
          <a:stretch/>
        </p:blipFill>
        <p:spPr>
          <a:xfrm>
            <a:off x="1440000" y="2340000"/>
            <a:ext cx="684036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1"/>
          <p:cNvSpPr/>
          <p:nvPr/>
        </p:nvSpPr>
        <p:spPr>
          <a:xfrm>
            <a:off x="1581120" y="179280"/>
            <a:ext cx="756288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1f497d"/>
                </a:solidFill>
                <a:latin typeface="Verdana"/>
              </a:rPr>
              <a:t>Различать между ролью переводчика и ролью ведущего собеседования: задавать вопросы, внимательно слушать ответы, оценивать ситуацию конкретного человека — это задачи анкетера, Вы предоставляете сторонам собеседования нейтральный коммуникационный канал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AutoShape 2"/>
          <p:cNvSpPr/>
          <p:nvPr/>
        </p:nvSpPr>
        <p:spPr>
          <a:xfrm>
            <a:off x="1260360" y="2700360"/>
            <a:ext cx="7199280" cy="3419280"/>
          </a:xfrm>
          <a:prstGeom prst="roundRect">
            <a:avLst>
              <a:gd name="adj" fmla="val 4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rcRect l="0" t="0" r="39891" b="10075"/>
          <a:stretch/>
        </p:blipFill>
        <p:spPr>
          <a:xfrm>
            <a:off x="1440000" y="2879640"/>
            <a:ext cx="6840360" cy="306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0:20Z</dcterms:modified>
  <cp:revision>88</cp:revision>
  <dc:subject/>
  <dc:title>Snímek 1</dc:title>
</cp:coreProperties>
</file>