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B5B85-F781-4820-8830-9BE80E824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32396-64A9-4FEB-ACF2-2D86F1B6A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86678-235A-4B2F-A6AC-6EBB3FDEE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01667-CD10-40E1-8EA7-43FD84E90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26BBC-879E-456E-B639-2FFFD34D3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99122-3927-4D99-A860-3C8B4C27D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83F43-7EC4-4705-B7FB-9B57F4C57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6E020-471E-4381-AFB2-4F5C1A75E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DAFEA-AE76-4E34-92DA-72067AA1F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FE84C-3FFB-40C9-BB17-D2BF03AB3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1547C-7927-4EA6-8E32-DC253676C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8904B-D734-48C8-A6A3-A6BFA0304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0D221-6D62-46E1-A889-463588336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F2A83-0F50-4799-95FA-5C05D325D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C272E-2830-419C-89EA-7D4193CC4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B4D4C-448F-4000-8065-70E5D4543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74A-4DCC-4FEE-8C39-A3669FA5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0E2-4D45-462B-AD05-B7BD098C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DC1-E235-4BA4-A6A5-63AE2B8A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13E-8F5B-4C40-98DD-7E14B6F8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0E5-F0F2-446B-B393-9401B059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E38-A654-4858-81F4-A7E33599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3ED-53AF-4E88-A5CE-D4585D74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2D6D-9EFF-4BA6-8995-3F20725E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307-32E3-419B-B84F-4D3325B3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5306-6F7E-4D99-B648-B57B0A24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2B00-9E78-4E3F-9334-C1D5034A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3EE7-B424-45D7-8089-70347FF2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6367-DCEE-489B-8BB5-BEAC684D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D563-689C-484B-B04C-E31F9505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CBF4-5D2E-4915-B518-1D71E09E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1DC7-2AC5-48B8-9BF0-EBBC852F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C35A-3034-452B-AC3F-B99242D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9FE0-B8BA-44FC-A5D0-308C535C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9BAA-6E4C-4644-BC10-7B1D7EFF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010-66A9-4755-A4E9-A51BFCB5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5435-4D73-4BA5-AF16-8E4432AA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B098-7420-407D-AE70-AC5B81D3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86C1-5230-4433-A617-F5315B88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65B5-80D0-40CF-B1C4-BF3DB35B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1793-7451-474D-BC1E-46C6157E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A7EC-B2DF-47E1-9655-D6506161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F976-1266-4DF9-B43C-D2A4FB8D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1DE8-17F5-47E1-96AC-7F84B137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3B65-78D0-41E0-AEFF-D43F9EE1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B1FB-FD58-4594-B050-1FE1B82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377-A09D-46C9-A0D4-A885B19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F7FC-B507-4F92-B1F0-B8F23139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D969-30F9-4CF9-822C-7C6C9BD0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F47B-1800-4596-AD6D-B88D1590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A819-D602-4496-8EC1-0C365D4F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ABDB-2FDC-495A-A2B6-EE0BC32F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5104-9373-46B8-B61F-0FDE1D84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C0DE-787D-46B5-BC65-EB8F2B35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25C0-2726-4B55-96A1-2B1E7D9F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26511-EF5D-416B-A835-D23AE8AB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9E38-EEBE-4BE2-A879-546EC42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65D-C164-465D-8B84-21CA88C0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9ED7-5C97-4532-A7FA-75A30B1F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34F5-3E41-404D-97EC-A00BE143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99260-4C9D-4B67-A20A-C5A2A643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BF51-BF9E-452C-B98F-B8308728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CB67-08C8-4698-98CD-CE160D5F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F26D3-1F08-4953-A71C-6C647CD4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5CFB-3D8C-4F0D-977F-E736D435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4ACF-50CC-49BE-BD3B-E78C1F77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F1A22-64AC-427A-90F2-C34F350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BDE6-F405-46DD-A552-2E9D3CB6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0A2-6708-42DB-AE6B-2D7D91E6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1D1B7-7A45-431C-9E51-EE576FD4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7DE8F-E7AE-4153-8F53-91FC750D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74136-2A84-4F20-8894-8726441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DA829-6198-479C-B25B-7804F8D8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28005-AD3F-4F6F-9B6D-46D03EE9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7A1C3-1CBC-44BA-989E-2688D1E0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9EE4B-97CD-4888-845A-F1BFB706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.10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1CD6B3-35DF-4B47-A7F0-0300A898AEA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95A754-73A2-477B-A3D4-BF0EC690CF4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4231C5-E9AE-4F12-9BAF-A2DB4965EB1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27277D-D2B7-48D6-AD9A-0D16A28CFBB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8ED569-AB1B-4964-8CB9-64CA64B6B8B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щение с госучреждения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Основные понятия и термины </a:t>
            </a:r>
            <a:br>
              <a:rPr sz="2400"/>
            </a:b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3)Процед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2"/>
          <p:cNvGrpSpPr/>
          <p:nvPr/>
        </p:nvGrpSpPr>
        <p:grpSpPr>
          <a:xfrm>
            <a:off x="1042920" y="1557360"/>
            <a:ext cx="0" cy="4572000"/>
            <a:chOff x="1042920" y="1557360"/>
            <a:chExt cx="0" cy="4572000"/>
          </a:xfrm>
        </p:grpSpPr>
        <p:sp>
          <p:nvSpPr>
            <p:cNvPr id="524" name="Line 5"/>
            <p:cNvSpPr/>
            <p:nvPr/>
          </p:nvSpPr>
          <p:spPr>
            <a:xfrm>
              <a:off x="1042920" y="1557360"/>
              <a:ext cx="0" cy="457200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6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0B3968-E0BB-44EC-93F4-6CD9D9DC57E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Упражнение 1.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"/>
          <p:cNvSpPr/>
          <p:nvPr/>
        </p:nvSpPr>
        <p:spPr>
          <a:xfrm>
            <a:off x="900000" y="1628640"/>
            <a:ext cx="7886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341280">
              <a:lnSpc>
                <a:spcPts val="3061"/>
              </a:lnSpc>
              <a:spcBef>
                <a:spcPts val="349"/>
              </a:spcBef>
              <a:tabLst>
                <a:tab algn="l" pos="0"/>
                <a:tab algn="l" pos="5396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9640" indent="-341280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5396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8B3E0C-7A43-4A82-8272-48010AFB5C8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42920" y="1700280"/>
          <a:ext cx="7489800" cy="4321080"/>
        </p:xfrm>
        <a:graphic>
          <a:graphicData uri="http://schemas.openxmlformats.org/drawingml/2006/table">
            <a:tbl>
              <a:tblPr/>
              <a:tblGrid>
                <a:gridCol w="3745080"/>
                <a:gridCol w="3744720"/>
              </a:tblGrid>
              <a:tr h="43210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slove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t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dn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lvl="1" marL="816120" indent="-455760" algn="just">
                        <a:lnSpc>
                          <a:spcPct val="101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g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apitá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á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f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lukov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leč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Упражнение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1042920" y="1700280"/>
            <a:ext cx="77439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hůty pro vyřízení stanoví obecný předpis o správním řízen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 stanovené lhůt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ožádán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e znění pozdějších předpisů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případech hodných zvláštního zřete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úředně ověřená kopi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ohlašuji, že jsem byl/a seznámen/a s podmínkam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ohlašuji, že výše uvedené údaje jsou přesné, pravdivé a úpln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B4BC6A-E67D-4D3A-999F-DC513D50C82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Упражнение 3. Формуля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1042920" y="1714680"/>
            <a:ext cx="774396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Čestné prohlášení o pravdivosti údajů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Já .............................., datum narození ......................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bytem ................................., tímt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čestně prohlašuji,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že v dokumentu, jehož je toto prohlášení nedílnou přílohou, jsem uvedl přesné, pravdivé a úplné údaje. Jsem si vědom toho, že pokud by mnou uvedené informace byly obráceny v opak, budu čelit všem z toho vyplývajícím právním následkům.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..................... dne ...................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................................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dp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04B349-D7C3-4D66-85E7-F4441791B2D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Возможные проблем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104292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сихологический фактор – изначально негативное отношение к чиновникам, боязнь, ожидание худше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ременные затраты – на перевод необходимых документов, зачастую повторные визиты в госучре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ольшое количество необходимых документов, которые необходимо предоставлять при общении с различными ведомствами и постоянно обновлять. В большинстве случаев эти проблемы связаны с нахождением в Чехии на основании ВНЖ, тогда как при наличии ПМЖ многие из них отпадаю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ые изменения в законодательстве, касающемся иностранцев, которые сложно отслежива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3D26D2-3DA1-4983-AB3D-4D2620A714E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ние с госучрежден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3419640" y="2519280"/>
            <a:ext cx="326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879640" y="36036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Органы власти, с которыми сталкиваемся чаще вс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042920" y="1628640"/>
            <a:ext cx="77439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играционные орг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ы занятости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řa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rá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логовые инспекции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aňové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inanční úřady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ы государственного и местного управл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стерства, мэрии, областные администрации, муниципалитет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ED58FF-A6A3-4734-ADD0-4A9B71E53A1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Государственно-общественное управление Че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Group 2"/>
          <p:cNvGrpSpPr/>
          <p:nvPr/>
        </p:nvGrpSpPr>
        <p:grpSpPr>
          <a:xfrm>
            <a:off x="826920" y="1484280"/>
            <a:ext cx="7848720" cy="4751280"/>
            <a:chOff x="826920" y="1484280"/>
            <a:chExt cx="7848720" cy="4751280"/>
          </a:xfrm>
        </p:grpSpPr>
        <p:sp>
          <p:nvSpPr>
            <p:cNvPr id="490" name="Rectangle 3"/>
            <p:cNvSpPr/>
            <p:nvPr/>
          </p:nvSpPr>
          <p:spPr>
            <a:xfrm>
              <a:off x="826920" y="148428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осударственное управл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4498920" y="148428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амоуправл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7"/>
            <p:cNvSpPr/>
            <p:nvPr/>
          </p:nvSpPr>
          <p:spPr>
            <a:xfrm>
              <a:off x="4498920" y="2004840"/>
              <a:ext cx="0" cy="423072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Rectangle 8"/>
          <p:cNvSpPr/>
          <p:nvPr/>
        </p:nvSpPr>
        <p:spPr>
          <a:xfrm>
            <a:off x="1187280" y="1628640"/>
            <a:ext cx="3024360" cy="36036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e0000"/>
                </a:solidFill>
                <a:latin typeface="Calibri"/>
              </a:rPr>
              <a:t>Государственное упр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4788000" y="1628640"/>
            <a:ext cx="3384360" cy="36036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e0000"/>
                </a:solidFill>
                <a:latin typeface="Calibri"/>
              </a:rPr>
              <a:t>Самоуправлени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5" name="AutoShape 10"/>
          <p:cNvCxnSpPr/>
          <p:nvPr/>
        </p:nvCxnSpPr>
        <p:spPr>
          <a:xfrm>
            <a:off x="2626920" y="2852280"/>
            <a:ext cx="2520" cy="289440"/>
          </a:xfrm>
          <a:prstGeom prst="straightConnector1">
            <a:avLst/>
          </a:prstGeom>
          <a:ln w="31680">
            <a:solidFill>
              <a:srgbClr val="c4dc4a"/>
            </a:solidFill>
            <a:miter/>
            <a:tailEnd len="med" type="triangle" w="med"/>
          </a:ln>
        </p:spPr>
      </p:cxnSp>
      <p:cxnSp>
        <p:nvCxnSpPr>
          <p:cNvPr id="496" name="AutoShape 11"/>
          <p:cNvCxnSpPr/>
          <p:nvPr/>
        </p:nvCxnSpPr>
        <p:spPr>
          <a:xfrm>
            <a:off x="2626920" y="4365720"/>
            <a:ext cx="2520" cy="288000"/>
          </a:xfrm>
          <a:prstGeom prst="straightConnector1">
            <a:avLst/>
          </a:prstGeom>
          <a:ln w="31680">
            <a:solidFill>
              <a:srgbClr val="c4dc4a"/>
            </a:solidFill>
            <a:miter/>
            <a:tailEnd len="med" type="triangle" w="med"/>
          </a:ln>
        </p:spPr>
      </p:cxnSp>
      <p:sp>
        <p:nvSpPr>
          <p:cNvPr id="497" name="Text Box 12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576E35-F1A4-472A-99C9-DE32E27DD27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Административные органы Пра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857160" y="1571760"/>
            <a:ext cx="79264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рание депутатов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stupitelstvo hla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 Prah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ет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a hla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 Prah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эр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эрия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gist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 hla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 Prah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обые органы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vl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униципальная полиция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sk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lici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ю важную информацию о деятельности органов государственно-общественного управления в ЧР можно найти на соответствующих веб-сайтах. Актуальный список веб-сайтов размещен по адресу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ttp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://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rtal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ov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z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где приведены ссылки на муниципалитеты, областные и городские администрации, а также другая полезная информац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6FCA08-FA2D-4D7D-B0FD-4725CFAABE7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Официально-деловой стиль речи 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(</a:t>
            </a:r>
            <a:r>
              <a:rPr b="0" lang="cs-CZ" sz="2000" spc="-1" strike="noStrike">
                <a:solidFill>
                  <a:srgbClr val="990033"/>
                </a:solidFill>
                <a:latin typeface="Verdana"/>
              </a:rPr>
              <a:t>administrativní funkční st</a:t>
            </a: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990033"/>
                </a:solidFill>
                <a:latin typeface="Verdana"/>
              </a:rPr>
              <a:t>l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1076400" y="1260360"/>
            <a:ext cx="77436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9323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Обслуживает правовую и административно-общественную сферы деятельност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23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Используется при написании документов: международных договоров, государственных актов, юридических законов, постановлений, уставов, инструкций, служебной переписки, разных видов документации в учреждениях (заявлений, справок, отчетов, протоколов и т. п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23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Прим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 za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pr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ú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y povinnosti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 pla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vole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 za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v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je i pl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ol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ů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ypl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j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 z p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d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nosti p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nick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oby zaj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šť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va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 spol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e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m nebo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em statu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 nebo ji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 obchod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l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sti pro obchod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l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s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em dr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va neb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em statu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nebo ji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 dr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va pro dr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v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B2204D-BBF4-4B60-9B37-CABD96367ED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Разбираемся в аббревиатурах (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2"/>
          <p:cNvGrpSpPr/>
          <p:nvPr/>
        </p:nvGrpSpPr>
        <p:grpSpPr>
          <a:xfrm>
            <a:off x="900000" y="1492200"/>
            <a:ext cx="7829640" cy="4602240"/>
            <a:chOff x="900000" y="1492200"/>
            <a:chExt cx="7829640" cy="4602240"/>
          </a:xfrm>
        </p:grpSpPr>
        <p:sp>
          <p:nvSpPr>
            <p:cNvPr id="506" name="Rectangle 3"/>
            <p:cNvSpPr/>
            <p:nvPr/>
          </p:nvSpPr>
          <p:spPr>
            <a:xfrm>
              <a:off x="900000" y="1492200"/>
              <a:ext cx="78296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1. Органы вла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6"/>
            <p:cNvSpPr/>
            <p:nvPr/>
          </p:nvSpPr>
          <p:spPr>
            <a:xfrm>
              <a:off x="4716360" y="2013120"/>
              <a:ext cx="0" cy="408132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Text Box 7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8EB6AF-E9A8-433F-8E01-8A5F76B63EA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Разбираемся в аббревиатурах (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2"/>
          <p:cNvGrpSpPr/>
          <p:nvPr/>
        </p:nvGrpSpPr>
        <p:grpSpPr>
          <a:xfrm>
            <a:off x="900000" y="1492200"/>
            <a:ext cx="7848720" cy="4435560"/>
            <a:chOff x="900000" y="1492200"/>
            <a:chExt cx="7848720" cy="4435560"/>
          </a:xfrm>
        </p:grpSpPr>
        <p:sp>
          <p:nvSpPr>
            <p:cNvPr id="511" name="Rectangle 3"/>
            <p:cNvSpPr/>
            <p:nvPr/>
          </p:nvSpPr>
          <p:spPr>
            <a:xfrm>
              <a:off x="900000" y="1492200"/>
              <a:ext cx="3816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2. Полиц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4"/>
            <p:cNvSpPr/>
            <p:nvPr/>
          </p:nvSpPr>
          <p:spPr>
            <a:xfrm>
              <a:off x="4716360" y="1492200"/>
              <a:ext cx="4032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3. Остальные аббревиа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>
              <a:off x="4716360" y="1906560"/>
              <a:ext cx="0" cy="402120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Text Box 8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A79C9C-2A68-4AAD-8E73-55D9CABDC89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Основные понятия и термины </a:t>
            </a:r>
            <a:br>
              <a:rPr sz="2800"/>
            </a:b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1)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Verdana"/>
              </a:rPr>
              <a:t>Государственное управление и органы в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900000" y="1628640"/>
            <a:ext cx="788688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r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be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kr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atutární město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ěstská část, městský obvo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právní orgá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astupitelstv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átní zastupitelství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Rad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ěstská rad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rajský úř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becní úř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agistrá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rajské pracoviště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db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D6273D-F243-4FF0-9C8E-0DACA796D45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Основные понятия и термины </a:t>
            </a:r>
            <a:br>
              <a:rPr sz="2400"/>
            </a:b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2)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Докум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1042920" y="1628640"/>
            <a:ext cx="0" cy="4608720"/>
            <a:chOff x="1042920" y="1628640"/>
            <a:chExt cx="0" cy="4608720"/>
          </a:xfrm>
        </p:grpSpPr>
        <p:sp>
          <p:nvSpPr>
            <p:cNvPr id="520" name="Line 5"/>
            <p:cNvSpPr/>
            <p:nvPr/>
          </p:nvSpPr>
          <p:spPr>
            <a:xfrm>
              <a:off x="1042920" y="1628640"/>
              <a:ext cx="0" cy="460872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Text Box 6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FF3417-8A05-4905-A15A-4B72C02A953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0:35Z</dcterms:modified>
  <cp:revision>136</cp:revision>
  <dc:subject/>
  <dc:title>Snímek 1</dc:title>
</cp:coreProperties>
</file>