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E309A-314F-413A-BB3A-F966622D3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EFBA2-C74E-45CF-98E2-1ECF9AB54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0CA99-493B-4C64-A345-BDA7093D8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C03B1-5EE6-499C-A5D4-85E16E458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DC89A-A68D-461C-9224-BBB36CC41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EACD7-65DE-4CB8-9F99-4A747E37F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7773C-9A70-4895-B90E-D4741D7BE3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CE4B3-CCEC-4242-A014-CC9A81521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DE9A2-F854-4640-9E98-CE081D145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7BF08-05A1-44B8-9AF2-FB3C82213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5E74F-1A54-46D2-884A-7036F41F1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247D-3010-4647-B1B0-14A85CBC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94CB-B6A6-4B95-BF16-420A4087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9D4D-E6C8-4481-B76E-ECD7373A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89D4-A829-4470-B716-7F30F3AC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6CE1-DC0B-4C81-B1B6-BD389E50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AA33-AC79-4950-81D4-F11F1F62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4D10-D293-4FE7-A847-6E6E1A6F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490B-3020-4F3E-9D82-B922582E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FA0A-A230-47E2-BA0F-065F53CD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A3B7-807F-42E3-9AEF-D0B70C27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8451-4C6B-4D08-8661-97B89FF4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7D2B-A6B0-4966-A193-3BBA2432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3F8A-FFF2-492E-8417-3F5CE4EB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1A78-F229-48C0-9C39-DF893856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8C13-BCE3-4187-AF08-506AD443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9DD9-A0C5-4B17-B8D1-C80B654C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2EEF-7313-4591-A197-524D91B7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A2BC-3BC5-4E0E-8716-FA7B0CBA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BF61-0557-44C3-B907-F12166F5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49C4-F229-41A0-A023-B8826486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5EEF-8E32-42B6-B89D-FB2D31F5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59E21-1FEA-4B2E-BD89-A31D835D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37C4D-126D-4926-9F45-F32238C8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3A00E-7C25-44CC-94E9-59B85E3E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E5A10-B6EA-4D5C-89D1-543B5A61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3DD53-71EB-4B92-A7AB-0A27F24B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78F1F-50CA-4A85-B478-14149ABF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52A2D-1464-43D8-9076-68DC590D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FD7F8-35BD-44F8-95F7-4727144B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CD42A-A37C-4EE4-B392-9001D87C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5296-DFA1-4F57-903C-245C682D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80617-B2E1-4B83-A456-16BF7891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B5F85-9BAE-4309-AEA9-3C2DF506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19566-4593-488A-A5EE-F01C850F9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A7452-A272-4722-839D-8CB61329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B8110-E280-464E-8858-F3F74829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DB31B-263F-4722-9E3F-7237D10F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9BDA7-8C6C-4963-A38D-36BD1BD5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598A6-DDDC-4A77-8D0A-A691826D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B8586-B6CF-4D7D-829E-569613A5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C41E3-30A7-491F-904D-CC7DD70B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8061-3257-47FA-A68F-9437D2E9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3DCE2-2ADA-4BDB-AFD0-78B3D3C9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E9834-F431-43A5-94D4-2215C5FB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47B48-62CB-49FC-91B2-D2FF285B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D0552-2A21-4043-9C6D-AA495FD3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56E00-C5CE-4291-B0C9-82FA4767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E257D-E138-409D-A2A6-B380462B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40A7F-B2D9-4799-AFA0-69EC0EEF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F38B7-BC7B-43C0-AB15-9B0765AA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3569C-8BE3-43EF-9D0C-D976DE9F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D49A4-D414-4098-BFE6-F05BFE98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05CB-F281-4DB9-B523-9B0D7E80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00917-2F5D-416B-86C6-836B3A9A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ACC93-99FC-41F3-BE9C-2F7D4B1F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3429C-3EB2-4689-B2BC-4CEF13D3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6C51F-C683-48CA-8CF6-FF81D75B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E3E85-C0F1-4052-8559-5710EC31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C5FBF-CFB8-49DD-92A1-0EA227BD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6BD88-8B6A-46B0-AA71-BE9340BD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79680"/>
            <a:ext cx="28893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to projekt je realizován v rámci veřejné zakázky MP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3280"/>
            <a:ext cx="21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FC71D-8102-4742-B45A-7D04C593EB4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 flipH="1">
            <a:off x="849240" y="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35313B6-2AA6-4195-A2A5-A7B8671E926E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 flipH="1">
            <a:off x="849240" y="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E31EF12-BDBE-409E-9F1B-4F450A12ADF0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065B030-4E41-4135-9C40-44FE72C685C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4F75177-F814-42F6-877B-8A83205E7BE2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1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2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5" descr="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uzk.cz/" TargetMode="External"/><Relationship Id="rId2" Type="http://schemas.openxmlformats.org/officeDocument/2006/relationships/hyperlink" Target="http://www.bezrealitky.cz/" TargetMode="Externa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"/>
          <p:cNvSpPr/>
          <p:nvPr/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2"/>
          <p:cNvSpPr/>
          <p:nvPr/>
        </p:nvSpPr>
        <p:spPr>
          <a:xfrm>
            <a:off x="2879640" y="3959280"/>
            <a:ext cx="594036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Bydl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Жиль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1"/>
          <p:cNvSpPr/>
          <p:nvPr/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2"/>
          <p:cNvSpPr/>
          <p:nvPr/>
        </p:nvSpPr>
        <p:spPr>
          <a:xfrm>
            <a:off x="826920" y="1628640"/>
            <a:ext cx="793116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3"/>
          <p:cNvSpPr/>
          <p:nvPr/>
        </p:nvSpPr>
        <p:spPr>
          <a:xfrm>
            <a:off x="539640" y="360360"/>
            <a:ext cx="860436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Приобретение собственной квартиры или до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ловия приобретения иностранцами недвижимости в Чешской Республике регулируются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валютным законом № 219/1995 Сб. законов, в действующей редакц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Покупка дома или квартиры оформляется заключением договора купли-продажи между продавцом и покупателем, который должен удовлетворять требованиям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Гражданского кодекса / občanský zákoník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(закон № 40/1964 Сб. законов). Договор должен быть заключен в письменной форме, в противоположном случае он является недействительным. Покупатель становится собственником квартиры или дома в момент регистрации права собственности в кадастре недвижимости (а не в момент подписи договора купли-продажи!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541440" y="1571760"/>
            <a:ext cx="8216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720720" y="0"/>
            <a:ext cx="719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539640" y="0"/>
            <a:ext cx="846000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dle devizového zákona bylo do května 201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nabývání bytů a domů cizinci omezeno a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my a byty mohli nabývat pouze tuzemci – tj. fyzické osoby s trvalým pobytem na území České republiky nebo právnické osoby se sídlem na území České republiky a cizozemci uvedení v § 17 devizového zákona. Novelou devizového zákona, která byla zveřejněna dne 19. 7. 2011 ve Sbírce zákonů pod číslem 206/2011 (částka 73), bylo cizincům umožněno nabývat nemovitosti, včetně bytů, bez omezení. V praxi zapisovaly katastrální úřady nemovitosti nabyté cizinci již od 1. května 2011, neboť toho dne skončilo pro ČR 2. přechodné období, které toto právo předtím omezova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ato změna se netýká nabývání zemědělské půdy a lesů ze státního vlastnictví České republiky, které upravuje zákon č. 95/1999 Sb., o podmínkách převodu zemědělských a lesních pozemků z vlastnictví státu na jiné osoby a o změně zákona č. 569/1991 Sb., o Pozemkovém fondu České republiky, ve znění pozdějších předpisů, a zákona č. 357/1992 Sb., o dani dědické, dani darovací a dani z převodu nemovitostí, ve zněnípozd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ě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ších p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ř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dpis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ů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"/>
          <p:cNvSpPr/>
          <p:nvPr/>
        </p:nvSpPr>
        <p:spPr>
          <a:xfrm>
            <a:off x="539640" y="0"/>
            <a:ext cx="8460000" cy="70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Отрывок статьи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Сотни иностранцев, которые приобрели недвижимость в Чешской Республике с мая по июль 2011 года, возможно, заключили договор незаконно.Так называемый девизионный закон, который упростил иностранцам процесс покупки недвижимости в ЧР, действует пока только месяц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Для приобретения квартиры или дома больше не нужно открывать ООО или заключать брак с гражданином ЧР – теперь достаточно просто иметь деньги.Чехия пользовалась отсрочкой на принятие этого закона до мая 2011 года, закон же вступил в силу в августе 2011. Но иностранцам начали продавать недвижимость сразу после окончания отсрочки: май, июнь и июль, таким образом, оказались «вне закона». «Если бы кому-нибудь пришло в голову оспорить эти сделки в суде, то с большой вероятностью суд признал бы их незаконными, а договоры купли-продажи недействительными », - прокомментировал ситуацию юрист Ярослав Марши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"/>
          <p:cNvSpPr/>
          <p:nvPr/>
        </p:nvSpPr>
        <p:spPr>
          <a:xfrm>
            <a:off x="360360" y="0"/>
            <a:ext cx="8783640" cy="61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141414"/>
                </a:solidFill>
                <a:uFillTx/>
                <a:latin typeface="Arial"/>
              </a:rPr>
              <a:t>Аренда жилья / Bydlení v nájm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В отличие от покупки жилья в частную собственность, аренда / nájem доступна более широкому кругу лиц. Правовое оформление аренды жилья содержится в гражданском кодексе. Гражданский кодекс позволяет передать арендованную квартиру или ее часть в субаренду / podnájе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  <a:ea typeface="Times New Roman"/>
              </a:rPr>
              <a:t>Nájem bytu vzniká na základě nájemní smlouvy mezi pronajímatelem bytu a nájemcem nebo na základě jiných právních skutečností, které upravuje občanský zákoník,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např. přechodem nájmu. </a:t>
            </a: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Nájemní smlouva musí být písemná a musí obsahovat krom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ě </a:t>
            </a: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základních náležitostí (nap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ř</a:t>
            </a: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. ozna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č</a:t>
            </a: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ení smluvních stran), ješt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ě </a:t>
            </a: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náležitosti vyjmenované ve zvláštní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č</a:t>
            </a: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ásti ob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č</a:t>
            </a: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anském zákoníku upravující nájem bytu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(označení bytu, jeho příslušenství, rozsah jejich užívání a způsob výpočtu nájemného a úhrady za plnění spojená s užíváním bytu nebo jejich výši), </a:t>
            </a: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jinak je neplatná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. Pokud není doba nájmu ve smlouvě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  <a:ea typeface="Times New Roman"/>
              </a:rPr>
              <a:t>dohodnuta, má se za to, že je smlouva uzavřená na dobu neurčitou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1"/>
          <p:cNvSpPr/>
          <p:nvPr/>
        </p:nvSpPr>
        <p:spPr>
          <a:xfrm>
            <a:off x="720720" y="181080"/>
            <a:ext cx="792000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Право аренды возникает на основании договора аренды, заключенного между арендодателем и арендатором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ли на основании иных юридических фактов, которые регулируются в Гражданском кодексе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Договор аренды должен заключаться в письменной форме и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мимо основной информации (напр. наименование сторон договора)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должен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же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содержа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нные, указанные в особой части Гражданского кодекса, регулирующей аренду недвижимости (информация о квартире, обстановке и нежилых помещениях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ъем пользования, способ расчета арендной платы и платежей за услуги, связанных с пользованием квартирой или размер платежей)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без указания кото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ых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договор является недействительны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В случае, если срок аренды в договоре не указан, договор считается заключенным на неопределенный сро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1"/>
          <p:cNvSpPr/>
          <p:nvPr/>
        </p:nvSpPr>
        <p:spPr>
          <a:xfrm>
            <a:off x="539640" y="0"/>
            <a:ext cx="846000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Прекращение аренды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jem bytu 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ů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e zaniknout 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lika z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ů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b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ísemnou dohodou uzavřenou mezi pronajímatelem a nájemcem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uplynutím doby, na kterou byl nájemní vztah sjedná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ísemnou výpovědí nájemce (bez uvedení důvodu), nebo pronajímatele (vždy z důvodů uvedených v občanském zákoníku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harakteru výpovědního důvodu může pronajímatel nájem vypovědět bez přivolení soudu nebo s přivolením soudu. Výpovědní lhůta nesmí být kratší než 3 měsíce a musí skončit ke konci kalendářního měsí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kud pronajímatel vypoví nájem bez přivolení soudu, může nájemce do šedesáti dní podat žalobu na určení neplatnosti výpovědi k soudu. Nájemce není povinen byt vyklidit, pokud řízení o neplatnosti výpovědi není ukončeno pravomocným rozhodnutím soudu. Téměř ve všech případech výpovědi z nájmu bytu přísluší nájemci bytová náhrada popř. Přístřeší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1"/>
          <p:cNvSpPr/>
          <p:nvPr/>
        </p:nvSpPr>
        <p:spPr>
          <a:xfrm>
            <a:off x="541440" y="0"/>
            <a:ext cx="845820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сылк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atastr nemovitostí  </a:t>
            </a:r>
            <a:r>
              <a:rPr b="1" lang="ru-RU" sz="20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http://www.cuzk.c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ové stránky Ministerstva pro místní rozvoj – </a:t>
            </a:r>
            <a:r>
              <a:rPr b="0" lang="ru-RU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http://www.mmr.cz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ytová politik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2"/>
              </a:rPr>
              <a:t>http://www.bezrealitky.c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"/>
          <p:cNvSpPr/>
          <p:nvPr/>
        </p:nvSpPr>
        <p:spPr>
          <a:xfrm>
            <a:off x="720720" y="900000"/>
            <a:ext cx="7920000" cy="44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Словари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osobní vlastnictví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  <a:ea typeface="Times New Roman"/>
              </a:rPr>
              <a:t>— личная / частная собственност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141414"/>
                </a:solidFill>
                <a:latin typeface="Arial"/>
              </a:rPr>
              <a:t>devizový zákon -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девизионный / валютный закон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141414"/>
                </a:solidFill>
                <a:latin typeface="Arial"/>
                <a:ea typeface="Times New Roman"/>
              </a:rPr>
              <a:t>novela –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  <a:ea typeface="Times New Roman"/>
              </a:rPr>
              <a:t>дополнение / поправк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kupní smlouv</a:t>
            </a:r>
            <a:r>
              <a:rPr b="0" lang="cs-CZ" sz="2200" spc="-1" strike="noStrike">
                <a:solidFill>
                  <a:srgbClr val="141414"/>
                </a:solidFill>
                <a:latin typeface="Arial"/>
              </a:rPr>
              <a:t>a –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договор купли-продаж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nájem — аренд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podnájеm — субаренд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  <a:ea typeface="Times New Roman"/>
              </a:rPr>
              <a:t>přivolení soudu –</a:t>
            </a:r>
            <a:r>
              <a:rPr b="0" lang="cs-CZ" sz="2200" spc="-1" strike="noStrike">
                <a:solidFill>
                  <a:srgbClr val="141414"/>
                </a:solidFill>
                <a:latin typeface="Arial"/>
                <a:ea typeface="Times New Roman"/>
              </a:rPr>
              <a:t> c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  <a:ea typeface="Times New Roman"/>
              </a:rPr>
              <a:t>огласие суд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bytová náhrada – возмещение / компенсация жиль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bytové družstvo </a:t>
            </a:r>
            <a:r>
              <a:rPr b="0" lang="cs-CZ" sz="2200" spc="-1" strike="noStrike">
                <a:solidFill>
                  <a:srgbClr val="141414"/>
                </a:solidFill>
                <a:latin typeface="Arial"/>
              </a:rPr>
              <a:t>-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жилищно-строительный кооперати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141414"/>
                </a:solidFill>
                <a:latin typeface="Arial"/>
              </a:rPr>
              <a:t>stanovy družstva –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устав кооперати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1:01Z</dcterms:modified>
  <cp:revision>88</cp:revision>
  <dc:subject/>
  <dc:title>Snímek 1</dc:title>
</cp:coreProperties>
</file>