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15B0E-B62A-4063-9AD0-8AE435838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F82A4-4C87-4ED9-8C59-AC0B49597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038B8-9BD8-4648-84A3-B5C2D8BD8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C1D8-4456-40FC-9B3E-B7F3D7CCB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B65DA-B883-4261-8C8F-A83C4FFBB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88085-05F5-441A-AE30-20A0AD309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D4E38-C85E-4ADD-903B-B6E29B416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27A78-F9CA-4621-95C1-5E605C446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ABB5C-1BB5-4A5A-9703-00B6569BD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94F9-9667-4F59-A2E2-4DB98DBEA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048-63BE-4340-9F4E-446083B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7E6-7675-4ED2-935D-8005DDF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718-C747-4875-8B22-CE8F105C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48B-D90D-4F77-B713-4072778B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956-50A9-4D9D-A44E-EFF8ECBD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D80-0538-4A66-B218-F0E97A2C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663-7A89-4CF2-8EFC-1C9032C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DDB-134B-465B-A0F0-8C9B9D2A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13F-4ECE-4C69-B951-EDFDEA76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005-BD06-4AA4-9F26-95C2CC3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4A89-C632-49CE-98C0-2B95EAF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FC0-6DC2-43AD-8C51-43F3DBC8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7353-73EA-4691-A964-66B8696B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A73-FD95-40A5-BD94-70A5A9C8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F790-90AA-47E6-8ED4-D691026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F6C-30C1-4AA5-8191-1824D47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D37C-CA97-4E4C-9AB3-2FDF54D8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E647-3B01-4272-BB2E-E694CF4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272D-1B67-4D9E-8117-38BDE76C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FD3-A4D7-4F31-A14E-3C852C3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2A9-F268-4ABE-8F87-33AA3C3F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5507-8AD8-4AA5-A500-8B99E1F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EB45-6B7A-4A98-899C-02B0BB6D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8DCA-4B22-45A8-B715-3976A8E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F0E3-D234-4642-8C24-503FB1E7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9800-A989-42B7-A399-5B75D53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A0BB-B705-44D6-A653-BC39CD61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8B06-40AE-476D-930A-45D536A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9A50-2974-426A-BF9B-2835843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447E-F1C8-45CE-B18A-A348D7D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2E8-90D9-49F7-9C66-BDC21D1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F9AB-989F-49F9-9C34-F1CF1D2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9183-2B96-4B2A-A119-2CD5579B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FAA2-9476-497E-A0B1-135B67F8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0429-D725-4F73-A896-493A381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D781-F1B4-42A6-B07A-7A544D6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ADAC-B485-425A-B9D6-BCC9846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45A6-9E6C-4C51-A534-C0A7A06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B35A-B606-4CA5-9523-05453FC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0022-4DA6-4209-95C5-A349B0E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3087-087B-4D5C-B09D-212B3BB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C71-83A8-4C9D-8B05-B6005A5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F514-7AA5-4744-871D-B7A3520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FEF6-6C91-424C-A4DD-68EA3239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4EC8-9DF6-4545-9564-CA2E7BEF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25F0-AD2E-4912-8D76-7D7AB94E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A1E1-D297-4B16-BD38-D3B978D7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32AC-E08C-4381-B6CF-3CAC614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243B-0548-4FFD-AEFA-9D77D1AB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47A76-E32B-41DB-8A02-B5143656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6C36-5DE9-40E4-B2BC-26BC4EC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FAAA-D6E0-4576-B5B1-764396FF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689-E5D7-430B-A7BA-F8CD2AE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D5B9-0FEF-426B-B7ED-0FDCD4B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F02E-D42D-4BC4-89E2-37DA490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B072-0BA2-46D9-B102-F2977B4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428A-2754-49BD-B574-3E2588A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5F03-4B31-4AA4-825E-8B6A682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0615-FA61-4681-AD73-76024323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F24AF-6FFB-4565-AFDD-C6D36596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1416F9-959E-4A35-9F96-F9B852F71B5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F98DB5-EEFF-403A-8ACA-B24D79299C8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BFC199-965C-4487-96E5-7BC4ACC2568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8BC275-58EE-4EED-9195-FE210C68BC2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62D522-5977-4A31-89C8-72565394E2D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vcr.cz/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Každodenní ž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седнев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1979640" y="4037040"/>
            <a:ext cx="630072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dné čís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Персональный номер иностранца в Чех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Общ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разрешением на постоянное проживание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в Чешской Республике персональный номер выдает Министерство внутренних дел (соответствующий областной отдел Департамента беженцев и миграционной полити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зрешением на временное проживани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в ЧР на срок более 90 дней персональный номер выдает соответствующее подразделение Полиции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ю об условиях предоставления персонального номера (необходимые документы, сроки рассмотрения и т.д.) можно получить в соответствующем отделе Департамента беженцев и миграционной политики МВД или в отделении полиции по делам иностранцев, которое выдало физическому лицу разрешение на прожи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233280"/>
            <a:ext cx="7199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Для чего потребуется персональный ном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2340000"/>
            <a:ext cx="77407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лучение лицензиии на ведение предпринимательской деятель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обязательной медицинской и социальной страхов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егистрация автомоби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различных документов, ВУЗы, общежит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260360" y="179280"/>
            <a:ext cx="70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можно подать лично или по поч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должно быть письменным, обоснованным и содержать следующие данны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ное имя/имена и фамилию, их вариан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вичью фамил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нь, месяц, год рожд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сто и страну рож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179280"/>
            <a:ext cx="8099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тальн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должно быть составлено на чешском языке или дополнено заверенным перево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пись заявителя должна быть заверенна у нотариуса, исключая случаи, когда заявитель подает заявление лично и подписывает его в присутствии сотрудника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министративный сбор за предоставление персонального номера составляет 1000 Кч. Его оплата осуществляется путем приобретения гербовой марки или денежным переводом на счет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ок рассмотрения  - 30 дней со дня получения заявления Министерством внутренних д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900000"/>
            <a:ext cx="816120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vcr.c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lužby pro veřejnost – Rady a služby - Dokumen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 : персональный но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valý pobyt :  разрешение на постоянное прожи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é pracoviště :  областной от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azylové a migrační politiky (OAMP MV) :  Департамент беженцев и миграцион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dělení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hůta na vyřízení / vyřízovací lhůta :  срок/и рассмот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tvar Policie ČR :  подразделение Пол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právní poplatek : административный с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ek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овая ма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25Z</dcterms:modified>
  <cp:revision>88</cp:revision>
  <dc:subject/>
  <dc:title>Snímek 1</dc:title>
</cp:coreProperties>
</file>