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C927-1805-46A8-9F45-5DA9E65E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821F-845F-4632-BE22-34C2ED57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E36-8AB2-49B5-86CC-7301BEF37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CA1-F19F-4067-8C32-927DCBED8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B5E-67FD-4723-BAAE-3E3CDFBD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8388-46AC-486D-A4A6-4030ED5FB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A3D0-1ACC-450A-AC34-123C1A35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4F14C-93E7-4301-9255-030146253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92F0-7111-4F4D-9739-943852A5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CF98-B3BE-47B3-BC12-C3D183AE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9AFA-B34D-4411-B674-41F181FE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9869-AEB1-4D09-8A76-D3871DEB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26EF-20E5-4EB1-8286-D67B17E5F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3752-E0B6-45AA-B435-CE5DD3DE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E766-40B3-4367-951B-B78AB7BA2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47CB-5859-4C05-92B8-0A5C993D0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C4E0-1A58-44A9-96D7-C29E3F6CD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00C3F-A241-4D2A-80B4-81B58DCA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B45A-EBEB-4E58-98AA-5777A0A44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217B-7A0E-4599-A7DC-9A49CF50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BA62-6800-4FB5-AFF9-46BBB75C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0B41-47FF-40D5-A327-8289B93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7DE-9C74-4296-9755-785297958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93D-3F34-41ED-A5B1-C25C6C3F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A984-D69F-4E78-A94B-5CB0B175E982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6C9F-E635-4878-8113-F23027F5CC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3031B-BD6A-4122-95A2-F5D8446C86C6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F8AFB-FDDC-404F-A751-5D6C40E20047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Zaměstn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Práce přesča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42920" y="1773360"/>
            <a:ext cx="75614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řízená práce přesčas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esm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u zaměstnance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činit více než 8 hodin v jednotlivých týdnech a 150 hodin v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kalendářním roce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(§ 93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ý rozsah práce přesčas nesmí činit v průměru více než 8 hodin týdně v období, které může činit nejvýše 26 týdnů po sobě jdoucí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ční práce je konaná mezi 22. a 6. hodin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§ 78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aměstnanec pracující v noci – během noční doby pravidelně odpracuje nejméně 3 hodiny ze své pracovní dob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íplatek nejméně 10% (§ 11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1116000" y="1268280"/>
          <a:ext cx="7273800" cy="499932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smlou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ợp đồ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stav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Điề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vat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ủ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městnan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gười lao động, nhân viê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mě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 làm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ời gian làm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ovědět smlouv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ậm dứt hợp đồ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kušební d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ời gian thử việ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1116000" y="1268280"/>
          <a:ext cx="7273800" cy="5426280"/>
        </p:xfrm>
        <a:graphic>
          <a:graphicData uri="http://schemas.openxmlformats.org/drawingml/2006/table">
            <a:tbl>
              <a:tblPr/>
              <a:tblGrid>
                <a:gridCol w="3889440"/>
                <a:gridCol w="33843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covní 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olen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ấy phép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řad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òng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volení k pobytu za účelem zaměstn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ấy phép cư trú với mục đích loa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ntura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ông ty mối giới lao độ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prostředkující služ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̣ch vu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8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8. Slovníč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ákladní porozumění pojmů zaměstnanec, pracovní smlou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ědomí o legislati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byt za účelem zaměstná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zaměstnaných cizin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covní příležitosti pro ciz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Právní úprava zaměstnávání cizinc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ladní právní norm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Ústava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Listina základních práv a svob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oník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kon o zaměstna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Zákoník práce a agenturní zaměstná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Závislá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racovně právní vztah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Povolení k obytu za účelem zaměstnávání/Pracovní povolení a Pracovní smlou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V případě zaměstnání u agentury práce nemají cizinci smlouvu s konkrétní továrnou, kde pracují, ale s agenturou prá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Zaměstnanec se nemůže vzdát svých 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Pracovní pomě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Postup před vznikem pracovního pomě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31 ZP – před uzavřením pracovní smlouvy je zaměstnavatel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vinen seznámi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fyzickou osob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právy a povinnostm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které by pro ni z pracovní smlouvy, popřípadě ze jmenování na pracovní místo vyplynuly, 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 pracovními podmínkami a podmínkami odměňování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 nichž má práci konat, a povinnostmi, které vyplývají ze zvláštních právních předpisů vztahujících se k práci, která má být předmětem pracovního pomě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Pracovní poměr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§ 32 ZP – v případech stanovených zvláštním právním předpisem je zaměstnavatel povinen zajistit, aby se fyzická osoba před uzavřením pracovní smlouvy podrobila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vstupní lékařské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rohlíd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Zkušební doba max. 3 měsí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Ukončení pracovního poměr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Skončení pracovního pomě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hodou (§ 4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povědí (§ 50 nebo § 5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kamžitým zrušením (§ 55, § 5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rušením ve zkušební době (§ 6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poměr na dobu určitou končí uplynutím sjednané doby (§ 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covní poměr cizince končí naví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rušením povolení k poby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vyhoště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uplynutím doby, na kterou je sjednáno pracovní pov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zrušením platnosti pracovního povol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Typy dohod - písemn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acích, konaných mimo pracovní pom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ovedení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A o pracov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7. Pracovní dob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élka stanovené týdenní pracovní dob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nesmí překročit 40 hodin týdně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§ 79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ximální týdenní pracovní doba včetně prací přesčas je 48 ho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směnné provozy – zkrácení až na 37,5 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i přesčas je možno konat jen výjimečn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áce konaná zaměstnancem na příkaz zaměstnavatele nebo s jeho souhlasem nad stanovenou týdenní pracovní dobu (§ 78/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48Z</dcterms:modified>
  <cp:revision>114</cp:revision>
  <dc:subject/>
  <dc:title>Snímek 1</dc:title>
</cp:coreProperties>
</file>