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B95E-5640-4412-9E66-4485B9C5A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18F9-686A-46DE-AE21-993642FE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610C-9FDB-45CA-8AB6-BF45C65D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A2AE-6411-4012-983A-FEA038CBB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C61C-0212-4179-B062-C03F533A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648C6-46C3-4E66-B918-C4B7313A3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55EF-CD71-4067-BF83-490E8C0C2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E2EA0-ECE6-48C6-9088-5DCCA84F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8B33-8F1D-4243-9507-1846E8500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75E7-0FF6-45D3-81D2-EBE5C29AB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8F71-EC3A-44B8-8ED5-F82FB4B88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58B21-E935-4B0E-A86C-9B7C4014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8706-46E8-4911-B955-9A70B8FF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9D33-7B59-44C8-93CE-F8999F26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0E66-8FEE-4936-A7A8-705088241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EB2D-B7FE-4678-9DE5-70F2ABE4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D3932-A303-4873-BB55-D9BE8C87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4D3E-F792-472B-8104-166ACE684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80AA-B30D-49CD-9419-78EF93B4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78A1-50F6-41F4-A8CC-22A7D084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2240-E632-43C6-8B7C-9A10DF094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5A41-8A0D-4E4F-A7D3-24AEB2D0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68A6-E698-48B5-B4F5-6EDC76A8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2EC1-4F4A-4C16-AE8D-D8B487C2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D499-E09C-4E20-9A6C-DF993C59016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69BD-CC4D-4F98-9AB8-3D5E0BB7C8D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109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1D0E-E5FF-484F-9754-21845B86E3FB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28D3-55D0-4D9F-B056-679D10EE2730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165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Tahoma"/>
              </a:rPr>
              <a:t>PODNIKÁ</a:t>
            </a:r>
            <a:r>
              <a:rPr b="1" lang="vi-VN" sz="3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cs-CZ" sz="3000" spc="-1" strike="noStrike">
                <a:solidFill>
                  <a:srgbClr val="000000"/>
                </a:solidFill>
                <a:latin typeface="Tahoma"/>
              </a:rPr>
              <a:t>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457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9. Formy společností (4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971640" y="1773360"/>
          <a:ext cx="7345440" cy="3322440"/>
        </p:xfrm>
        <a:graphic>
          <a:graphicData uri="http://schemas.openxmlformats.org/drawingml/2006/table">
            <a:tbl>
              <a:tblPr/>
              <a:tblGrid>
                <a:gridCol w="4464000"/>
                <a:gridCol w="28814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teřská (holdingová) společn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ông ty mẹ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ceřiná společn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ông ty 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oint-ventu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ên do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ld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ập đoà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chodní zastoupen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đại diện thương mạ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adnárodní korpora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ông ty đa quốc g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vropské hospodářské zájmové sdružen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hóm lợi ích kinh tế Châu Â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10. OSV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116000" y="1773360"/>
          <a:ext cx="7488360" cy="3840120"/>
        </p:xfrm>
        <a:graphic>
          <a:graphicData uri="http://schemas.openxmlformats.org/drawingml/2006/table">
            <a:tbl>
              <a:tblPr/>
              <a:tblGrid>
                <a:gridCol w="3384720"/>
                <a:gridCol w="41036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ozování živnost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ạt động kinh do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ivnostenské oprávněn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iấy phép kinh do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dentifikační číslo (IČ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ã đăng ký kinh do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ísto podnikán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địa điểm kinh do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ozov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địa điểm hoạt động kinh do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dpovědná osob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gười chịu trách nhiệ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vozní dob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ời gian hoạt độ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evírací dob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ời gian mở cử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ivnostenský rejstří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nh bạ kinh do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673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11. Úřady a institu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16000" y="1773360"/>
          <a:ext cx="7488360" cy="4174920"/>
        </p:xfrm>
        <a:graphic>
          <a:graphicData uri="http://schemas.openxmlformats.org/drawingml/2006/table">
            <a:tbl>
              <a:tblPr/>
              <a:tblGrid>
                <a:gridCol w="4032360"/>
                <a:gridCol w="34560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gistra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đăng k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ňové identifikační čísl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ã số thu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rávce daně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ơ quan thu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ráva sociálního zabezpečen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hòng bảo hiểm xã hội (an sinh xã hội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ciální pojištěn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ảo hiểm xã hộ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dravotní pojišťov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ãng bảo hiểm y t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ňové přiznán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ờ khai thu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tební výmě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ấn định thu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řehled o příjmech a výdají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ờ tổng quát thu ch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14320" y="333360"/>
            <a:ext cx="652932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12. Účetnictv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116000" y="1773360"/>
          <a:ext cx="7488360" cy="4267080"/>
        </p:xfrm>
        <a:graphic>
          <a:graphicData uri="http://schemas.openxmlformats.org/drawingml/2006/table">
            <a:tbl>
              <a:tblPr/>
              <a:tblGrid>
                <a:gridCol w="4032360"/>
                <a:gridCol w="34560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kl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hứng từ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aktur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óa đơ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účtenka / parag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hiếu bán hà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áznam trže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hi chép doanh th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účetnictv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ế toá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dvojné účetnictv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ế toán ké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ňová evid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hi chép thu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účetní uzávěrk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hóa sổ thuế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ozvah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ảng cân đố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ýka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ảng quyết toá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-mail liên h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a.kocoure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@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oc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goc@tuvan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1. Základní poj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042920" y="2708280"/>
          <a:ext cx="7632720" cy="3413160"/>
        </p:xfrm>
        <a:graphic>
          <a:graphicData uri="http://schemas.openxmlformats.org/drawingml/2006/table">
            <a:tbl>
              <a:tblPr/>
              <a:tblGrid>
                <a:gridCol w="3097440"/>
                <a:gridCol w="45352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ivn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oạt động kinh do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ivnostenský úř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hòng kinh do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ivnostenský zák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ộ luật kinh do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ivnost ohlašovac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h doanh thông bá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ivnost voln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h doanh tự 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ivnost řemesln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h doanh thủ cô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ivnost vázan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h doanh phụ thuộ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živnost koncesovan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inh doanh có chứng chỉ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8" name="Text Box 92"/>
          <p:cNvSpPr/>
          <p:nvPr/>
        </p:nvSpPr>
        <p:spPr>
          <a:xfrm>
            <a:off x="971640" y="1700280"/>
            <a:ext cx="77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ivnost: Soustavná činnost provozovaná samostatně, vlastním jménem, na vlastní odpovědnost, za účelem dosažení zisku a podmínek stanovených živnostenským zákon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2. Subjek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116000" y="1773360"/>
          <a:ext cx="7273800" cy="3840120"/>
        </p:xfrm>
        <a:graphic>
          <a:graphicData uri="http://schemas.openxmlformats.org/drawingml/2006/table">
            <a:tbl>
              <a:tblPr/>
              <a:tblGrid>
                <a:gridCol w="3311640"/>
                <a:gridCol w="39621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yzická osob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á nhâ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ávnická osob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háp nhâ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lečn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ông ty, hã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chodní fir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ương hiệu, tên công 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dnikat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anh nhân, doanh nghiệ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SVČ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gười kinh doanh cá thể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česká osob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đối tượng Sé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hraniční osob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đối tượng nước ngoà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dpovědný zástup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đại diện trách nhiệ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3. Poj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116000" y="1773360"/>
          <a:ext cx="7273800" cy="3840120"/>
        </p:xfrm>
        <a:graphic>
          <a:graphicData uri="http://schemas.openxmlformats.org/drawingml/2006/table">
            <a:tbl>
              <a:tblPr/>
              <a:tblGrid>
                <a:gridCol w="3311640"/>
                <a:gridCol w="396216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dávajíc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gười bá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třebit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gười tiêu dù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ýrobe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ản phẩ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lužb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ịch v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ýrob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hà sản xuấ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voz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hà nhập khẩ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davat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hà cung ứ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e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iá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ratný ob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o bì trả lại đượ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4. Vzta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116000" y="1773360"/>
          <a:ext cx="7488360" cy="384012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chodní smlouv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ợp đồng thương mạ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podle občanského záko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theo Bộ luật dân s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podle obchodního záko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theo Bộ luật thương mạ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tne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đối tá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ákazní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hách hà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hledávk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hoản phải đò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ávaze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hoản phải tr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lu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hoản n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áruk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ảo hà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14320" y="333360"/>
            <a:ext cx="652932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5. Obchodní společnost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116000" y="1773360"/>
          <a:ext cx="7488360" cy="4267080"/>
        </p:xfrm>
        <a:graphic>
          <a:graphicData uri="http://schemas.openxmlformats.org/drawingml/2006/table">
            <a:tbl>
              <a:tblPr/>
              <a:tblGrid>
                <a:gridCol w="3743280"/>
                <a:gridCol w="37450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ložení a vzni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ành lập và xuất hiệ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kladat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gười thành lậ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lečenská smlouv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ợp đồng thành lập công 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kladatelská listin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ăn bản thành lập công 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tářský záp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ăn bản công chứ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ázev společnost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ên công ty / hã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tatutární orgá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ơ quan đại diệ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ídl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ụ s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ákladní kapitál (jmění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ốn pháp đị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chodní rejstří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nh bạ thương mạ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602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6. Formy společností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971640" y="1773360"/>
          <a:ext cx="7777080" cy="3749400"/>
        </p:xfrm>
        <a:graphic>
          <a:graphicData uri="http://schemas.openxmlformats.org/drawingml/2006/table">
            <a:tbl>
              <a:tblPr/>
              <a:tblGrid>
                <a:gridCol w="3963960"/>
                <a:gridCol w="381312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lečnost s ručením omezený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ông ty trách nhiệm hữu hạ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leční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ành viên công 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ednate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đại diện công ty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ná hromad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ội đồng thành viê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chodní podí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hần vốn gó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kla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hoản góp vố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673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7. Formy společností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116000" y="1773360"/>
          <a:ext cx="7488360" cy="384012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kciová společn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ông ty cổ phầ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kci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ổ phiế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kcionář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ổ đô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lná hromad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ội đồng cổ đô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ředstavenstv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ội đồng quản tr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zorčí rad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ội đồng giám sá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vidend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ổ tứ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rz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àn chứng khoá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ise akcií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hát hành cổ phiế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602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8. Formy společností (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116000" y="1773360"/>
          <a:ext cx="7488360" cy="426708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manditní společn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ông ty hợp d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mandis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ành viên góp vố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mplementář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ành viên hợp dan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řejná obchodní společn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ty thương mại công cộ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polečníc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ác thành viê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vropská společnos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ông ty Châu Â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užstv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ợp tác x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členská schůz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ọp xã viê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ředstavenstv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n quản tr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ntrolní komis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cs-CZ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ội đồng kiểm tr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5:13Z</dcterms:modified>
  <cp:revision>103</cp:revision>
  <dc:subject/>
  <dc:title>Snímek 1</dc:title>
</cp:coreProperties>
</file>