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6195-AED8-4B04-AA82-62D176202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7B88-E9BD-4989-BDE7-948F917AA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E2DA-5E54-451E-9DB2-E9E218347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60BB-CB3D-4CF5-8052-5579A5285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96B8-0ECA-4653-A625-145BE25E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1B16-A315-49AF-91DB-876FE018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C0D98-3BC8-496D-9F11-AD11A587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B725F-B61D-4185-93AF-8C5A82513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90C8-55A1-4314-A1BB-3EE0F001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5A0B-49E9-4662-A041-2BE6E53A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1101-2321-495B-BAAD-4A84AF93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3CC2-F11F-430E-BC15-31B57EBD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BD63-65CC-4CF9-9A71-95D815C5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942E-21E5-4545-9D9C-69A10CB3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D49A-6526-4EF2-8BAD-3838AA9F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97D4-66A6-4B82-B339-BBA93B89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A870-55D4-40D8-9FA8-51D07A1FF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31855-969F-49F4-B1A6-6D1D2210A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2827-7B8E-439F-BFA6-997B74D6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7FE4-B6AD-4F75-A88C-45FA0CD6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F0CF-D4E5-4674-B0BB-1D1B96DB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E89B-3E41-4B27-9286-5DA3308A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D2F7-5116-4870-8AED-FB22A450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656A-52EB-471D-BD5A-3404B12A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DA53-1A53-4AC0-BD6B-A109D591B7E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77262-C6F0-44DA-B2AA-AB32FE62124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55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110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8844-4B81-4358-B8D7-85DB0C3AB4E6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E11D-A5F5-490E-80C1-7DEF6C944642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166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856880" y="3890520"/>
            <a:ext cx="65725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éma: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 Zdravotnictv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7. Gynekologie (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971640" y="1550880"/>
          <a:ext cx="7746840" cy="4478400"/>
        </p:xfrm>
        <a:graphic>
          <a:graphicData uri="http://schemas.openxmlformats.org/drawingml/2006/table">
            <a:tbl>
              <a:tblPr/>
              <a:tblGrid>
                <a:gridCol w="4003560"/>
                <a:gridCol w="3743280"/>
              </a:tblGrid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ynekol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ác sĩ phụ kho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ěhotenstv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g th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moděložní těhotenstv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i ngoài dạ c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et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ụ th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hlavní orgá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ộ phận sinh dụ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gí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Âm đạ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ěloh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ử cu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jcovo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Ống dẫn trứ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ječník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ồng trứ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7. Gynekologie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971640" y="1628640"/>
          <a:ext cx="7746840" cy="4478400"/>
        </p:xfrm>
        <a:graphic>
          <a:graphicData uri="http://schemas.openxmlformats.org/drawingml/2006/table">
            <a:tbl>
              <a:tblPr/>
              <a:tblGrid>
                <a:gridCol w="4003560"/>
                <a:gridCol w="3743280"/>
              </a:tblGrid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ěložní číp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ổ tử cu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hlavní sty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 hệ tình dụ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hlavní choro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ệnh tình dụ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eplodnost/Sterili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ô sin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sistovaná reproduk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ỗ trợ sinh sả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mělé oplodně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ụ tinh nhân tạ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mbry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ôi th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Pl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ào th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trat/Interrup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ẩy thai/phá th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Arial"/>
              </a:rPr>
              <a:t>8. Mateřství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971640" y="1628640"/>
          <a:ext cx="7746840" cy="4413240"/>
        </p:xfrm>
        <a:graphic>
          <a:graphicData uri="http://schemas.openxmlformats.org/drawingml/2006/table">
            <a:tbl>
              <a:tblPr/>
              <a:tblGrid>
                <a:gridCol w="4003560"/>
                <a:gridCol w="374328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rodni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ệnh viện sả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ro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h con/đẻ c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ředčasný poro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ẻ 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rod koncem pánevním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h ngược chân ra trướ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ísařský řez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ẻ m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ontrakc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 thắ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rodní bolest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au đ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Arial"/>
              </a:rPr>
              <a:t>8. Mateřství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971640" y="1628640"/>
          <a:ext cx="7746840" cy="4413240"/>
        </p:xfrm>
        <a:graphic>
          <a:graphicData uri="http://schemas.openxmlformats.org/drawingml/2006/table">
            <a:tbl>
              <a:tblPr/>
              <a:tblGrid>
                <a:gridCol w="4003560"/>
                <a:gridCol w="374328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lacent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u th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upeční šňůr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ây rố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Šestinedělí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Ở c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ojenecká žloutenk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àng da trẻ sơ sin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ojení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o con b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eněžitá pomoc v mateřství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ỗ trợ tiền mặt nghỉ đ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odičovský příspěvek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ợ cấp nghỉ đ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rodné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ợ cấp sinh c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řídavek na dítě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ợ cấp nuôi c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Arial"/>
              </a:rPr>
              <a:t>9. Zdravotní pojiště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971640" y="1628640"/>
          <a:ext cx="7746840" cy="3564000"/>
        </p:xfrm>
        <a:graphic>
          <a:graphicData uri="http://schemas.openxmlformats.org/drawingml/2006/table">
            <a:tbl>
              <a:tblPr/>
              <a:tblGrid>
                <a:gridCol w="4003560"/>
                <a:gridCol w="37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eřejné zdr. pojiště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ảo hiểm y tế công cộ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omerční zdr. pojiště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ảo hiểm y tế thương mạ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Čekací do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ời gian chờ đợ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Začátek pojistného plně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ắt đầu trả bảo hiể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E-mail liên hệ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jirka.kocourek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@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jirkoc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ngoc@tuvan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1. Úv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1042920" y="1773360"/>
            <a:ext cx="7561440" cy="38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stituty a zaříz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ladní lékařské poj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ubní lékařs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ediat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ktický léka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gynekolog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teřstv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dravotní pojišt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Arial"/>
              </a:rPr>
              <a:t>2. Instituty a zaříz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971640" y="1628640"/>
          <a:ext cx="7704000" cy="4478400"/>
        </p:xfrm>
        <a:graphic>
          <a:graphicData uri="http://schemas.openxmlformats.org/drawingml/2006/table">
            <a:tbl>
              <a:tblPr/>
              <a:tblGrid>
                <a:gridCol w="4248000"/>
                <a:gridCol w="3456000"/>
              </a:tblGrid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nisterstvo zdravotnictv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ộ Y t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mocn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ệnh việ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klinik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ệnh viện đa kho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kultní nemocn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ệnh viện Khoa 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bul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ám ngoại tr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hotov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ực cấp cứ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éčeb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ện điều tr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ázn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ối nước khoá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otní záchranná služ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ứu thươ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3. Základní pojm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971640" y="1628640"/>
          <a:ext cx="7704000" cy="4478400"/>
        </p:xfrm>
        <a:graphic>
          <a:graphicData uri="http://schemas.openxmlformats.org/drawingml/2006/table">
            <a:tbl>
              <a:tblPr/>
              <a:tblGrid>
                <a:gridCol w="3887640"/>
                <a:gridCol w="3816360"/>
              </a:tblGrid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moc/choro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ăn bện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mptom/přízn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ệu chứ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dro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ội chứ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gnóz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ẩn đo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éč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iều tr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bulantní léč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iều trị ngoại tr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spitaliz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ằm việ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ẫu thuậ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habilit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ồi sứ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4. Zubní lékařství (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971640" y="1628640"/>
          <a:ext cx="7704000" cy="4044960"/>
        </p:xfrm>
        <a:graphic>
          <a:graphicData uri="http://schemas.openxmlformats.org/drawingml/2006/table">
            <a:tbl>
              <a:tblPr/>
              <a:tblGrid>
                <a:gridCol w="3887640"/>
                <a:gridCol w="3816360"/>
              </a:tblGrid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ubař/stomatolo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a s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u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ái ră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ub moudros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ăng khô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ru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ăng/hàm ră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ásn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ợ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ubní ká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 ră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ubní pl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ựa ră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ubní ka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ăng sâ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4. Zubní lékařství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971640" y="1628640"/>
          <a:ext cx="7704000" cy="3108600"/>
        </p:xfrm>
        <a:graphic>
          <a:graphicData uri="http://schemas.openxmlformats.org/drawingml/2006/table">
            <a:tbl>
              <a:tblPr/>
              <a:tblGrid>
                <a:gridCol w="3887640"/>
                <a:gridCol w="3816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vnát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òng chỉnh ră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om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àn ră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ubní implantá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ăng gi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ubní vrtač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ái khoan ră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ubní můst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ầu ră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ubní prohlíd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ám ră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5. Pediatri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971640" y="1628640"/>
          <a:ext cx="7704000" cy="4145040"/>
        </p:xfrm>
        <a:graphic>
          <a:graphicData uri="http://schemas.openxmlformats.org/drawingml/2006/table">
            <a:tbl>
              <a:tblPr/>
              <a:tblGrid>
                <a:gridCol w="3887640"/>
                <a:gridCol w="3816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orozene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ẻ sơ sin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jene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ẻ đang b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to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ẻ nh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ětský léka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ác sĩ nh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ventivní prohlíd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ám định k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čková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êm chủ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čkovací kalendá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ịch tiêm chủ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ětská nemo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ệnh trẻ 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14320" y="333360"/>
            <a:ext cx="652932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5. Pediatrie - dětské nemoc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971640" y="1628640"/>
          <a:ext cx="7704000" cy="4535640"/>
        </p:xfrm>
        <a:graphic>
          <a:graphicData uri="http://schemas.openxmlformats.org/drawingml/2006/table">
            <a:tbl>
              <a:tblPr/>
              <a:tblGrid>
                <a:gridCol w="3887640"/>
                <a:gridCol w="3816360"/>
              </a:tblGrid>
              <a:tr h="4755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šk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ạch hầ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an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ốn v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ávivý kaš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 g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ětská obr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ại liệt trẻ e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alnič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ở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loutenka typu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êm gan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B (Haemophilus influenzae typu 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úm Hi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64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ušni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i b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rděnk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ởi Đức (Rubell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6. Praktický léka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971640" y="1550880"/>
          <a:ext cx="7746840" cy="4621320"/>
        </p:xfrm>
        <a:graphic>
          <a:graphicData uri="http://schemas.openxmlformats.org/drawingml/2006/table">
            <a:tbl>
              <a:tblPr/>
              <a:tblGrid>
                <a:gridCol w="4003560"/>
                <a:gridCol w="374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ăng k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din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òng khá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rtoté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ủ hồ sơ bệnh 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ulační poplat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ệ phí điều chỉn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ci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ệnh nhâ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bornost (001, 002, 00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uyên ngàn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esta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ứng ch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ơn thuố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schopen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ấy nghỉ ố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5:58Z</dcterms:modified>
  <cp:revision>110</cp:revision>
  <dc:subject/>
  <dc:title>Snímek 1</dc:title>
</cp:coreProperties>
</file>