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D5E0-5EA1-4F06-8421-421863118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9E84-AEA7-4A30-845E-8482E0721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A691-8489-4B42-A1CF-1BF013DD0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22D1-B137-4512-A649-B9B37586C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FA04-CEA1-4212-B19F-5447305F8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34EF-B8EF-426C-BF86-A89110D9F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30D7-B468-4317-ABE8-17AF18844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B2FF0-7783-4FC4-BB9E-828CA4499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A82F-586D-4920-8B13-97783F9BE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A3318-501D-41DC-8D20-BDD737CA3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3580C-86EB-4143-A21E-7A8E24113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F3C85-E3F0-4757-A6FC-C249EEBCD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908CB-583E-454D-97CA-FF695B528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0F60A-C70B-47C3-A51A-3392FEEE2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14738-15CE-431E-99F3-77087C1D9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21EE6-BE5F-42DD-8584-7A38C3F47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70D80-2625-454A-AEA1-58ECA9F96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04695-8C8E-4C14-823A-D0E769A79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F69F1-0880-4AB5-81F6-FAA2E99C5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F4D3-E457-44E5-9CD2-FC71AD115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51A29-B16B-45F5-A2DB-D27F400BE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666D-DB0F-47BC-BDCD-FC09F5C3A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B846-9EFA-4420-B04C-88164305D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EC2A-34F8-4128-A38F-ACAE4C33B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5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6F616-1555-48D7-B8B1-66005AF5BC3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9D293-0E7D-465C-91BF-9A635019E2A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aoblený obdélník 21"/>
          <p:cNvSpPr/>
          <p:nvPr/>
        </p:nvSpPr>
        <p:spPr>
          <a:xfrm>
            <a:off x="2928960" y="3886200"/>
            <a:ext cx="58579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kitka_meta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kitka_meta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kitka_meta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2" descr="logo_meta_1_tmavší_FIN"/>
          <p:cNvPicPr/>
          <p:nvPr/>
        </p:nvPicPr>
        <p:blipFill>
          <a:blip r:embed="rId5"/>
          <a:stretch/>
        </p:blipFill>
        <p:spPr>
          <a:xfrm>
            <a:off x="2916360" y="2109960"/>
            <a:ext cx="4392360" cy="1560240"/>
          </a:xfrm>
          <a:prstGeom prst="rect">
            <a:avLst/>
          </a:prstGeom>
          <a:ln w="0">
            <a:noFill/>
          </a:ln>
        </p:spPr>
      </p:pic>
      <p:pic>
        <p:nvPicPr>
          <p:cNvPr id="54" name="Obrázek 19" descr="logoMPSV-c-sm.jpg"/>
          <p:cNvPicPr/>
          <p:nvPr/>
        </p:nvPicPr>
        <p:blipFill>
          <a:blip r:embed="rId6"/>
          <a:stretch/>
        </p:blipFill>
        <p:spPr>
          <a:xfrm>
            <a:off x="7451640" y="115920"/>
            <a:ext cx="1427400" cy="14698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Zaoblený obdélník 2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kitka_meta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2" descr="logo_meta_1_tmavší_FIN"/>
          <p:cNvPicPr/>
          <p:nvPr/>
        </p:nvPicPr>
        <p:blipFill>
          <a:blip r:embed="rId3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kitka_meta"/>
          <p:cNvPicPr/>
          <p:nvPr/>
        </p:nvPicPr>
        <p:blipFill>
          <a:blip r:embed="rId4"/>
          <a:stretch/>
        </p:blipFill>
        <p:spPr>
          <a:xfrm>
            <a:off x="1390680" y="5700600"/>
            <a:ext cx="457200" cy="439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kitka_meta"/>
          <p:cNvPicPr/>
          <p:nvPr/>
        </p:nvPicPr>
        <p:blipFill>
          <a:blip r:embed="rId5"/>
          <a:stretch/>
        </p:blipFill>
        <p:spPr>
          <a:xfrm>
            <a:off x="1720800" y="5373720"/>
            <a:ext cx="347760" cy="334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kitka_meta"/>
          <p:cNvPicPr/>
          <p:nvPr/>
        </p:nvPicPr>
        <p:blipFill>
          <a:blip r:embed="rId6"/>
          <a:stretch/>
        </p:blipFill>
        <p:spPr>
          <a:xfrm>
            <a:off x="928800" y="4857840"/>
            <a:ext cx="792000" cy="760320"/>
          </a:xfrm>
          <a:prstGeom prst="rect">
            <a:avLst/>
          </a:prstGeom>
          <a:ln w="0">
            <a:noFill/>
          </a:ln>
        </p:spPr>
      </p:pic>
      <p:pic>
        <p:nvPicPr>
          <p:cNvPr id="107" name="Obrázek 20" descr="logoMPSV-c-sm.jpg"/>
          <p:cNvPicPr/>
          <p:nvPr/>
        </p:nvPicPr>
        <p:blipFill>
          <a:blip r:embed="rId7"/>
          <a:stretch/>
        </p:blipFill>
        <p:spPr>
          <a:xfrm>
            <a:off x="7308720" y="260280"/>
            <a:ext cx="1425600" cy="14702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Zaoblený obdélník 2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kitka_meta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kitka_meta"/>
          <p:cNvPicPr/>
          <p:nvPr/>
        </p:nvPicPr>
        <p:blipFill>
          <a:blip r:embed="rId3"/>
          <a:stretch/>
        </p:blipFill>
        <p:spPr>
          <a:xfrm>
            <a:off x="871560" y="4311720"/>
            <a:ext cx="639720" cy="614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kitka_meta"/>
          <p:cNvPicPr/>
          <p:nvPr/>
        </p:nvPicPr>
        <p:blipFill>
          <a:blip r:embed="rId4"/>
          <a:stretch/>
        </p:blipFill>
        <p:spPr>
          <a:xfrm>
            <a:off x="1000080" y="5072040"/>
            <a:ext cx="1143000" cy="1098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2" descr="logo_meta_1_tmavší_FIN"/>
          <p:cNvPicPr/>
          <p:nvPr/>
        </p:nvPicPr>
        <p:blipFill>
          <a:blip r:embed="rId5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59" name="Obrázek 19" descr="logoMPSV-c-sm.jpg"/>
          <p:cNvPicPr/>
          <p:nvPr/>
        </p:nvPicPr>
        <p:blipFill>
          <a:blip r:embed="rId6"/>
          <a:stretch/>
        </p:blipFill>
        <p:spPr>
          <a:xfrm>
            <a:off x="7524720" y="189000"/>
            <a:ext cx="1425600" cy="146844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Zaoblený obdélník 26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711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bdélník 7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bdélník 8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bdélník 17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římá spojovací čára 18"/>
          <p:cNvSpPr/>
          <p:nvPr/>
        </p:nvSpPr>
        <p:spPr>
          <a:xfrm flipH="1">
            <a:off x="855720" y="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kitka_meta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" descr="kitka_meta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214" name="Obrázek 22" descr="logoMPSV-c-sm.jpg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17CC0-99F3-47B5-B37B-CCC7677AF242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6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CA650-22A1-4184-B9F6-793DE3395B63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Zaoblený obdélník 21"/>
          <p:cNvSpPr/>
          <p:nvPr/>
        </p:nvSpPr>
        <p:spPr>
          <a:xfrm>
            <a:off x="2928960" y="3214800"/>
            <a:ext cx="5857920" cy="24573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Nadpis 1"/>
          <p:cNvSpPr/>
          <p:nvPr/>
        </p:nvSpPr>
        <p:spPr>
          <a:xfrm>
            <a:off x="1643040" y="1500120"/>
            <a:ext cx="728676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990033"/>
                </a:solidFill>
                <a:latin typeface="Verdana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5" descr="kitka_meta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5" descr="kitka_meta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5" descr="kitka_meta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22" descr="logo_meta_1_tmavší_FIN"/>
          <p:cNvPicPr/>
          <p:nvPr/>
        </p:nvPicPr>
        <p:blipFill>
          <a:blip r:embed="rId5"/>
          <a:stretch/>
        </p:blipFill>
        <p:spPr>
          <a:xfrm>
            <a:off x="6635880" y="5877000"/>
            <a:ext cx="2160360" cy="766800"/>
          </a:xfrm>
          <a:prstGeom prst="rect">
            <a:avLst/>
          </a:prstGeom>
          <a:ln w="0">
            <a:noFill/>
          </a:ln>
        </p:spPr>
      </p:pic>
      <p:pic>
        <p:nvPicPr>
          <p:cNvPr id="270" name="Obrázek 20" descr="logoMPSV-c-sm.jpg"/>
          <p:cNvPicPr/>
          <p:nvPr/>
        </p:nvPicPr>
        <p:blipFill>
          <a:blip r:embed="rId6"/>
          <a:stretch/>
        </p:blipFill>
        <p:spPr>
          <a:xfrm>
            <a:off x="7596360" y="115920"/>
            <a:ext cx="1427040" cy="146988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2928960" y="3886200"/>
            <a:ext cx="585792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Sociální tlumočení ve styku s cizin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0" name="Obrázek 2" descr="logo.gif"/>
          <p:cNvPicPr/>
          <p:nvPr/>
        </p:nvPicPr>
        <p:blipFill>
          <a:blip r:embed="rId1"/>
          <a:stretch/>
        </p:blipFill>
        <p:spPr>
          <a:xfrm>
            <a:off x="1619280" y="189000"/>
            <a:ext cx="29620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0033"/>
                </a:solidFill>
                <a:latin typeface="Verdana"/>
              </a:rPr>
              <a:t>6. Výda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1116000" y="1773360"/>
          <a:ext cx="7488360" cy="4144680"/>
        </p:xfrm>
        <a:graphic>
          <a:graphicData uri="http://schemas.openxmlformats.org/drawingml/2006/table">
            <a:tbl>
              <a:tblPr/>
              <a:tblGrid>
                <a:gridCol w="3816360"/>
                <a:gridCol w="3672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ergi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ăng lượ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ektři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điệ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y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hí đố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tápě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ưở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p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hiệt sưở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odné a stočn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ước dùng và thả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45" name="Obrázek 4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0033"/>
                </a:solidFill>
                <a:latin typeface="Verdana"/>
              </a:rPr>
              <a:t>7. Okol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1116000" y="1773360"/>
          <a:ext cx="7488360" cy="4054320"/>
        </p:xfrm>
        <a:graphic>
          <a:graphicData uri="http://schemas.openxmlformats.org/drawingml/2006/table">
            <a:tbl>
              <a:tblPr/>
              <a:tblGrid>
                <a:gridCol w="3816360"/>
                <a:gridCol w="3672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movní řá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ội quy nhà 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novy družstv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điều lệ hợp tác x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s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àng xó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lečenství vlastníků jednotek (SVJ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ệp hội các chủ h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lečný prost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hông gian chu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kle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ho chứ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ráv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gười quản l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49" name="Obrázek 4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0033"/>
                </a:solidFill>
                <a:latin typeface="Verdana"/>
              </a:rPr>
              <a:t>8. Odp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1116000" y="1773360"/>
          <a:ext cx="7488360" cy="5995800"/>
        </p:xfrm>
        <a:graphic>
          <a:graphicData uri="http://schemas.openxmlformats.org/drawingml/2006/table">
            <a:tbl>
              <a:tblPr/>
              <a:tblGrid>
                <a:gridCol w="3960720"/>
                <a:gridCol w="3527640"/>
              </a:tblGrid>
              <a:tr h="572760">
                <a:tc>
                  <a:txBody>
                    <a:bodyPr lIns="90000" rIns="90000" tIns="50040" bIns="50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munální odpad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0040" bIns="50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ác thải sinh hoạt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2760">
                <a:tc>
                  <a:txBody>
                    <a:bodyPr lIns="90000" rIns="90000" tIns="50040" bIns="50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vební odpad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0040" bIns="50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ác thải xây dựng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45080">
                <a:tc>
                  <a:txBody>
                    <a:bodyPr lIns="90000" rIns="90000" tIns="50040" bIns="50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jemný odpad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0040" bIns="50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ác thải kích thước lớn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2760">
                <a:tc>
                  <a:txBody>
                    <a:bodyPr lIns="90000" rIns="90000" tIns="50040" bIns="50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elnice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0040" bIns="50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ùng rác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45080">
                <a:tc>
                  <a:txBody>
                    <a:bodyPr lIns="90000" rIns="90000" tIns="50040" bIns="50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lkoobjemový kontejner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0040" bIns="50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ông chứa rác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2760">
                <a:tc>
                  <a:txBody>
                    <a:bodyPr lIns="90000" rIns="90000" tIns="50040" bIns="50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říděný odpad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0040" bIns="50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ác thải phân loại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45080">
                <a:tc>
                  <a:txBody>
                    <a:bodyPr lIns="90000" rIns="90000" tIns="50040" bIns="50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doby na tříděný odpad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0040" bIns="50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ùng chứa rác thải phân loại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2760">
                <a:tc>
                  <a:txBody>
                    <a:bodyPr lIns="90000" rIns="90000" tIns="50040" bIns="50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0040" bIns="500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53" name="Obrázek 4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0033"/>
                </a:solidFill>
                <a:latin typeface="Verdana"/>
              </a:rPr>
              <a:t>9. Tříděný odp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1116000" y="1773360"/>
          <a:ext cx="7488360" cy="3627360"/>
        </p:xfrm>
        <a:graphic>
          <a:graphicData uri="http://schemas.openxmlformats.org/drawingml/2006/table">
            <a:tbl>
              <a:tblPr/>
              <a:tblGrid>
                <a:gridCol w="3816360"/>
                <a:gridCol w="3672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pí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iấ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k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ủy tin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ất dẻ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odp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ác thải sinh họ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pojové karton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ộp giấy đựng đồ uố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57" name="Obrázek 4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1856880" y="3890520"/>
            <a:ext cx="657252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dej a koupě nemovitost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9" name="Obrázek 3" descr="logo.gif"/>
          <p:cNvPicPr/>
          <p:nvPr/>
        </p:nvPicPr>
        <p:blipFill>
          <a:blip r:embed="rId1"/>
          <a:stretch/>
        </p:blipFill>
        <p:spPr>
          <a:xfrm>
            <a:off x="1619280" y="189000"/>
            <a:ext cx="29620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0033"/>
                </a:solidFill>
                <a:latin typeface="Verdana"/>
              </a:rPr>
              <a:t>10. Základní pojm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1116000" y="1557360"/>
          <a:ext cx="7488360" cy="5059440"/>
        </p:xfrm>
        <a:graphic>
          <a:graphicData uri="http://schemas.openxmlformats.org/drawingml/2006/table">
            <a:tbl>
              <a:tblPr/>
              <a:tblGrid>
                <a:gridCol w="3600360"/>
                <a:gridCol w="3888000"/>
              </a:tblGrid>
              <a:tr h="573480">
                <a:tc>
                  <a:txBody>
                    <a:bodyPr lIns="90000" rIns="900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upní smlouva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ợp đồng mua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3480">
                <a:tc>
                  <a:txBody>
                    <a:bodyPr lIns="90000" rIns="900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ávající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ên bán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3480">
                <a:tc>
                  <a:txBody>
                    <a:bodyPr lIns="90000" rIns="900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upující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ên mua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3480">
                <a:tc>
                  <a:txBody>
                    <a:bodyPr lIns="90000" rIns="900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tastr nemovitosti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nh bạ bất động sản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3480">
                <a:tc>
                  <a:txBody>
                    <a:bodyPr lIns="90000" rIns="900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nalecký posudek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đánh giá chuyên viên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3480">
                <a:tc>
                  <a:txBody>
                    <a:bodyPr lIns="90000" rIns="900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vrh na vklad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đề nghị ghi tên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45800">
                <a:tc>
                  <a:txBody>
                    <a:bodyPr lIns="90000" rIns="900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ápis do katastru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hi danh bạ bất động sản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3480">
                <a:tc>
                  <a:txBody>
                    <a:bodyPr lIns="90000" rIns="900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schova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3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ửi tiền giữ hộ</a:t>
                      </a:r>
                      <a:endParaRPr b="0" lang="en-US" sz="3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63" name="Obrázek 4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2935440" y="3213000"/>
            <a:ext cx="5822640" cy="242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E-mail liên hệ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jirka.kocourek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@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jirkoc.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ngoc@tuvan.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5" name="Obrázek 3" descr="logo.gif"/>
          <p:cNvPicPr/>
          <p:nvPr/>
        </p:nvPicPr>
        <p:blipFill>
          <a:blip r:embed="rId1"/>
          <a:stretch/>
        </p:blipFill>
        <p:spPr>
          <a:xfrm>
            <a:off x="1619280" y="189000"/>
            <a:ext cx="29620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1856880" y="3890520"/>
            <a:ext cx="657252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000" spc="-1" strike="noStrike">
                <a:solidFill>
                  <a:srgbClr val="000000"/>
                </a:solidFill>
                <a:latin typeface="Verdana"/>
              </a:rPr>
              <a:t>BYDLEN</a:t>
            </a: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Obrázek 2" descr="logo.gif"/>
          <p:cNvPicPr/>
          <p:nvPr/>
        </p:nvPicPr>
        <p:blipFill>
          <a:blip r:embed="rId1"/>
          <a:stretch/>
        </p:blipFill>
        <p:spPr>
          <a:xfrm>
            <a:off x="1619280" y="189000"/>
            <a:ext cx="2962080" cy="1484280"/>
          </a:xfrm>
          <a:prstGeom prst="rect">
            <a:avLst/>
          </a:prstGeom>
          <a:ln w="0">
            <a:noFill/>
          </a:ln>
        </p:spPr>
      </p:pic>
      <p:sp>
        <p:nvSpPr>
          <p:cNvPr id="313" name="Rectangle 3"/>
          <p:cNvSpPr/>
          <p:nvPr/>
        </p:nvSpPr>
        <p:spPr>
          <a:xfrm>
            <a:off x="2340000" y="5951160"/>
            <a:ext cx="568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Calibri"/>
              </a:rPr>
              <a:t>nájemní smlouva, výpovědní lhůta, jednotlivé poplatky, úklid, domovní řá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ÚVO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1042560" y="1714320"/>
            <a:ext cx="77439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áležitosti nájemní a kupní smlouv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Identifikace subjektů ve smlouvě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působ platby a komunika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Adresa a právní důsledky registrace adresy trvalého bydliště či místa podnikání či provozovn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řeklad adres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blémy se smlouvami a hlášením trvalého bydliště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Zástupný symbol pro zápatí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Obrázek 5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1. Základní pojm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1476360" y="1773360"/>
          <a:ext cx="6767640" cy="4144680"/>
        </p:xfrm>
        <a:graphic>
          <a:graphicData uri="http://schemas.openxmlformats.org/drawingml/2006/table">
            <a:tbl>
              <a:tblPr/>
              <a:tblGrid>
                <a:gridCol w="3384720"/>
                <a:gridCol w="33829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ydle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hà 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bytová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ng cấp chỗ 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ytový prost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hông gian để 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ytová jednotk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đơn vị nhà 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dinný dů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hà riê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nelový dů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hà lắp ghé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inžovní dů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hu căn h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ídliště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hu chung c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1" name="Obrázek 4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2. Subjek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1116000" y="1773360"/>
          <a:ext cx="7273800" cy="4144680"/>
        </p:xfrm>
        <a:graphic>
          <a:graphicData uri="http://schemas.openxmlformats.org/drawingml/2006/table">
            <a:tbl>
              <a:tblPr/>
              <a:tblGrid>
                <a:gridCol w="3889440"/>
                <a:gridCol w="33843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y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ăn h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jem byt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uê nh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jitel, vlastní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ủ nh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luvlastní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đồng chủ nh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jemní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gười thuê nh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ytové družstv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ợp tác xã nhà 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užstevní by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ăn hộ hợp tác x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yt v osobním vlastnictv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ăn hộ sở hữu cá th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5" name="Obrázek 5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0033"/>
                </a:solidFill>
                <a:latin typeface="Verdana"/>
              </a:rPr>
              <a:t>3. Vztah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1116000" y="1773360"/>
          <a:ext cx="7488360" cy="4144680"/>
        </p:xfrm>
        <a:graphic>
          <a:graphicData uri="http://schemas.openxmlformats.org/drawingml/2006/table">
            <a:tbl>
              <a:tblPr/>
              <a:tblGrid>
                <a:gridCol w="3816360"/>
                <a:gridCol w="3672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je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o thu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dnáje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uê lạ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jemní smlouv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ợp đồng thuê nh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dnájemní smlouv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ợp đồng thuê lạ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ávo používá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yền sử dụ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ej a náku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a và bá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9" name="Obrázek 4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66024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0033"/>
                </a:solidFill>
                <a:latin typeface="Verdana"/>
              </a:rPr>
              <a:t>4. Náležitosti smlouv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1116000" y="1773360"/>
          <a:ext cx="7488360" cy="4663800"/>
        </p:xfrm>
        <a:graphic>
          <a:graphicData uri="http://schemas.openxmlformats.org/drawingml/2006/table">
            <a:tbl>
              <a:tblPr/>
              <a:tblGrid>
                <a:gridCol w="3816360"/>
                <a:gridCol w="3672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najímat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gười cho thu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jem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gười thu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edmět nájm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đối tượng cho thu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ba nájm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ời gian thu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še nájemnéh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ức tiền thu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istina, kau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ền đặt cọ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ma úhra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ình thức thanh toá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ekvence úhra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ần số thanh toá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33" name="Obrázek 4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66024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0033"/>
                </a:solidFill>
                <a:latin typeface="Verdana"/>
              </a:rPr>
              <a:t>4. Náležitosti (pokr.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1116000" y="1773360"/>
          <a:ext cx="7488360" cy="4144680"/>
        </p:xfrm>
        <a:graphic>
          <a:graphicData uri="http://schemas.openxmlformats.org/drawingml/2006/table">
            <a:tbl>
              <a:tblPr/>
              <a:tblGrid>
                <a:gridCol w="3816360"/>
                <a:gridCol w="3672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áva a povinnost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yền và nghĩa v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nk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ế tà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pově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áo hủy hợp đồ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povědní lhů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ời hạn hủy hợp đồ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edávací protok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ên bản bàn gia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37" name="Obrázek 4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0033"/>
                </a:solidFill>
                <a:latin typeface="Verdana"/>
              </a:rPr>
              <a:t>5. Platb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1116000" y="1773360"/>
          <a:ext cx="7488360" cy="4144680"/>
        </p:xfrm>
        <a:graphic>
          <a:graphicData uri="http://schemas.openxmlformats.org/drawingml/2006/table">
            <a:tbl>
              <a:tblPr/>
              <a:tblGrid>
                <a:gridCol w="3816360"/>
                <a:gridCol w="3672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jemn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ền thuê nh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kas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ền dịch v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isti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ền đặt cọ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latk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ác lệ ph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latek za odp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ệ phí đổ rá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kli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ét dọ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41" name="Obrázek 4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3:11:24Z</dcterms:created>
  <dc:creator>User</dc:creator>
  <dc:description/>
  <dc:language>en-US</dc:language>
  <cp:lastModifiedBy>Fridrichová Jitka Mgr. (MPSV)</cp:lastModifiedBy>
  <dcterms:modified xsi:type="dcterms:W3CDTF">2015-08-19T15:54:06Z</dcterms:modified>
  <cp:revision>98</cp:revision>
  <dc:subject/>
  <dc:title>Snímek 1</dc:title>
</cp:coreProperties>
</file>