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63F-9158-4BD0-B9D1-84EDB200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453-A032-4C48-8AE0-56CAADB2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0882-5493-48C4-92EA-7182182A6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9780-17F8-4644-988E-87D79DDB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139-D4D7-458E-85FD-7036DC5A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59146-6B65-4CC6-8EB1-1A7D3469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E8D3-1731-4AE5-AAB1-A48E59BC0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A47E3-E7CB-4B38-91F6-A207110CB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8415-A1CF-4481-A1BE-3A7D1861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FF13-F37F-433A-B018-D6EB2757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1645-E958-4890-B4FF-BB667C78C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953C1-31F5-407F-A9CD-88417CFF8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5D8D-C067-48C9-B57B-EBB1826D6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40A8-D092-4290-9535-3D037439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CF9D-C5AF-43A9-A1BE-F70E5C57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218B-073F-4F5F-A366-6DEF6955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30A60-D59E-4044-BE30-9AD81E324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177F-9B7F-4B82-ACE3-5E4012911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2B39-33C0-44B1-87F5-5506ED70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7F51-21C8-4C67-A166-6458CB6B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44BA-60FC-47E6-8EA8-48045CA0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F598-034F-456D-AFD2-2CF14C2A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BFB-23B8-4177-A969-C85C0458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CCE6-C8C3-479F-B57F-DFF312441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D4D7-822E-4F5A-91CC-3E4C25BB355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43C8-B68D-4C5B-B61A-FBBD896F6B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E668-C7D8-4517-BD33-8FADAD9E3127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475C4-696A-45E0-85B5-F5E4D499AC46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éma: TRESTNÁ ČINNO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ní říz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476360" y="1773360"/>
          <a:ext cx="7128000" cy="3017880"/>
        </p:xfrm>
        <a:graphic>
          <a:graphicData uri="http://schemas.openxmlformats.org/drawingml/2006/table">
            <a:tbl>
              <a:tblPr/>
              <a:tblGrid>
                <a:gridCol w="3808440"/>
                <a:gridCol w="331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pravné ří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uẩn bị xét x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dběžné projednání obžalo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em xét bản cáo trạ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lavní líč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ở phiên tò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volací ří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ét xử phúc thẩ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onávací ří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ét xử thi hà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6457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ní řízení - subjek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476360" y="1773360"/>
          <a:ext cx="7128000" cy="3108240"/>
        </p:xfrm>
        <a:graphic>
          <a:graphicData uri="http://schemas.openxmlformats.org/drawingml/2006/table">
            <a:tbl>
              <a:tblPr/>
              <a:tblGrid>
                <a:gridCol w="3808440"/>
                <a:gridCol w="331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ezřel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hi c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ržen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ị tạm giữ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tčen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ị bắ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viněn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ị buộc t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alovan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ị truy t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ěze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ù nhâ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Věz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042920" y="1773360"/>
          <a:ext cx="7632720" cy="3456000"/>
        </p:xfrm>
        <a:graphic>
          <a:graphicData uri="http://schemas.openxmlformats.org/drawingml/2006/table">
            <a:tbl>
              <a:tblPr/>
              <a:tblGrid>
                <a:gridCol w="3814920"/>
                <a:gridCol w="3817800"/>
              </a:tblGrid>
              <a:tr h="52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zební věz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ại tạm gi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ězn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hà t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dohled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 quản l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dozor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 theo dõ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 ostrah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 canh gá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 zvýšenou ostrah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ó canh gác nghiêm ngặ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Rozhodnut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1332000" y="3357720"/>
          <a:ext cx="7127640" cy="2590560"/>
        </p:xfrm>
        <a:graphic>
          <a:graphicData uri="http://schemas.openxmlformats.org/drawingml/2006/table">
            <a:tbl>
              <a:tblPr/>
              <a:tblGrid>
                <a:gridCol w="3816360"/>
                <a:gridCol w="331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ud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ản 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nesení soud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hị quyế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ní příka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ệnh phạ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ební příka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ệnh trả tiề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ávní m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ệu lực pháp l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2" name="Text Box 30"/>
          <p:cNvSpPr/>
          <p:nvPr/>
        </p:nvSpPr>
        <p:spPr>
          <a:xfrm>
            <a:off x="1042920" y="1700280"/>
            <a:ext cx="756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ozhodnutí je externí individuální právní akt, kterým se zakládají, mění nebo ruší určitá konkrétní práva a povinnosti adresáta tohoto aktu, případně se závazně stanoví, zda již taková práva a povinnost existují či niko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Opravný prostřede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1187280" y="1773360"/>
          <a:ext cx="7417080" cy="3108240"/>
        </p:xfrm>
        <a:graphic>
          <a:graphicData uri="http://schemas.openxmlformats.org/drawingml/2006/table">
            <a:tbl>
              <a:tblPr/>
              <a:tblGrid>
                <a:gridCol w="3962520"/>
                <a:gridCol w="3454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íž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iếu nạ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mit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ản đố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p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ng lệ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vol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ng cá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volá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ám đốc thẩ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ní stíž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iếu nại hiến phá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Rejstřík tres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187280" y="1773360"/>
          <a:ext cx="7417080" cy="2590560"/>
        </p:xfrm>
        <a:graphic>
          <a:graphicData uri="http://schemas.openxmlformats.org/drawingml/2006/table">
            <a:tbl>
              <a:tblPr/>
              <a:tblGrid>
                <a:gridCol w="3816360"/>
                <a:gridCol w="36007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pis z Rejstříku trest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ích lục danh bạ tội phạ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znam v Rejstříku trest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n tích trong danh bạ tội phạ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maz záznamu</a:t>
                      </a:r>
                      <a:br>
                        <a:rPr sz="2800"/>
                      </a:b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 Rejstříku trest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óa án tích trong danh bạ tội phạ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Text Box 30"/>
          <p:cNvSpPr/>
          <p:nvPr/>
        </p:nvSpPr>
        <p:spPr>
          <a:xfrm>
            <a:off x="971640" y="48690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 července 2008 komunikují již všechny orgány veřejné moci na území České republiky s Rejstříkem trestů výhradně elektronic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tiprávní jedn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187280" y="1773360"/>
          <a:ext cx="7417080" cy="3108240"/>
        </p:xfrm>
        <a:graphic>
          <a:graphicData uri="http://schemas.openxmlformats.org/drawingml/2006/table">
            <a:tbl>
              <a:tblPr/>
              <a:tblGrid>
                <a:gridCol w="3816360"/>
                <a:gridCol w="360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ểm t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ní orgá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ơ quan kiểm t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ovaná osob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ười bị kiểm t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okol o kontr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ên bản kiểm t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tup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 phạm hành chí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rávní ří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ử lý hành chí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tiprávní jedn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1187280" y="1773360"/>
          <a:ext cx="7417080" cy="3627360"/>
        </p:xfrm>
        <a:graphic>
          <a:graphicData uri="http://schemas.openxmlformats.org/drawingml/2006/table">
            <a:tbl>
              <a:tblPr/>
              <a:tblGrid>
                <a:gridCol w="3816360"/>
                <a:gridCol w="3600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ácí násil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ũ lực gia đì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ilní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g th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ě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ạn nhâ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ázání z domu (bytu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uổi khỏi nh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chodování s lidm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ôn ngườ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cená prá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àm việc bắt buộ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vádě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ưa ngườ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Trestní práv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1042920" y="1773360"/>
            <a:ext cx="7561440" cy="407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ní prá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je odvětvím veřejného práva, které určuje jaké společensky škodlivé jednání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nými či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jaké jsou sankce za jejich spáchání a jakým způsobem stát prostřednictvím svých příslušných orgánů spáchání trestných činů a jejich pachatele zjišťuje a trestá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ní právo hmot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tanoví, co je trestným činem, podmínky trestní odpovědnosti, jaké sankce lze za trestný čin ulo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estní právo proces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stanoví postup příslušných orgánů státu (v ČR tzv. orgány činné v trestním řízení) při zjišťování trestných činů, prokazování jejich spáchání konkrétním osobám, ukládání a výkon trestů a ochranných opatření, upravuje zároveň i práva a povinnosti osoby, proti které se trestní řízení vede, jakož i dalších osob, jichž se toto řízení dotýk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ní zák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476360" y="1773360"/>
          <a:ext cx="6767640" cy="4054320"/>
        </p:xfrm>
        <a:graphic>
          <a:graphicData uri="http://schemas.openxmlformats.org/drawingml/2006/table">
            <a:tbl>
              <a:tblPr/>
              <a:tblGrid>
                <a:gridCol w="3384720"/>
                <a:gridCol w="338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ní zák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luật hình s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ní řá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ộ luật tố tụng hình s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ný č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ội hình s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č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ội hình sự nh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kutková podstata trestného čin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ếu tố cấu thành tội phạm hình s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kutková podsta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1476360" y="1773360"/>
          <a:ext cx="6767640" cy="3627360"/>
        </p:xfrm>
        <a:graphic>
          <a:graphicData uri="http://schemas.openxmlformats.org/drawingml/2006/table">
            <a:tbl>
              <a:tblPr/>
              <a:tblGrid>
                <a:gridCol w="3384720"/>
                <a:gridCol w="3382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hách th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jektivní strán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ính khách qu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je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Đối tượ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jektivní strán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ính chủ qu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tipráv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ính phạm phá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ní odpovědnos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476360" y="1773360"/>
          <a:ext cx="6335640" cy="4054320"/>
        </p:xfrm>
        <a:graphic>
          <a:graphicData uri="http://schemas.openxmlformats.org/drawingml/2006/table">
            <a:tbl>
              <a:tblPr/>
              <a:tblGrid>
                <a:gridCol w="3384720"/>
                <a:gridCol w="295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in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ạm t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vině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rẻ vị thành niê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lečenská nebezpeč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ức độ nguy hiểm xã h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jní nouz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ình trạng khẩn cấ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tná obr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ự vệ chính đá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ình phạ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14320" y="274320"/>
            <a:ext cx="6972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Zavině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87280" y="1584360"/>
          <a:ext cx="7614000" cy="3573360"/>
        </p:xfrm>
        <a:graphic>
          <a:graphicData uri="http://schemas.openxmlformats.org/drawingml/2006/table">
            <a:tbl>
              <a:tblPr/>
              <a:tblGrid>
                <a:gridCol w="3807000"/>
                <a:gridCol w="380700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mysln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ố 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132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mysl přím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mysl nepřím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ủ ý trực tiế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ủ ý gián tiế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balost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ất cẩ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balost vědom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balost nevědom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4dc4a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ất cẩn cố 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ất cẩn sơ 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4dc4a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4dc4a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20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Sou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258920" y="1773360"/>
          <a:ext cx="7273800" cy="3627360"/>
        </p:xfrm>
        <a:graphic>
          <a:graphicData uri="http://schemas.openxmlformats.org/drawingml/2006/table">
            <a:tbl>
              <a:tblPr/>
              <a:tblGrid>
                <a:gridCol w="3457440"/>
                <a:gridCol w="381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resní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huyệ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ajský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tỉn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šší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cấp c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jvyšší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tối c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jvyšší správní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hành chính tối c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ní sou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òa án Lập phá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476360" y="1773360"/>
          <a:ext cx="7128000" cy="4054320"/>
        </p:xfrm>
        <a:graphic>
          <a:graphicData uri="http://schemas.openxmlformats.org/drawingml/2006/table">
            <a:tbl>
              <a:tblPr/>
              <a:tblGrid>
                <a:gridCol w="3808440"/>
                <a:gridCol w="331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nětí svobod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ù gia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0" lang="vi-VN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</a:t>
                      </a: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ýjimečný trest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hình phạt đặc biệ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ácí vězen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ản chế tại nh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cně prospěšné prá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o động công í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dnutí majetk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ịch thu tài sả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ěžitý tre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ạt tiề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dnutí věci nebo jiné majetkové hodno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ịch thu đồ vật hoặc các giá trị tài sản khá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Tresty - pokračová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76360" y="1773360"/>
          <a:ext cx="7128000" cy="3962160"/>
        </p:xfrm>
        <a:graphic>
          <a:graphicData uri="http://schemas.openxmlformats.org/drawingml/2006/table">
            <a:tbl>
              <a:tblPr/>
              <a:tblGrid>
                <a:gridCol w="3808440"/>
                <a:gridCol w="3319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az činn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ấm hoạt độ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az pobyt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ấm cư tr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kaz vstupu na sportovní, kulturní a jiné společenské ak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ấm vào nơi có các  hoạt động thể thao, văn hóa, xã hộ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tráta čestných titulů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ớc danh hiệ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tráta vojenské hodnos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ước quân hà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oštění z území Č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ục xuất khỏi Sé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5:38Z</dcterms:modified>
  <cp:revision>100</cp:revision>
  <dc:subject/>
  <dc:title>Snímek 1</dc:title>
</cp:coreProperties>
</file>