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0CB-D407-427B-863E-93DD6FB7A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D41-AB0E-4D21-B8E0-5CA2EAD3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CD0-D43B-460E-86AE-ADE5000B0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6C3A-006E-41DC-A1B2-EB6DDBB54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2256-454E-482A-ADA5-D3BDEA1A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F1CD-879B-4226-8144-CB2DB94B1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821E-6D10-41F8-9582-1FD1F49B0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1F2E-701B-4FFB-B47D-FD2D530F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AE1F-E727-4B65-9499-8C97C861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244DA-0283-4A17-8AFC-63D4591F2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103-7978-4A30-B031-7780D747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BC33-BAD9-438D-83B5-A2DDD437D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B5C8-8D6E-4F5A-B498-78495021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E309-1EE3-4A4F-8A9A-116A2540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519C-D541-4B10-8B12-D64F9E0D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476A1-C818-4C30-9E67-305148C9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D6B8-BF0E-4216-8694-7E06E293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B0BC-3579-41CF-BB56-A4C730575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5810-7EAB-4BB1-8629-75C55CF5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7860-9579-40A6-B85C-87CE6787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A16-B303-423C-B7BE-1EFEFEC8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46EC-5B4D-4934-8009-38C20C68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E23-D8B0-42B0-A556-7C9B72AE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6B11-CDEA-43B0-A8E2-1D0834E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927EA-EA58-4FC6-929B-1D57266CF2D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8EB6-D2AA-4841-9EAB-BB7F60B3953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1FF8-BF05-4325-8C71-82C5316CFFB9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A584-8DF0-4B1F-9A4D-AD8DBD87E98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Školstv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1116000" y="1612800"/>
          <a:ext cx="7273800" cy="448020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l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ẫu giáo, mầm 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í dva stupně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ổ thông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c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ơ sơ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es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ểu nhi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 stup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ểu ho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í, druhý, třetí stup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ấp I, II, II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řední vzdělávání, třetí stup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ng ho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v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 stupeň odborného vzdělá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ở cấp nghê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116000" y="1773360"/>
          <a:ext cx="7273800" cy="568152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1549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etí stupeň odborného vzdělá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šší odborná šk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o đẳng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gh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ê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o đẳ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á šk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verz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ại ho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ại học tổng hợ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ương trì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ka –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iể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vědč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ấy chứnh m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1116000" y="1730520"/>
          <a:ext cx="7273800" cy="249876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vědč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ằng cấ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udentská kar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̉ sinh viê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kovská kníž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ổ liên la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hý stupeň odborného vzdělá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ng cấp nghê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042920" y="1773360"/>
            <a:ext cx="7561440" cy="41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myšlenky vzdělávání ve VSR a v ČR – Konfucius a Komen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formace o projektu vytvářejícím systém odborného vzdělávání ve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rovnání obou syst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ystém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ematika vzdělávání cizinců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Filozofie a metodik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1773360"/>
            <a:ext cx="7561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nfucius : důraz na morálku, učení nazpaměť a vyjadřování pí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Komenský : aplikace a dialog o obsahu, morálka je o vztah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Dodnes se odráží ve vzdělávacích systémech obou zem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íklady z prax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ystém ve VS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42920" y="1773360"/>
            <a:ext cx="75614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Škol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vní až  třetí stupeň základního vzděl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dle toho tři stupně odborného vzdělává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šší odborn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so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od řízením Ministerstva vzdělávání a výchovy, Ministerstva práce, válečných invalidů a sociálních věc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ystém ve VS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1773360"/>
            <a:ext cx="7561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roblémy s aplikací znal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Neefektivní přijímání žá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ůraz na morál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hybí pedagogické dovednosti učitelů a komunikační dovednosti učitelů i žá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Velký zmatek v nutných formalitách, přechodech mezi školami, způsobech hodnoc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Chybí systematická definice šk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Systém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42920" y="177336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ílá kni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Rámcově vzdělávací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Školní vzdělávací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říprava uči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Evalu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Národnostní menšin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42920" y="1773360"/>
            <a:ext cx="7561440" cy="33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kud se ve sčítání lidu přihlásí určité procento k dané národnosti, vzniká právo na vytváření ntříd, škol v mateřském jazyce a založení výboru pro národnostní otáz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etnam žádá o zařazení mezi národnostní menši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ou je sdružování a aktivní činnosti občanů ČR vietnamské národ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a dva státy – změny cizineckých zákon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Vzdělávání cizinců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1773360"/>
            <a:ext cx="756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romě ojedinělých projektů, neexistuje žádný systematický nástroj výuky češtiny pro děti cizince. Dohání to neziskové organiz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 mladších generací dětí to tolik nevadí, ale již od třetí třídy nastávají problémy s efektivní výuko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čitelé nemají potřebné materiá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Cizinci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4292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poslední době mnoho cizinců na povolení ke studiu , i když studovat vůbec nechtěli. Ve chvíli nedodržení účelu pobytu hrozí vyhošt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kušenosti s asistenty na školá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y z prax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6:09Z</dcterms:modified>
  <cp:revision>121</cp:revision>
  <dc:subject/>
  <dc:title>Snímek 1</dc:title>
</cp:coreProperties>
</file>