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5048-0E22-4A54-804A-4A9194BF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40EB-97F2-441D-9DC3-8CE0203AC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6F6-6FEA-4B44-B252-E9C98774E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9F62-5F68-4295-B33E-CAAB71F1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CB3-71EF-4FD0-AAE7-8D13F0BEC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81B6-CE63-47A7-BDB6-E2D7B29B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C80E-BAC7-4B08-B982-858A5A88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AF44-9D40-4FA8-B9A9-067E8089C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82B3-B4CD-4CEE-AE75-E8D5B116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EFE4-0901-4C33-B1B8-8156D13F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6AE6-988C-4C6E-AB8B-C159A2C7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E096-3C81-4FD4-9136-C475D41E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F15D6-7620-49AD-A5D8-7F759602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61C9-3E97-485D-92E2-FE6EFB72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8DA4-1E70-47CE-A412-80019608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F4A6-1CF7-4FAF-B4B1-A21FE134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43CC7-5FF3-41B3-80EF-B7623BA0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DEB6-DBB6-40B2-A9DB-2851BEED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CB7D-3F75-47F8-B2DE-E006F3C5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30D9-92A5-44E9-9AB9-18D9DD8B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B46B-D28C-4E40-A1ED-BFB394AC0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884E-268B-4654-93DD-8248C7038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8A90-5BDC-4631-B211-C775A832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E10-1553-4029-BDEE-F57C8656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E248-B414-48BF-8779-D8F546E5E04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9C2-DF59-4797-A4C4-57EAAEE056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2928960" y="3886200"/>
            <a:ext cx="58579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2" descr="logo_meta_1_tmavší_FIN"/>
          <p:cNvPicPr/>
          <p:nvPr/>
        </p:nvPicPr>
        <p:blipFill>
          <a:blip r:embed="rId5"/>
          <a:stretch/>
        </p:blipFill>
        <p:spPr>
          <a:xfrm>
            <a:off x="2916360" y="2109960"/>
            <a:ext cx="4392360" cy="1560240"/>
          </a:xfrm>
          <a:prstGeom prst="rect">
            <a:avLst/>
          </a:prstGeom>
          <a:ln w="0">
            <a:noFill/>
          </a:ln>
        </p:spPr>
      </p:pic>
      <p:pic>
        <p:nvPicPr>
          <p:cNvPr id="54" name="Obrázek 19" descr="logoMPSV-c-sm.jpg"/>
          <p:cNvPicPr/>
          <p:nvPr/>
        </p:nvPicPr>
        <p:blipFill>
          <a:blip r:embed="rId6"/>
          <a:stretch/>
        </p:blipFill>
        <p:spPr>
          <a:xfrm>
            <a:off x="7451640" y="115920"/>
            <a:ext cx="1427400" cy="14698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kitka_meta"/>
          <p:cNvPicPr/>
          <p:nvPr/>
        </p:nvPicPr>
        <p:blipFill>
          <a:blip r:embed="rId3"/>
          <a:stretch/>
        </p:blipFill>
        <p:spPr>
          <a:xfrm>
            <a:off x="871560" y="4311720"/>
            <a:ext cx="639720" cy="614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kitka_meta"/>
          <p:cNvPicPr/>
          <p:nvPr/>
        </p:nvPicPr>
        <p:blipFill>
          <a:blip r:embed="rId4"/>
          <a:stretch/>
        </p:blipFill>
        <p:spPr>
          <a:xfrm>
            <a:off x="1000080" y="5072040"/>
            <a:ext cx="1143000" cy="109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logo_meta_1_tmavší_FIN"/>
          <p:cNvPicPr/>
          <p:nvPr/>
        </p:nvPicPr>
        <p:blipFill>
          <a:blip r:embed="rId5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9" descr="logoMPSV-c-sm.jpg"/>
          <p:cNvPicPr/>
          <p:nvPr/>
        </p:nvPicPr>
        <p:blipFill>
          <a:blip r:embed="rId6"/>
          <a:stretch/>
        </p:blipFill>
        <p:spPr>
          <a:xfrm>
            <a:off x="7524720" y="189000"/>
            <a:ext cx="1425600" cy="14684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214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2F1B-556A-4CFF-B6D9-1298783AF95E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B2640-55F4-4E65-88E9-0764338DACBF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270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928960" y="3886200"/>
            <a:ext cx="58579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Sociální tlumočení ve styku s cizin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0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400" spc="-1" strike="noStrike">
                <a:solidFill>
                  <a:srgbClr val="990033"/>
                </a:solidFill>
                <a:latin typeface="Verdana"/>
              </a:rPr>
              <a:t>3</a:t>
            </a: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1116000" y="1628640"/>
          <a:ext cx="7488360" cy="4464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é čís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khai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chứng minh th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naro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ày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ův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ê quá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y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c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̉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žší administrativní jednotky 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ôn, xóm, đô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4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1116000" y="1628640"/>
          <a:ext cx="7488360" cy="457200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ižší jedn. obce pro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me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ná 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ủy quyề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tné prohláš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c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đo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ítn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̀ chố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ijm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ấp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hodn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yết đi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áš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ị đị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ěř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ng chứ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400" spc="-1" strike="noStrike">
                <a:solidFill>
                  <a:srgbClr val="990033"/>
                </a:solidFill>
                <a:latin typeface="Verdana"/>
              </a:rPr>
              <a:t>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1116000" y="177336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ữ liệu cá nh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esíl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gử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poruče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đả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bír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ời nhận trả tiề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l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ưu phẩm\bưu kiệ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5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6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042920" y="171468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ăng ky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ưu đi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ů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ời ha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daná c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́ được nê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ạn thanh to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in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ệu lư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á tri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7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42920" y="1714680"/>
          <a:ext cx="748836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y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 na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dací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đăng ký kết hô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ý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ấy khai si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jstřík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h bạ tội phạ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ní rejstř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h bạ thương ma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ivnostenský li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ấy phép kinh doa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ská republika, Če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̣ng hoà Sé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Identifikace (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8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1042920" y="1700280"/>
          <a:ext cx="7488360" cy="388944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dový výbor ob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Ủy ban nhân dân xa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ros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ịch x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seda lidového výbor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ịch Ủy ban nhân dâ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stupitelst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i đồng, đại diệ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tị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á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ông chứng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Ministerstva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1042920" y="1628640"/>
          <a:ext cx="7488360" cy="4321440"/>
        </p:xfrm>
        <a:graphic>
          <a:graphicData uri="http://schemas.openxmlformats.org/drawingml/2006/table">
            <a:tbl>
              <a:tblPr/>
              <a:tblGrid>
                <a:gridCol w="3600360"/>
                <a:gridCol w="388800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ộ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ê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Nội vu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Tư phá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S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ao động và xã hộ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Công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ươ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Tài chí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9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3. </a:t>
            </a:r>
            <a:r>
              <a:rPr b="0" lang="vi-VN" sz="4000" spc="-1" strike="noStrike">
                <a:solidFill>
                  <a:srgbClr val="990033"/>
                </a:solidFill>
                <a:latin typeface="Verdana"/>
              </a:rPr>
              <a:t>Ministerstva </a:t>
            </a: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042920" y="1628640"/>
          <a:ext cx="7488360" cy="381636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Văn hoa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Ngoại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ŠM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Giáo du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ộ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ông nghiệ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ương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ạ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6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Công nghiệ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7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5" name="Obrázek 3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Verdana"/>
              </a:rPr>
              <a:t>KAŽDODENNÍ ŽIVOT A ADMINISTRATIV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  <p:sp>
        <p:nvSpPr>
          <p:cNvPr id="313" name="Rectangle 3"/>
          <p:cNvSpPr/>
          <p:nvPr/>
        </p:nvSpPr>
        <p:spPr>
          <a:xfrm>
            <a:off x="2340000" y="5567040"/>
            <a:ext cx="568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dné číslo, řidičský průkaz, matriční úřady, sjednání pojištění, banky, finanční transakce, půjčky,úmrtí, sňatek, vyplnění formuláře, orgány státní správy a samospráv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042560" y="1699920"/>
            <a:ext cx="77439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eč a jazy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nterkulturní rozdíly v jazy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Identifikace osoby a interkulturní rozdí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zhl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méno a příjmení – způsoby překlad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tum naroze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dres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lší úda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byt z hlediska občanskéh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 cizineckého záko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0033"/>
                </a:solidFill>
                <a:latin typeface="Verdana"/>
              </a:rPr>
              <a:t>ÚVOD – pokrač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ován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042560" y="1773360"/>
            <a:ext cx="77439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ystém státní správy ve VSR a v Č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ákladní územní a organizační jednot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vincie - Statutární město – Město 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ěstečko/městys – Obec – Vesnice/dědi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zvy vybraných instituc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Zástupný symbol pro zápatí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1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547640" y="1557360"/>
          <a:ext cx="6767640" cy="457200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dné čísl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khai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idičský průka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ằng lái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x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riční úř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òng 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tị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ální 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 xã hô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otní pojiště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̉o hiểm y tê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ân hàng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nhà b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n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̀i chí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tb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 cướ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mř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ết, mấ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5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2. Platby a pošta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116000" y="1773360"/>
          <a:ext cx="7273800" cy="365760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à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kho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ả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žen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ếu trả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ací líste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́u gửi bảo đả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hotov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̉ tiền mặ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vod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yển 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itel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̉ tài 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úč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ố tài khoả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ba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̃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à b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626436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2. Platby a pošta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816360"/>
                <a:gridCol w="3672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abilní 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ã tham chiế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čel plat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̣c đích trả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ůlkové pís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ữ in 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vě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́n dụng, vay tiề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ro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ền lã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sta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ế ch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ấ</a:t>
                      </a: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ợp đồ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n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ần tr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3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116000" y="1773360"/>
          <a:ext cx="7488360" cy="4144680"/>
        </p:xfrm>
        <a:graphic>
          <a:graphicData uri="http://schemas.openxmlformats.org/drawingml/2006/table">
            <a:tbl>
              <a:tblPr/>
              <a:tblGrid>
                <a:gridCol w="3168720"/>
                <a:gridCol w="431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čanský prů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ứng minh th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t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ka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̉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̉o hiểm sức khỏ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ytová kníž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khẩ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ộ chiế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íz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̣ thư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ộc\đợt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ểm t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e Č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ảnh sát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H Sé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í polic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ảnh sát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ã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địa phươn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7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6024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Verdana"/>
              </a:rPr>
              <a:t>3. Identifikac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0000" y="1773360"/>
          <a:ext cx="7704360" cy="4144680"/>
        </p:xfrm>
        <a:graphic>
          <a:graphicData uri="http://schemas.openxmlformats.org/drawingml/2006/table">
            <a:tbl>
              <a:tblPr/>
              <a:tblGrid>
                <a:gridCol w="3333960"/>
                <a:gridCol w="4370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ní sprá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̉i qu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ivnostenský úř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̀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 kinh doan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ie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ệ sinh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ịch t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mulá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ờ khai/tờ mẫ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ávací protok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ên bản bàn gia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stave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oả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dní tlumoč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iên dịch quốc g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ách\đối tượng\thân ch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41" name="Obrázek 4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4:49Z</dcterms:modified>
  <cp:revision>117</cp:revision>
  <dc:subject/>
  <dc:title>Snímek 1</dc:title>
</cp:coreProperties>
</file>