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D9AD-4FC5-4799-906B-B0B3D63B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AD7A-6658-4853-8FD4-DD307321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946-C521-4845-B380-95EE71967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6572-173B-4EAA-BFEF-F7D262E2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8F3F-4CBC-4975-9537-F0A5D20AE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BB38-7D02-4449-A963-0325BCFB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63D4-045F-48F7-A279-AB0204A28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87D2-E9CF-48F2-BFC0-7656151E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8B77-29F4-46BE-8D2B-157A4946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398C-B87C-41C9-AD9D-EA6AC84A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8990-0765-4405-93B9-9631681D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EF00-C7B2-41CD-87B3-2FEC20BE7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A0C3-0743-43DA-998E-CEBB3EC2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9CE7-B793-46E1-91A9-74B41281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B539-3C3E-4262-9CBB-09815325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FE44-A93A-45EA-8442-FACA0F61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3C92-04FE-4369-9E01-DADED6917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1AEA-AD12-4C24-A3CA-229FBD8E3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DC20-5E93-435E-8DC0-A715EB17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110-EF19-4261-B03F-31625FCCC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6EAE-D5D8-4ED4-AF09-1C33BE36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CAC-9D56-4A7C-9B1E-1BCDA4C16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F24F-7B0F-4FD1-9785-6DCCCF21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0B1-B359-4060-9C14-EA03F4C4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8DA-AADE-4B43-BFB1-5E081F6A14D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24E3-B401-4724-80CE-3E14EA7C2BD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DE42-F680-44A8-9C11-9F31F70D623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AD1D-B6D9-4EC4-A44B-FA614AFC075C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Daňová problematik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ový řá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80/2009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b., daňový řá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ce daně – finanční úř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ístní přísluš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ový sub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anční úřad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– zákon č. 531/1990 Sb., o územních finančních orgán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loha 1 -  Názvy, sídla a územní působnost finančních úř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Činnost finančních úřad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1773360"/>
            <a:ext cx="7561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konávají správu daní, odvodů a záloh na tyto příjm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rovádějí řízení o přestupcích v oblasti své působ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ybírají poplatky, odvody, úhrady, pokuty a pená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pravují dot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kládají poku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rozhodují o výši pohledávky na daních, a jimi spravovaných příjme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na základě pověření Ministerstvem financí finanční úřady poskytují mezinárodní pomoc při správě daní a provádějí vymáhání peněžitých pohledáv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Úřední dny F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104292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le Usnesení vlády České republiky ke zjednodušení a zlepšení výkonu státní správy ve vztahu k občanům pro všechny finanční úřady i finanční ředitelství platí jednotné úřední dny: Vždy v pondělí a ve středu s úředními hodinami od 8 do 17 hodin, pokud není den pracovního kl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 je platbo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dobrovolnou, povinnou, vynutitelnou – placení daní je nařízeno zákonem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návratnou – zaplacenou daň nelze požadovat zpě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ekvivalentní – neexistuje nárok na adekvátní plnění za daň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čelovou – plátce daně nemůže ovlivnit, na co budou daně použit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 prospěch veřejného rozpoč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vykle opakovan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ruhy da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04292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atí poplatník sám na vlastní úč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ne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latí plátce daně na účet poplatní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ruhy da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042920" y="1773360"/>
            <a:ext cx="756144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příjmů FO - Thuế thu nhập cá nh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příjmů PO - Thuế thu nhập pháp nhâ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nemovitosti - Thuế bất động s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z převodu nemovitosti - Thuế chuyển nhượng bất động sả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darovací - Thuế quà tặ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ň dědická - Thuế thừa k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ň nepří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 přidané hodnoty - thuế giá trị gia tă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spotřební - thuế tiêu dùng (tiêu thụ đặc biệ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ové přizn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Lhůta pro daňové přizn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 příjmů: do 1.4. (prodloužená lhůta do 1.7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 přidané hodnoty: do 25. dne po skončení zdanitelného obdob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ň z nemovitosti: do 31.5. nebo ve dvou splátkách, do 31.5. a 30.1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gistrace k da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Č – daňové identifikační číslo: jednoznačná identifikace plátce daně (daňového poplatní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Daň spotřební v Č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04292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353/2003 Sb., o spotřebních daní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bák, alkohol (líh), pohonné hmo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 roku 2004 její správu vykonává Celní úřad, do konce roku 2003 Finanční úř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vojí zdanění: DPH se vypočítává z ceny včetně spotřební da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19Z</dcterms:modified>
  <cp:revision>101</cp:revision>
  <dc:subject/>
  <dc:title>Snímek 1</dc:title>
</cp:coreProperties>
</file>