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9928225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0DDD-2EAC-4E02-953D-F3E26448A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46E8-DCA6-4EAC-8F78-15958C6A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8985-5336-4AC1-880B-2D7ACD2DF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0C11-2CE9-44B8-86B6-725C81E76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F58E-F49B-4497-8CAE-BC755707C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8CCC1-9A3F-4370-9102-0F65B1D65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7A04-E564-4245-B9BE-018F11FED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0C7E-6C20-4C60-BB77-8E3276C0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AB38-BD60-4A41-9CFC-3098301A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17555-E954-4A85-9D79-47DE0F33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8CD1-9E04-4C68-9F66-F0B8FB96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AFEF-1C14-4D7B-8C33-C2607009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C0F6-A589-4B7A-9574-4B967E95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27A0-86AB-4C0B-A1D0-E0A12411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19D05-6DE3-46F6-87FE-DA62BD77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7445-7F8A-4AEA-B9C5-456F37C84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8392F-BE88-4DBE-A382-48EE5AC09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C2D7-511B-46DF-BBCB-46BBB0C85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6C88-3244-4180-98BD-6F0DBD5D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A171-3D12-43ED-8B50-41ECF771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2E85-0DBB-4D84-880F-C97C171F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D9A-CA64-4C28-9F2A-CC0A4418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B2A2-F723-4FBF-9DCB-18FEBC84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013D-1E51-406D-948A-6E0F5714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E7D6-FBE7-4916-B47F-6023AE7B22C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52EE-587F-43E0-8143-E92A46E83F9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C917-C8C3-44F5-A81C-5C3317189B20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E643-1A3F-4E65-99F0-35CA9B54B22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Daňová problemat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457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Pořízení zboží v rámci E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1042920" y="1773360"/>
            <a:ext cx="7561440" cy="21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řízení zboží z jiného členského stá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ísto plnění (místo, kde končí přeprava zboží k pořizovateli) -</a:t>
            </a: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ísto při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věřování DIČ pro účely DPH prostřednictvím systému V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 z přidané hodno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042920" y="177336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n z nejdůležitějších příjmů státního rozpoč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vedení daně pouze z rozdílu ceny mezi vstupy a výstu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ní se vlastně hrubá marže, tj. ta „přidaná hodnot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Sazba DP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042920" y="1773360"/>
            <a:ext cx="75614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(EU – minimálně 1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2011 v ČR: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ená (EU – minimálně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roce 2011 v ČR: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ánované sazby v Č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1.1.2012 - 31.12.2012: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20%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1.1.2013: jednotná sazba </a:t>
            </a:r>
            <a:r>
              <a:rPr b="0" lang="cs-CZ" sz="2800" spc="-1" strike="noStrike">
                <a:solidFill>
                  <a:srgbClr val="0000ff"/>
                </a:solidFill>
                <a:latin typeface="Arial"/>
              </a:rPr>
              <a:t>17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Plátce DP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042920" y="177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átcem daně z přidané hodnoty je každý subjekt se sídlem, provozovnou či místem podnikání registrovaný jako plátce D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Česku se plátcem musí povinně stát subjekt, jehož obrat přesáhl za 12 po sobě jdoucích kalendářních měsíců částku 1 000 000 Kč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Plátce DP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hlášku k registraci musí podat do 15 dnů po skončení termínu, v němž subjekt překročil stanovený limit a plátcem se stává prvního dne třetího měsíce následujícího po měsíci, ve kterém překročil stanovený obr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kuta 10 % ze všech příjmů za období, v němž subjekt měl být plátcem daně a neby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ovolná registrace k D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PH - zdaňovací obdob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042920" y="1773360"/>
            <a:ext cx="7561440" cy="37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§ 99 zák. č. 235/2004 Sb. o dani z přidané hodno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čtvrtletní (obrat za předcházející kalendářní rok nedosáhl 10 000 000 K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síční (obrat za předcházející kalendářní rok přesáhl 10 000 000 Kč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síční (obrat za předcházející kalendářní rok dosáhl aspoň 2 000 000 Kč a plátce si zvolí tuto zdan. období – oznámit správci nejpozději do 31.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a zdan. období: oznámit správci do 31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PH - pokračo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6"/>
          <p:cNvSpPr/>
          <p:nvPr/>
        </p:nvSpPr>
        <p:spPr>
          <a:xfrm>
            <a:off x="1042920" y="1773360"/>
            <a:ext cx="7561440" cy="241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ružení: jako jeden subjekt. Zdaňovací období se stanoví ze součtu obratu dosaženého všemi účastníky v rámci sdružení a obratu plátce dosaženého mimo sdruž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ěkteré příjmy nepodléhají DPH, například nájem nemovit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386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PH při dovozu a vývoz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042920" y="1773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aplatit ihned nebo až při podávání přiz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ýv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od DPH osvoboz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a: že kupující nemá v tuzemsku sídlo, místo podnikání, místo pobytu ani provozov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Vrácení DPH při vývoz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1042920" y="1773360"/>
            <a:ext cx="7561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yzická osoba nemá v ČR trvalý pobyt ani přechodné bydliště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dmětný nákup je uskutečněn v jenom dni u jednoho prodej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a zakoupeného zboží včetně DPH je vyšší než 1000 Kč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z zboží je uskutečněn do 30 dnů od doby nákup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rok na vrácení DPH lze uplatnit nejpozději do 3 měsíců od datumu nákupu zbož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4:36Z</dcterms:modified>
  <cp:revision>104</cp:revision>
  <dc:subject/>
  <dc:title>Snímek 1</dc:title>
</cp:coreProperties>
</file>