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D9FF-BB88-481F-8FB9-D0D96879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16D5-1761-4E14-9950-64A9B6E5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D6C2-002A-4E24-9288-77630CAC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A7CF-986A-4B80-84F2-1A72FB44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5FCD-D3AB-45BB-A00E-F24EC1A4D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2E0B-7F06-4EE6-8EF7-990A0759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581B-F895-4A50-B933-DAD6FC4D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3D8E-4386-4E94-A776-5ED5090A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C9FB-C055-42A2-AEC5-67DBB4F9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8990-6125-47BA-9CE7-E6B75566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EDF0-F81E-4580-8A92-08489F33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1B1B-A801-4F65-810A-BE02F8C6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668F-693E-44EE-8524-1C75BDD5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4972-B135-40C1-A481-6452FF7A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885E-3067-4F39-8B92-BEA6ACC0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FCEF-6A1D-47E0-A66F-5B0F969D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8176-DD08-4DCD-9A0C-1FFB0310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2F9A-DFA8-458E-9EB8-8C45F4FD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EBA7-DB4D-4100-9AE4-168C0CBC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92E0-16F3-492E-961D-BB885CAB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6AA2-7DC3-4338-9E99-A5B87BD9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C139-BF5E-4183-99B3-0AAE3A99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20DD-DFCA-4294-868B-B6DDE338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4DE7-B399-44F0-B1B8-B508701E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78be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be1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03640" y="259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strana </a:t>
            </a:r>
            <a:fld id="{360D1EBB-1F6E-48DB-826F-135B864416FD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1187280" y="26028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0"/>
            <a:ext cx="4572000" cy="2276640"/>
          </a:xfrm>
          <a:prstGeom prst="rect">
            <a:avLst/>
          </a:prstGeom>
          <a:solidFill>
            <a:srgbClr val="78be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4572000" y="0"/>
            <a:ext cx="4572000" cy="2276640"/>
          </a:xfrm>
          <a:prstGeom prst="rect">
            <a:avLst/>
          </a:prstGeom>
          <a:solidFill>
            <a:srgbClr val="50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C:\Users\AVC\Desktop\powerpoint\logo_MENDELU_CMYK_neg1.jpg"/>
          <p:cNvPicPr/>
          <p:nvPr/>
        </p:nvPicPr>
        <p:blipFill>
          <a:blip r:embed="rId2"/>
          <a:stretch/>
        </p:blipFill>
        <p:spPr>
          <a:xfrm>
            <a:off x="285840" y="142920"/>
            <a:ext cx="2428920" cy="2025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be1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7AA3-2170-421B-8562-BAF67A03A5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63640" y="2852640"/>
            <a:ext cx="7596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8be14"/>
                </a:solidFill>
                <a:latin typeface="Arial"/>
              </a:rPr>
              <a:t>Analýza kvality života seniorů v ČR</a:t>
            </a:r>
            <a:endParaRPr b="1" lang="en-US" sz="40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63640" y="3716280"/>
            <a:ext cx="759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Prezentace výsledků projektu TAČR č.TB05MPSV004 „Výzkum v oblasti kvality života seniorů v ČR“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859280" y="26028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11.4.2017, B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il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doc. Ing. Lea Kubíčková, Ph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99128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Roční frekvence návštěvy obvodního lékaře ve vztahu ke zdravotnímu stavu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15" name="Zástupný symbol pro obsah 4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7704000" cy="3888000"/>
          </a:xfrm>
          <a:prstGeom prst="rect">
            <a:avLst/>
          </a:prstGeom>
          <a:ln w="0">
            <a:noFill/>
          </a:ln>
        </p:spPr>
      </p:pic>
      <p:sp>
        <p:nvSpPr>
          <p:cNvPr id="116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2B599F64-A4FE-4591-A2B5-0B9D71A70D96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Finanční situace</a:t>
            </a:r>
            <a:br>
              <a:rPr sz="3200"/>
            </a:b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18" name="Zástupný symbol pro obsah 4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129800" cy="4032360"/>
          </a:xfrm>
          <a:prstGeom prst="rect">
            <a:avLst/>
          </a:prstGeom>
          <a:ln w="0">
            <a:noFill/>
          </a:ln>
        </p:spPr>
      </p:pic>
      <p:sp>
        <p:nvSpPr>
          <p:cNvPr id="119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9F40EDFA-2348-4D07-8F4B-07CB6BABA1D5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Pocit bezpečí ve vztahu k zdravotnímu stavu 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21" name="Zástupný symbol pro obsah 4" descr=""/>
          <p:cNvPicPr/>
          <p:nvPr/>
        </p:nvPicPr>
        <p:blipFill>
          <a:blip r:embed="rId1"/>
          <a:stretch/>
        </p:blipFill>
        <p:spPr>
          <a:xfrm>
            <a:off x="1332000" y="2292480"/>
            <a:ext cx="6851520" cy="4016160"/>
          </a:xfrm>
          <a:prstGeom prst="rect">
            <a:avLst/>
          </a:prstGeom>
          <a:ln w="0">
            <a:noFill/>
          </a:ln>
        </p:spPr>
      </p:pic>
      <p:sp>
        <p:nvSpPr>
          <p:cNvPr id="122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077179E8-4A1F-403D-B59C-BE356B47491F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Pocit bezpečí ve vztahu k velikosti obce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24" name="Zástupný symbol pro obsah 4" descr=""/>
          <p:cNvPicPr/>
          <p:nvPr/>
        </p:nvPicPr>
        <p:blipFill>
          <a:blip r:embed="rId1"/>
          <a:stretch/>
        </p:blipFill>
        <p:spPr>
          <a:xfrm>
            <a:off x="1116000" y="2292480"/>
            <a:ext cx="7067520" cy="4232160"/>
          </a:xfrm>
          <a:prstGeom prst="rect">
            <a:avLst/>
          </a:prstGeom>
          <a:ln w="0">
            <a:noFill/>
          </a:ln>
        </p:spPr>
      </p:pic>
      <p:sp>
        <p:nvSpPr>
          <p:cNvPr id="125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58C629D7-7446-4FCC-85D2-A2C53B148D41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32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8be14"/>
                </a:solidFill>
                <a:latin typeface="Arial"/>
              </a:rPr>
              <a:t>Pocit bezpečí seniorů s ohledem na to, s kým senior žije, popř. zda žije sám/a</a:t>
            </a:r>
            <a:br>
              <a:rPr sz="2800"/>
            </a:br>
            <a:endParaRPr b="1" lang="en-US" sz="28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27" name="Zástupný symbol pro obsah 4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6985080" cy="3887640"/>
          </a:xfrm>
          <a:prstGeom prst="rect">
            <a:avLst/>
          </a:prstGeom>
          <a:ln w="0">
            <a:noFill/>
          </a:ln>
        </p:spPr>
      </p:pic>
      <p:sp>
        <p:nvSpPr>
          <p:cNvPr id="128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1F5C7905-DC54-4075-8A39-808ED65807B1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Důvody, proč se senioři necítí bezpečně</a:t>
            </a:r>
            <a:br>
              <a:rPr sz="3200"/>
            </a:b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30" name="Zástupný symbol pro obsah 4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6996240" cy="3960720"/>
          </a:xfrm>
          <a:prstGeom prst="rect">
            <a:avLst/>
          </a:prstGeom>
          <a:ln w="0">
            <a:noFill/>
          </a:ln>
        </p:spPr>
      </p:pic>
      <p:sp>
        <p:nvSpPr>
          <p:cNvPr id="131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0C6AB8D3-B746-40AB-BF2A-3713F5061FEF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Kvalitativní průzkum </a:t>
            </a:r>
            <a:br>
              <a:rPr sz="3200"/>
            </a:b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Senioři nad 75 let - bezpečí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33" name="Zástupný symbol pro obsah 4" descr=""/>
          <p:cNvPicPr/>
          <p:nvPr/>
        </p:nvPicPr>
        <p:blipFill>
          <a:blip r:embed="rId1"/>
          <a:stretch/>
        </p:blipFill>
        <p:spPr>
          <a:xfrm>
            <a:off x="1116000" y="2292480"/>
            <a:ext cx="6840720" cy="4160880"/>
          </a:xfrm>
          <a:prstGeom prst="rect">
            <a:avLst/>
          </a:prstGeom>
          <a:ln w="0">
            <a:noFill/>
          </a:ln>
        </p:spPr>
      </p:pic>
      <p:sp>
        <p:nvSpPr>
          <p:cNvPr id="134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E80D0C40-9C4A-4964-835B-C8EE91E825C9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Kvalitativní průzkum </a:t>
            </a:r>
            <a:br>
              <a:rPr sz="3200"/>
            </a:b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Senioři nad 75 let - dobrovolnictví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36" name="Zástupný symbol pro obsah 4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6553440" cy="3960720"/>
          </a:xfrm>
          <a:prstGeom prst="rect">
            <a:avLst/>
          </a:prstGeom>
          <a:ln w="0">
            <a:noFill/>
          </a:ln>
        </p:spPr>
      </p:pic>
      <p:sp>
        <p:nvSpPr>
          <p:cNvPr id="137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2326A5AE-D1EF-4FA2-B82F-261A9299AAEC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8be14"/>
                </a:solidFill>
                <a:latin typeface="Arial"/>
              </a:rPr>
              <a:t>Kvalitativní průzkum </a:t>
            </a:r>
            <a:br>
              <a:rPr sz="2800"/>
            </a:br>
            <a:r>
              <a:rPr b="1" lang="cs-CZ" sz="2800" spc="-1" strike="noStrike">
                <a:solidFill>
                  <a:srgbClr val="78be14"/>
                </a:solidFill>
                <a:latin typeface="Arial"/>
              </a:rPr>
              <a:t>Předčasný odchod do důchodu - motivy</a:t>
            </a:r>
            <a:endParaRPr b="1" lang="en-US" sz="28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39" name="Zástupný symbol pro obsah 4" descr=""/>
          <p:cNvPicPr/>
          <p:nvPr/>
        </p:nvPicPr>
        <p:blipFill>
          <a:blip r:embed="rId1"/>
          <a:stretch/>
        </p:blipFill>
        <p:spPr>
          <a:xfrm>
            <a:off x="1187280" y="2492280"/>
            <a:ext cx="6996240" cy="3961080"/>
          </a:xfrm>
          <a:prstGeom prst="rect">
            <a:avLst/>
          </a:prstGeom>
          <a:ln w="0">
            <a:noFill/>
          </a:ln>
        </p:spPr>
      </p:pic>
      <p:sp>
        <p:nvSpPr>
          <p:cNvPr id="140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59984A6C-F65C-4E20-826F-0CBF7AFB73CD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1125000"/>
            <a:ext cx="7356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Kvalitativní průzkum </a:t>
            </a:r>
            <a:br>
              <a:rPr sz="3200"/>
            </a:b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Setrvání na trhu práce  - motivy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9EA27753-D29B-49B4-9002-9AFE46A80A93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Zástupný symbol pro obsah 6" descr=""/>
          <p:cNvPicPr/>
          <p:nvPr/>
        </p:nvPicPr>
        <p:blipFill>
          <a:blip r:embed="rId1"/>
          <a:stretch/>
        </p:blipFill>
        <p:spPr>
          <a:xfrm>
            <a:off x="971640" y="2739960"/>
            <a:ext cx="721188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ástupný symbol pro číslo snímku 5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363FF632-3568-44E3-9C3E-36EA70A5EAF4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Hlavní cíl projektu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provést </a:t>
            </a:r>
            <a:r>
              <a:rPr b="1" lang="cs-CZ" sz="3200" spc="-1" strike="noStrike">
                <a:solidFill>
                  <a:srgbClr val="505050"/>
                </a:solidFill>
                <a:latin typeface="Arial"/>
              </a:rPr>
              <a:t>detailní a komplexní analýzu kvality života českých seniorů</a:t>
            </a: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, na jejímž základě bude možno formulovat návrhy, jež by vedly ke zkvalitnění jejich života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Kvalitativní průzkum </a:t>
            </a:r>
            <a:br>
              <a:rPr sz="3200"/>
            </a:b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Setrvání na trhu práce – další důvody</a:t>
            </a:r>
            <a:br>
              <a:rPr sz="3200"/>
            </a:b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45" name="Zástupný symbol pro obsah 4" descr=""/>
          <p:cNvPicPr/>
          <p:nvPr/>
        </p:nvPicPr>
        <p:blipFill>
          <a:blip r:embed="rId1"/>
          <a:stretch/>
        </p:blipFill>
        <p:spPr>
          <a:xfrm>
            <a:off x="1403280" y="2654280"/>
            <a:ext cx="6481800" cy="3727440"/>
          </a:xfrm>
          <a:prstGeom prst="rect">
            <a:avLst/>
          </a:prstGeom>
          <a:ln w="0">
            <a:noFill/>
          </a:ln>
        </p:spPr>
      </p:pic>
      <p:sp>
        <p:nvSpPr>
          <p:cNvPr id="146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87797EE4-82E7-4F7B-87BB-DE37CC0FC0C7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E1550072-078A-41E1-AB27-8D0D7D9D2EE5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Děkuji Vám za pozornost.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416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Struktura projektu a metody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Analýza dat z výsledků EU SILC,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Primární výzkum: 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50505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05050"/>
                </a:solidFill>
                <a:latin typeface="Arial"/>
              </a:rPr>
              <a:t>kvantitativní část – dotazníkové šetření </a:t>
            </a: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 celkem 3071 zpracovaných dotazníků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50505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05050"/>
                </a:solidFill>
                <a:latin typeface="Arial"/>
              </a:rPr>
              <a:t>kvalitativní část – hloubkové rozhovory             </a:t>
            </a: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3 cílové skupiny (senioři nad 75 let, kteří odešli v řádném čase do důchodu; senioři, kteří odešli do předčasného důchodu; senioři, kteří setrvávají na trhu práce),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B322CD4F-2A1D-453B-A2CB-F5DFCD96768C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Výsledky kvantitativního šetření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Životní situace seniorů a oblast bydlení seniorů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Důvody setrvání v zaměstnání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Zdravotní stav seniorů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Spojenost s finanční situací u seniorů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Pocit bezpečí seniorů</a:t>
            </a:r>
            <a:r>
              <a:rPr b="1" i="1" lang="cs-CZ" sz="32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6739DADF-9A6B-4CB3-937D-160D36553F15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Životní situace seniorů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00" name="Zástupný symbol pro obsah 6" descr=""/>
          <p:cNvPicPr/>
          <p:nvPr/>
        </p:nvPicPr>
        <p:blipFill>
          <a:blip r:embed="rId1"/>
          <a:stretch/>
        </p:blipFill>
        <p:spPr>
          <a:xfrm>
            <a:off x="1187280" y="2133720"/>
            <a:ext cx="6983640" cy="4435200"/>
          </a:xfrm>
          <a:prstGeom prst="rect">
            <a:avLst/>
          </a:prstGeom>
          <a:ln w="0">
            <a:noFill/>
          </a:ln>
        </p:spPr>
      </p:pic>
      <p:sp>
        <p:nvSpPr>
          <p:cNvPr id="101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4DF4811B-247E-4163-A3F7-BAEDF0E1A235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Oblast bydlení seniorů</a:t>
            </a:r>
            <a:br>
              <a:rPr sz="3200"/>
            </a:b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03" name="Zástupný symbol pro obsah 4" descr=""/>
          <p:cNvPicPr/>
          <p:nvPr/>
        </p:nvPicPr>
        <p:blipFill>
          <a:blip r:embed="rId1"/>
          <a:stretch/>
        </p:blipFill>
        <p:spPr>
          <a:xfrm>
            <a:off x="1116000" y="1903320"/>
            <a:ext cx="7201080" cy="4405320"/>
          </a:xfrm>
          <a:prstGeom prst="rect">
            <a:avLst/>
          </a:prstGeom>
          <a:ln w="0">
            <a:noFill/>
          </a:ln>
        </p:spPr>
      </p:pic>
      <p:sp>
        <p:nvSpPr>
          <p:cNvPr id="104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3CDBE502-343B-4A41-ADFD-3F5F3F2F440B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Percepce odchodu  do důchodu – vazba na vzdělání 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06" name="Zástupný symbol pro obsah 4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98508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68DE73DD-F6C2-4BE7-9206-E02C1A058518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69962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8be14"/>
                </a:solidFill>
                <a:latin typeface="Arial"/>
              </a:rPr>
              <a:t>Typický respondent pro jednotlivé důvody setrvání/nesetrvání v zaměstnání</a:t>
            </a:r>
            <a:endParaRPr b="1" lang="en-US" sz="2400" spc="-1" strike="noStrike">
              <a:solidFill>
                <a:srgbClr val="78be14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17600" y="2122560"/>
          <a:ext cx="8331120" cy="4403520"/>
        </p:xfrm>
        <a:graphic>
          <a:graphicData uri="http://schemas.openxmlformats.org/drawingml/2006/table">
            <a:tbl>
              <a:tblPr/>
              <a:tblGrid>
                <a:gridCol w="3867120"/>
                <a:gridCol w="4464000"/>
              </a:tblGrid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no, protože mi důchod nepostačuje na pokrytí životních ná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Žena ve věku méně než 65 let, má střední vzdělání s maturitou a žije s manž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no, chci mít vyšší životní úrove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Žena ve věku méně než 65 let, má střední vzdělání s maturitou a </a:t>
                      </a: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Calibri"/>
                          <a:ea typeface="SimSun"/>
                        </a:rPr>
                        <a:t>žije s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6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no, chci být mezi lid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Žena ve věku méně než 65 let, má střední vzdělání s maturitou a žije s manž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no, práce mě ba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Žena ve věku méně než 65 let, má </a:t>
                      </a: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Calibri"/>
                          <a:ea typeface="SimSun"/>
                        </a:rPr>
                        <a:t>vysokoškolské vzdělání</a:t>
                      </a:r>
                      <a:r>
                        <a:rPr b="0" lang="cs-CZ" sz="1800" spc="-1" strike="noStrike">
                          <a:solidFill>
                            <a:srgbClr val="ff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 žije s manž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0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no, z jiných důvo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Žena ve věku méně než 65 let, má střední vzdělání s maturitou a žije s manž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Žena ve věku 66-70 let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má střední vzdělání s maturitou a žije s manž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10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9C3F963E-B2CC-4E5E-8E18-A61E72AF04EC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Vnímání zdravotního stavu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12" name="Zástupný symbol pro obsah 4" descr=""/>
          <p:cNvPicPr/>
          <p:nvPr/>
        </p:nvPicPr>
        <p:blipFill>
          <a:blip r:embed="rId1"/>
          <a:stretch/>
        </p:blipFill>
        <p:spPr>
          <a:xfrm>
            <a:off x="1187280" y="2292480"/>
            <a:ext cx="6996240" cy="4016160"/>
          </a:xfrm>
          <a:prstGeom prst="rect">
            <a:avLst/>
          </a:prstGeom>
          <a:ln w="0">
            <a:noFill/>
          </a:ln>
        </p:spPr>
      </p:pic>
      <p:sp>
        <p:nvSpPr>
          <p:cNvPr id="113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DB75110F-7F36-475A-AB4F-F7762220C349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3:47:14Z</dcterms:created>
  <dc:creator>František Dařena</dc:creator>
  <dc:description/>
  <dc:language>en-US</dc:language>
  <cp:lastModifiedBy>Lea</cp:lastModifiedBy>
  <dcterms:modified xsi:type="dcterms:W3CDTF">2017-04-10T05:54:11Z</dcterms:modified>
  <cp:revision>23</cp:revision>
  <dc:subject/>
  <dc:title>Snímek 1</dc:title>
</cp:coreProperties>
</file>