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E0CC-EA56-42C1-9970-D3659CCCD0C6}" type="datetime">
              <a:rPr b="0" lang="en-US" sz="1200" spc="-1" strike="noStrike">
                <a:solidFill>
                  <a:srgbClr val="000000"/>
                </a:solidFill>
                <a:latin typeface="Gill San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B153-1F75-457B-83DC-FFAE1276F9A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05D8-1A6B-4A9E-94F3-09F4B09DF152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C973-F929-4683-8E57-7CEFC0752A7C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77C4-2F53-47A9-B12C-A97FFBD141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5771-2FBF-481B-AEF8-4C6676B41C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776C-264D-411B-942C-54C8E67D59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53AD-8955-4B21-A9C0-3176C18114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1D97-CA47-42A1-8DB0-D712E0A10D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A84E-3CA0-4639-8D29-E103D04693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1BB7-9304-492D-A5A3-EDB6FB9C5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A5A4-1B48-488A-A805-CC2EDA8FA6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DD03-7C6B-463B-9E68-13A699B4C1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45B9-D9FA-4889-AE1B-CB71179D6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5E6F-9285-443F-B546-8ECE5C251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644F-7249-49F7-BE64-AEEF89E4D5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D8E5-037C-471F-9F8E-462A9FCD81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DEFB-0818-4CF7-87A2-7F7F0A491E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8467-8485-40F0-A48B-DD9B8FB75A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5F38-5555-4C15-919B-2B40A10F23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9CCD-B857-4CC1-A7DE-453A2409B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FC7E-E888-4E01-A7F7-3028BB0C81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18B8-6F0B-4074-B5D2-9DE13016D8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4B04-1AB1-47DC-AD12-856A8FAC1D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00EF-2D1D-4DD2-A2C2-0D863F1CA9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A712-1CCD-4F06-BEBD-ABF9B1FBBA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8CE7-A196-4CC1-887C-6F2ED29458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0E9E-362E-4898-B9ED-3567533972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0240" y="1700280"/>
            <a:ext cx="13053960" cy="3443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2000"/>
          </a:bodyPr>
          <a:p>
            <a:pPr marL="2124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212400" indent="-212400"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8200" y="2603520"/>
            <a:ext cx="10566360" cy="165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184480" y="406440"/>
            <a:ext cx="40766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300"/>
              </a:rPr>
              <a:t>Strategie reformy psychiatrické péč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1168560" y="40644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9893160" y="622440"/>
            <a:ext cx="18288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45720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242160" y="306000"/>
            <a:ext cx="5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A169-DB74-46F5-9D9A-468BD42B4C2D}" type="slidenum">
              <a:rPr b="0" lang="en-US" sz="1800" spc="-1" strike="noStrike">
                <a:solidFill>
                  <a:srgbClr val="666666"/>
                </a:solidFill>
                <a:latin typeface="Museo Sans Rounded 300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8840" y="914040"/>
            <a:ext cx="1130328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76240" y="3479760"/>
            <a:ext cx="7112160" cy="542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1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4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5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6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  <a:ea typeface="ヒラギノ角ゴ ProN W3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0112040" y="306000"/>
            <a:ext cx="227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  <a:ea typeface="ヒラギノ角ゴ ProN W3"/>
              </a:rPr>
              <a:t>Pracovní skupina 15.5.201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CFD-D165-423C-BFC3-53D799BE992D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8200" y="2590920"/>
            <a:ext cx="10566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Strategie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reformy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sychiatrické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éče</a:t>
            </a:r>
            <a:br>
              <a:rPr sz="4800"/>
            </a:b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a geriatrická problematika transformace psychiatrických služeb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82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UDr. Simona Papežová / Bc. Vanda Horná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inisterstvo zdravotnictví ČR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14. 6. 2016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Rada vlády pro seniory a stárnutí popul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101600" y="339840"/>
            <a:ext cx="514368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75880" y="1563840"/>
            <a:ext cx="11302920" cy="733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včasné a správné diagnózy syndromu demen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Úhrada léčby z veřejného zdravotního pojišt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lepšení přístupu k vhodné péči, zajištění vhodné péče a její koordin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dpory pro pečovatel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edukace rodinných pečujících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 asistentů sociální péč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revence v rámci zdravotních a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vědomí široké veřejnosti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BED9-C788-44A9-A9B1-D72896DAA5AD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 II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75880" y="1852560"/>
            <a:ext cx="11302920" cy="70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chova k ohleduplnosti vůči seniorům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odpora a rozvoj vzdělávání pro profesionální pečují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zdělávání pracovníků ve školství a veřejném sektoru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Koordinované úsilí v oblasti výzkumu včetně využití již dostupných výsledk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rganizace epidemiologického dozoru a sledová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pojení ČR do evropské spoluprá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1940-3BF2-4430-BC43-E48CA8A9733B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0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Aktuální stav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75880" y="2068560"/>
            <a:ext cx="11302920" cy="683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lnění některých cílů bude probíhat v rámci  pracovní skupiny pro neurodegenerativní onemocnění  (SRPP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Tím se dostáváme ke geriatrické problematice transformace psychiatrický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chází k posunu směrem k terénní psychiatrii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 systému by v souladu s cílem 3. mělo dojít k zapojení terénních psychiatrických sester (sestra pro péči v psychiatrii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DA68-DD91-4736-84D9-1532AB28EAD0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Změny v síti psychiatrické péč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85600" y="2068200"/>
            <a:ext cx="1130292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Museo Sans Rounded 700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utní oddělení v rámci VN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sychiatrická nemocnice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CDZ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tní péče,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ce s rozšířenou péčí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duševně nemocné  - přesun péče do komunity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 pomocí a podporou psychiatrických sester, sociálních pracovníků a dalších specialistů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C1D0-B181-4EDF-9A08-36225CA2F716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85600" y="163656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 současné době probíhají jednání na úrovni krajských úřad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stupem by měl být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trategický plán psychiatrické péče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 kraji v návaznosti na SRPP (transformační plán psychiatrických nemocnic v návaznosti na rozvoj dalších složek psychiatrické péče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tualizace kapitol zdravotního a střednědobého plánu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6F81-36C6-4020-B455-1321F62B4478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85600" y="773280"/>
            <a:ext cx="11302920" cy="122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Ukázka práce na udržitelném financování – </a:t>
            </a:r>
            <a:br>
              <a:rPr sz="3600"/>
            </a:b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odb. 914 – psychiatrická sestra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85600" y="2068200"/>
            <a:ext cx="11302920" cy="748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avedení/ukončení individuální psychiatrické rehabilitace, konzultace, administrativní činnost psychiatrické sestry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iatrická rehabilitace individuáln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erénní krizová intervence prováděná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oterapeutické činnosti poskytované sestrou (pod odborným vedením a indikací psychiatra či psychologa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Sociální šetření a objektivní anamnéza v pacientově prostřed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Re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Museo Sans Rounded 700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515C-F33C-489A-8CD5-05B6F2F41730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Souhrn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13960" y="242856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RPP řeší problematiku duševních onemocnění komplexně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Jsme na počátku procesu, který by měl kvalitativně změnit péči poskytovanou duševně nemocným všech věkových skupin a diagnostického spektra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ůležitá je koordinovaná a provázaná změna ve všech oblastech péče o duševně nemocné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6C28-B924-4DD0-87BF-3C4B9AF89090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Zvýšení </a:t>
            </a: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kvality</a:t>
            </a: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 života duševně nemocných – globální cíl našeho společného snažení</a:t>
            </a:r>
            <a:endParaRPr b="0" lang="en-US" sz="40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1A12-EAFF-4955-82F8-F5A282B8FFDD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389240" y="2459160"/>
            <a:ext cx="10383840" cy="727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Děkuji za Vaši pozornost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85600" y="192384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 Papežov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.papezov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 Horn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.horn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A750-A2F7-41B8-8D84-66B2D12EB7C6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Hlavní cíl SRPP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75880" y="2355840"/>
            <a:ext cx="11302920" cy="654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osun péče co nejblíže do vlastního sociálního prostředí pacienta (komunitní – terénní péče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ůra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na destigmatizaci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umanizaci péč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respektování potřeb pacienta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lepšení dostupnosti i kvality péče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záchyt a 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léč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vážně duševně nemocných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D4B4-CCCC-4A71-B1F2-71EFF0938C8E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3960" y="213984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říjen 2013 – Strategie schválena  ministrem zdravotnictví Martinem Holcátem, MBA.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nyní jsme v první fázi procesu implementace: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niciace a zajištění podmínek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. Realiz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I. Vyhodnocení a evalu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marL="254160" indent="-254160"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8B4A-D5BA-4308-A162-3D10C6E67696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6880" y="1924200"/>
            <a:ext cx="1130292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schváleno institucionální ukotvení 8 pracovních skupi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inklusivní přístup zachován i v procesu implement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700"/>
              </a:rPr>
              <a:t>v roce 2015 byly k reformě jmenovány další 3 skupiny: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Museo Sans Rounded 300"/>
              </a:rPr>
              <a:t>PS pro neurodegenerativní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dětské a dorostové psychiatri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závislost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0FEC-B8B5-4614-939E-8FA720406916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75880" y="2212920"/>
            <a:ext cx="11302920" cy="669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8D37-A286-4D6F-80F3-CCC2855DCE2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461960" y="1060560"/>
            <a:ext cx="10031400" cy="759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5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75880" y="2644560"/>
            <a:ext cx="11302920" cy="62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oučasně na MZ pracovala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 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loňské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roc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Mezirezortní a mezioborová skupina pro přípravu Národního akčního plánu pro Alzheimerovu nemoc a další obdobná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Účelem akčního plánu je zajistit odpovídající péči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 pacienty ve všech stadiích tohoto závažného onemocnění, podle potřeb, které průběh onemocnění přináš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983F-10AE-4675-8C55-B65E0D8BF43A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3960" y="988920"/>
            <a:ext cx="11302920" cy="100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6666"/>
                </a:solidFill>
                <a:latin typeface="Museo Sans Rounded 300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6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72880" y="1924200"/>
            <a:ext cx="11302920" cy="707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ne 3.2.2016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láda svým usnesením přijala Národní akční plan pro Alzheimerovu nemoc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 další obdobná onemocněnéná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a léta 2016 -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2019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dkaz na Národní akční plán: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zcr.cz/Odbornik/dokumenty/narodni-akcni-plan-pro-alzheimerovu-nemoc-a-dalsi-obdobna-onemocneni-na-leta-201_11429_2785_3.html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CE34-FDCB-4ABB-A013-6C729D86D17B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Usnesení č. 85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EC4C-ED1A-41F0-B804-EF44EAF429EF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2" name="Zástupný symbol pro obsah 6" descr="Bez názvu.png"/>
          <p:cNvPicPr/>
          <p:nvPr/>
        </p:nvPicPr>
        <p:blipFill>
          <a:blip r:embed="rId1"/>
          <a:stretch/>
        </p:blipFill>
        <p:spPr>
          <a:xfrm>
            <a:off x="2901960" y="1827360"/>
            <a:ext cx="6232680" cy="707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4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Národní akční plán </a:t>
            </a:r>
            <a:r>
              <a:rPr b="1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byl </a:t>
            </a: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tvořen </a:t>
            </a:r>
            <a:r>
              <a:rPr b="0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ve spolupráci s</a:t>
            </a:r>
            <a:r>
              <a:rPr b="0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75880" y="1923840"/>
            <a:ext cx="11302920" cy="697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práce a sociálních vě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školství, mládeže a tělovýchovy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Sdružení měs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bcí, kraj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zdravotních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pojišťove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dborných společnost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(neurologická, psychiatrická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2BBF-9A97-4F39-A865-BD064ED4E4B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20:36:45Z</dcterms:created>
  <dc:creator>Duškov Ivan PhDr.</dc:creator>
  <dc:description/>
  <dc:language>en-US</dc:language>
  <cp:lastModifiedBy>Horná Vanda</cp:lastModifiedBy>
  <dcterms:modified xsi:type="dcterms:W3CDTF">2016-06-13T10:57:06Z</dcterms:modified>
  <cp:revision>199</cp:revision>
  <dc:subject/>
  <dc:title>Sociální dopady Národního plánu péče o osoby s duševním onemocněním</dc:title>
</cp:coreProperties>
</file>